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698A-F01E-4DF3-8F23-B8CC463A12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22AE-DA0E-42FE-8A5F-DDA58266CE64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DF61-D89B-486B-8A94-8615ACE728D8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204E-7A41-4622-B334-075A92C84D09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6284-5EA1-422F-8491-D6253E71C199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10D5-8F94-4873-AF19-EA399AF9E392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BA42-335F-4171-8E3E-26DFDD809A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C6DD-1DD4-4CD0-878F-9217FD692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9A47-6A36-481C-96F0-BD8E6B43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7608-6B41-4BAB-9C5D-FB0DB0CD5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373C-DC98-40AE-84C5-334AD554A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6620-D880-4FDC-BC68-F6DEA17A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85CC-FC68-4F90-8DCA-6A10DDD1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BC1F-CAEB-4437-9CD2-C5AF6498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D42A-10BE-4DA8-98FB-D7CAFD13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04B8-BB42-4FBB-AB75-F3847329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4BAF-E393-4CD1-946C-6B1355C7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A122-10D7-46ED-B742-4907A1FA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A634-2275-4864-B920-298ECCBC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86A1-1F3C-4753-97FA-374446229D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850760"/>
            <a:ext cx="100710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Footer Placeholder 17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декабрь, 2020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>
            <a:off x="10715760" y="136440"/>
            <a:ext cx="147636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679320" y="264636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58760"/>
                <a:gridCol w="830520"/>
                <a:gridCol w="83160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88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Заголовок 1"/>
          <p:cNvSpPr/>
          <p:nvPr/>
        </p:nvSpPr>
        <p:spPr>
          <a:xfrm>
            <a:off x="495360" y="2309760"/>
            <a:ext cx="787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ая выноска 4"/>
          <p:cNvSpPr/>
          <p:nvPr/>
        </p:nvSpPr>
        <p:spPr>
          <a:xfrm>
            <a:off x="9261360" y="3645000"/>
            <a:ext cx="2435400" cy="1425600"/>
          </a:xfrm>
          <a:prstGeom prst="wedgeRectCallout">
            <a:avLst>
              <a:gd name="adj1" fmla="val -99995"/>
              <a:gd name="adj2" fmla="val 222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3. таблица 1101, стр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ая выноска 2"/>
          <p:cNvSpPr/>
          <p:nvPr/>
        </p:nvSpPr>
        <p:spPr>
          <a:xfrm>
            <a:off x="5246640" y="5114880"/>
            <a:ext cx="2397240" cy="1565280"/>
          </a:xfrm>
          <a:prstGeom prst="wedgeRectCallout">
            <a:avLst>
              <a:gd name="adj1" fmla="val 50722"/>
              <a:gd name="adj2" fmla="val -9487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803160" y="1927080"/>
          <a:ext cx="10833120" cy="387540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47600"/>
                <a:gridCol w="841320"/>
                <a:gridCol w="83196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555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67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f559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</a:tbl>
          </a:graphicData>
        </a:graphic>
      </p:graphicFrame>
      <p:sp>
        <p:nvSpPr>
          <p:cNvPr id="94" name="Прямоугольная выноска 2"/>
          <p:cNvSpPr/>
          <p:nvPr/>
        </p:nvSpPr>
        <p:spPr>
          <a:xfrm>
            <a:off x="2843280" y="3613320"/>
            <a:ext cx="1841400" cy="1101600"/>
          </a:xfrm>
          <a:prstGeom prst="wedgeRectCallout">
            <a:avLst>
              <a:gd name="adj1" fmla="val 163282"/>
              <a:gd name="adj2" fmla="val 6803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ая выноска 3"/>
          <p:cNvSpPr/>
          <p:nvPr/>
        </p:nvSpPr>
        <p:spPr>
          <a:xfrm>
            <a:off x="1771560" y="5533920"/>
            <a:ext cx="2281320" cy="1262160"/>
          </a:xfrm>
          <a:prstGeom prst="wedgeRectCallout">
            <a:avLst>
              <a:gd name="adj1" fmla="val 211666"/>
              <a:gd name="adj2" fmla="val -94611"/>
            </a:avLst>
          </a:prstGeom>
          <a:solidFill>
            <a:srgbClr val="c9c9c9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ая выноска 4"/>
          <p:cNvSpPr/>
          <p:nvPr/>
        </p:nvSpPr>
        <p:spPr>
          <a:xfrm>
            <a:off x="9664560" y="3863880"/>
            <a:ext cx="2281320" cy="1262160"/>
          </a:xfrm>
          <a:prstGeom prst="wedgeRectCallout">
            <a:avLst>
              <a:gd name="adj1" fmla="val -89388"/>
              <a:gd name="adj2" fmla="val 42240"/>
            </a:avLst>
          </a:prstGeom>
          <a:solidFill>
            <a:srgbClr val="92d05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4+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7"/>
          <p:cNvSpPr/>
          <p:nvPr/>
        </p:nvSpPr>
        <p:spPr>
          <a:xfrm>
            <a:off x="2451240" y="317520"/>
            <a:ext cx="79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Заголовок 1"/>
          <p:cNvSpPr/>
          <p:nvPr/>
        </p:nvSpPr>
        <p:spPr>
          <a:xfrm>
            <a:off x="685800" y="1611360"/>
            <a:ext cx="787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3"/>
          <p:cNvSpPr/>
          <p:nvPr/>
        </p:nvSpPr>
        <p:spPr>
          <a:xfrm>
            <a:off x="1308240" y="2857680"/>
            <a:ext cx="416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 Таблица 2100 графа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ая выноска 4"/>
          <p:cNvSpPr/>
          <p:nvPr/>
        </p:nvSpPr>
        <p:spPr>
          <a:xfrm>
            <a:off x="5473800" y="2298600"/>
            <a:ext cx="6159240" cy="3988080"/>
          </a:xfrm>
          <a:prstGeom prst="wedgeRectCallout">
            <a:avLst>
              <a:gd name="adj1" fmla="val -88412"/>
              <a:gd name="adj2" fmla="val 2328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06.02.2012 N 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 социальном показании для искусственного прерывания беременно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ым показанием для искусственного прерывания беременности является беременность, наступившая в результате совершения преступления, предусмотрен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ьей 131 Уголовного кодекса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10"/>
          <p:cNvSpPr/>
          <p:nvPr/>
        </p:nvSpPr>
        <p:spPr>
          <a:xfrm>
            <a:off x="2006640" y="684360"/>
            <a:ext cx="816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11"/>
          <p:cNvSpPr/>
          <p:nvPr/>
        </p:nvSpPr>
        <p:spPr>
          <a:xfrm>
            <a:off x="1752480" y="194328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тельно заполняе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1" descr=""/>
          <p:cNvPicPr/>
          <p:nvPr/>
        </p:nvPicPr>
        <p:blipFill>
          <a:blip r:embed="rId2"/>
          <a:stretch/>
        </p:blipFill>
        <p:spPr>
          <a:xfrm>
            <a:off x="8570880" y="5454720"/>
            <a:ext cx="287172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1,04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1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.6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4"/>
          <p:cNvSpPr/>
          <p:nvPr/>
        </p:nvSpPr>
        <p:spPr>
          <a:xfrm flipH="1">
            <a:off x="673200" y="1066680"/>
            <a:ext cx="1095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 поводу внематочной беременности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7,04+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7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1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533520" y="2286000"/>
            <a:ext cx="861048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6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ВИЧ-ИНФЕКЦИИ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исло беременных женщин, всего) –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исло женщин, завершивших беременность родами в отчетном году) &gt;= 13,1000,ст1,гр11+13,2000,ст1,гр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ая выноска 3"/>
          <p:cNvSpPr/>
          <p:nvPr/>
        </p:nvSpPr>
        <p:spPr>
          <a:xfrm>
            <a:off x="9272520" y="1866960"/>
            <a:ext cx="2360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,5000,ст1,гр3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,5000,ст2,гр3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ст1,гр11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ст1,гр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6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1120" y="577800"/>
            <a:ext cx="87728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 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лняется полностью.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2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  <p:pic>
        <p:nvPicPr>
          <p:cNvPr id="53" name="Объект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62000" y="1994040"/>
            <a:ext cx="8480520" cy="3668400"/>
          </a:xfrm>
          <a:prstGeom prst="rect">
            <a:avLst/>
          </a:prstGeom>
          <a:ln w="0">
            <a:noFill/>
          </a:ln>
        </p:spPr>
      </p:pic>
      <p:sp>
        <p:nvSpPr>
          <p:cNvPr id="54" name="Заголовок 1"/>
          <p:cNvSpPr/>
          <p:nvPr/>
        </p:nvSpPr>
        <p:spPr>
          <a:xfrm>
            <a:off x="2104920" y="5722920"/>
            <a:ext cx="87724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чет включаются сведения обо всех прерываниях беременности в сроки до 22 недель, независимо от метода и места прерывания беремен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52200" y="420840"/>
            <a:ext cx="7845480" cy="14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учетная медицинская документация для формы № 13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Объект 4" descr=""/>
          <p:cNvPicPr/>
          <p:nvPr/>
        </p:nvPicPr>
        <p:blipFill>
          <a:blip r:embed="rId1"/>
          <a:stretch/>
        </p:blipFill>
        <p:spPr>
          <a:xfrm>
            <a:off x="1962000" y="1841400"/>
            <a:ext cx="7993080" cy="4005360"/>
          </a:xfrm>
          <a:prstGeom prst="rect">
            <a:avLst/>
          </a:prstGeom>
          <a:ln w="0">
            <a:noFill/>
          </a:ln>
        </p:spPr>
      </p:pic>
      <p:sp>
        <p:nvSpPr>
          <p:cNvPr id="57" name="Нижний колонтитул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6" descr=""/>
          <p:cNvPicPr/>
          <p:nvPr/>
        </p:nvPicPr>
        <p:blipFill>
          <a:blip r:embed="rId2"/>
          <a:stretch/>
        </p:blipFill>
        <p:spPr>
          <a:xfrm>
            <a:off x="10603080" y="136440"/>
            <a:ext cx="158904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0" name="Группа 13"/>
          <p:cNvGrpSpPr/>
          <p:nvPr/>
        </p:nvGrpSpPr>
        <p:grpSpPr>
          <a:xfrm>
            <a:off x="654120" y="1471680"/>
            <a:ext cx="10101240" cy="4957560"/>
            <a:chOff x="654120" y="1471680"/>
            <a:chExt cx="10101240" cy="4957560"/>
          </a:xfrm>
        </p:grpSpPr>
        <p:pic>
          <p:nvPicPr>
            <p:cNvPr id="61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1471680"/>
              <a:ext cx="10101240" cy="49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Box 5"/>
            <p:cNvSpPr/>
            <p:nvPr/>
          </p:nvSpPr>
          <p:spPr>
            <a:xfrm>
              <a:off x="834120" y="2219040"/>
              <a:ext cx="99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TextBox 7"/>
            <p:cNvSpPr/>
            <p:nvPr/>
          </p:nvSpPr>
          <p:spPr>
            <a:xfrm>
              <a:off x="1253880" y="3625560"/>
              <a:ext cx="107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TextBox 12"/>
            <p:cNvSpPr/>
            <p:nvPr/>
          </p:nvSpPr>
          <p:spPr>
            <a:xfrm>
              <a:off x="871920" y="5154840"/>
              <a:ext cx="11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TextBox 14"/>
          <p:cNvSpPr/>
          <p:nvPr/>
        </p:nvSpPr>
        <p:spPr>
          <a:xfrm>
            <a:off x="6700680" y="993600"/>
            <a:ext cx="40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22 недель берем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  <p:sp>
        <p:nvSpPr>
          <p:cNvPr id="67" name="TextBox 15"/>
          <p:cNvSpPr/>
          <p:nvPr/>
        </p:nvSpPr>
        <p:spPr>
          <a:xfrm>
            <a:off x="654120" y="132408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38080" y="2507760"/>
            <a:ext cx="10515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 показывает число женщин, умерших от прерывания беременности (O02 - O06) всего (графа 1), из них в сроки: до 12 недель (графа 2), с 12 до 22 недель (графа 3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11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1653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" descr=""/>
          <p:cNvPicPr/>
          <p:nvPr/>
        </p:nvPicPr>
        <p:blipFill>
          <a:blip r:embed="rId2"/>
          <a:stretch/>
        </p:blipFill>
        <p:spPr>
          <a:xfrm>
            <a:off x="739800" y="681120"/>
            <a:ext cx="934560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838080" y="1690560"/>
            <a:ext cx="1051560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абортов по медицинским показаниям включаются аборты, проведенные при угрозе состоянию здоровья женщины или по показаниям со стороны плода, независимо от метода опер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других видов абортов (криминальных) включаются случаи, когда установлено вмешательство с целью прерывания беременности самой беременной или другими лицами вне лечебной организ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неуточненных (внебольничных) абортов включаются случаи, когда не выявлено достаточных данных, позволяющих судить о характере аборта (спонтанном прерывании беременности или имевшем место вмешательстве с целью ее прерыван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Международной классификации болезней 10-го пересмотра и правилам кодирования "неудачная попытка аборта (O07)" включает случаи, когда процедура искусственного прерывания беременности, в том числе по медицинским показаниям, была выполнена, но оказалась безуспешной, и развитие плода продолжилос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11" descr=""/>
          <p:cNvPicPr/>
          <p:nvPr/>
        </p:nvPicPr>
        <p:blipFill>
          <a:blip r:embed="rId1"/>
          <a:stretch/>
        </p:blipFill>
        <p:spPr>
          <a:xfrm>
            <a:off x="10709280" y="136440"/>
            <a:ext cx="1482840" cy="1152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9514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4" descr=""/>
          <p:cNvPicPr/>
          <p:nvPr/>
        </p:nvPicPr>
        <p:blipFill>
          <a:blip r:embed="rId1"/>
          <a:stretch/>
        </p:blipFill>
        <p:spPr>
          <a:xfrm>
            <a:off x="727200" y="561960"/>
            <a:ext cx="9443880" cy="12636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1105 отражаются осложнения, вызванные абортом (из строки 1 графы 4 таблицы 1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2105 отражаются осложнения, вызванные абортом (из строки 1 графы 4 таблицы 2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11" descr=""/>
          <p:cNvPicPr/>
          <p:nvPr/>
        </p:nvPicPr>
        <p:blipFill>
          <a:blip r:embed="rId2"/>
          <a:stretch/>
        </p:blipFill>
        <p:spPr>
          <a:xfrm>
            <a:off x="10566360" y="136440"/>
            <a:ext cx="16257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"/>
          <p:cNvPicPr/>
          <p:nvPr/>
        </p:nvPicPr>
        <p:blipFill>
          <a:blip r:embed="rId1"/>
          <a:stretch/>
        </p:blipFill>
        <p:spPr>
          <a:xfrm>
            <a:off x="1609560" y="466560"/>
            <a:ext cx="8972640" cy="59248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1" descr=""/>
          <p:cNvPicPr/>
          <p:nvPr/>
        </p:nvPicPr>
        <p:blipFill>
          <a:blip r:embed="rId2"/>
          <a:stretch/>
        </p:blipFill>
        <p:spPr>
          <a:xfrm>
            <a:off x="10632960" y="136440"/>
            <a:ext cx="155916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685800" y="28051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82" name="Прямоугольная выноска 2"/>
          <p:cNvSpPr/>
          <p:nvPr/>
        </p:nvSpPr>
        <p:spPr>
          <a:xfrm>
            <a:off x="2627280" y="5114880"/>
            <a:ext cx="2033640" cy="1311480"/>
          </a:xfrm>
          <a:prstGeom prst="wedgeRectCallout">
            <a:avLst>
              <a:gd name="adj1" fmla="val 146439"/>
              <a:gd name="adj2" fmla="val -8643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строк 2-6 графы 4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ая выноска 3"/>
          <p:cNvSpPr/>
          <p:nvPr/>
        </p:nvSpPr>
        <p:spPr>
          <a:xfrm>
            <a:off x="9320040" y="1494000"/>
            <a:ext cx="2033640" cy="1311120"/>
          </a:xfrm>
          <a:prstGeom prst="wedgeRectCallout">
            <a:avLst>
              <a:gd name="adj1" fmla="val -151453"/>
              <a:gd name="adj2" fmla="val 173129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граф 5-9 строфы 1 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Елена Александровна Бронникова</cp:lastModifiedBy>
  <cp:lastPrinted>2018-12-10T14:36:03Z</cp:lastPrinted>
  <dcterms:modified xsi:type="dcterms:W3CDTF">2020-12-09T01:47:18Z</dcterms:modified>
  <cp:revision>126</cp:revision>
  <dc:subject/>
  <dc:title>Презентация PowerPoint</dc:title>
</cp:coreProperties>
</file>