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B2CB-6A99-4391-B2EA-C8E200B5EC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4C6E-4B1D-47FF-AD2D-FC3AE230FD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A74885-E574-46B7-BD2D-1B87E0FAB7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C284-5773-44F7-A4C9-567CEDCB35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E7C1-E6E5-4681-9B26-A49E8FF8AC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4837-2E01-46AA-B978-B120DC5565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D022-F72A-4123-B52B-8F0C5C1264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E256-91F4-4271-8B63-0045F98EC4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94D0-447A-4940-A326-C983F9A6F8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2B8-A3A1-4008-8DC5-D5DF5461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7B16-5CF1-4338-A366-A24728B8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18B-541E-4011-8794-99254702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416-7BC0-4F3A-8E9F-8FE6E56E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E23-04BF-44FA-8FC5-C713A743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4F7-89BD-4804-8BEB-0CE3F7A1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964-9CFF-47BC-A896-3B6844DE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279-2213-4CD6-B3BC-9B11E698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8DC-6DD3-4511-8C0F-951694A2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96D-7C0B-48C9-9DD2-C8F6F034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7A8-581F-4122-94BA-2D731134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F2F-10D9-4D0C-9C01-3E0DDF0A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EE90-CA00-480A-A667-40A2A122B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Елена Александровна Бронникова</cp:lastModifiedBy>
  <cp:lastPrinted>2020-12-02T13:30:30Z</cp:lastPrinted>
  <dcterms:modified xsi:type="dcterms:W3CDTF">2020-12-09T01:52:18Z</dcterms:modified>
  <cp:revision>514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