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05FA-7B71-42E6-897C-5E60BFC3F2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9317-DA07-4C72-835D-CA10F4964C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F7F8-8AC0-4BBC-8395-5A3C7D8C3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5922-B8AC-450B-80F2-EABBA34C4F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D27C-043E-4361-81E4-84992F75AE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AEC0-8B96-48EC-A378-7F144E154E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448E-9147-4F39-A84B-8AABE6DC03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BBE3-A1E9-4DCB-AF78-CE86DEB9D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2E08-6A3F-40E4-BB44-73368620CF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C778-FFB1-44D0-818B-ED6E25C4FE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6F7B-B95A-4B21-A9B6-9CAFAA349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BBCD-C784-4F0B-A998-2F11B668C9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F51E-488C-4191-A9CF-DB6DB76BA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7DA7-1631-4CBB-B9B3-6BA5E0DFA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349D-228D-4CB2-958C-74D2B6D926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99E1-D5C4-49B8-AF0D-9C5A51BE2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3E53-4E43-46BF-A6C5-8D74C631B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3E0C-CE16-4662-A108-462AEF2C93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A666-C566-472C-BBC3-86092CA56C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6C0D-305E-4819-AEF8-B8B4012C9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C01A-9C9E-4C5F-BD2B-7B78C9612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BF72-CE8E-4DDF-9E54-6EB9C37D78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31EC-BAC4-4EED-801B-AB012789D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B10F-412A-4C65-B8E3-D58A693A0D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B072-85AC-479D-9A80-84A67BF8C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2BC4-9251-4A5F-8FFA-5A383875B7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588C-72CA-4001-A6DE-D8A2C3894D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C15B-84CB-4DC5-9C42-9A50EEE56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290F-CB7E-4310-9573-722D47F48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F1E7-194A-4B6D-B703-573D2FF4A4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6DF3-25F2-41A3-BB67-060A4BAF9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B32B-E268-4800-8542-6A856B7DCA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44E3-D0AF-4C41-A9E2-6CDD9EDF55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F856-7CD6-4165-BFBD-CBEF91D34B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0613-3ED1-417D-9742-BC6FE0C6A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0870-F452-445E-814D-E00715952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89E6-2016-4DC0-9924-1AF41C263D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2155-0B10-43F7-AE2D-46AD098C53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AEA2-A19E-4C60-B047-A3013C069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8025-50F8-46F1-8E13-104C5C9BA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5D2B-D37F-433D-B34A-F17209D4E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30E2-6521-41F6-B5CE-B147691412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A3B2-1EF9-406B-985D-99661170C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42C1-B3B0-433E-B307-0129F133AC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8139-3022-48FD-8738-A1D429FA73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4B5-7E22-4BE8-93FA-0DC2AA67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37C-4AFB-4E72-9416-A53295BC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3B1-C719-4A40-80C6-3DB8286E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A60-4D22-4332-9FA5-19543A86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ED4-77E1-4A5D-BD5E-72EC8DAB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49D-D247-4A6F-85BF-2E22A17E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E2A-7B6C-4820-B15D-154F4747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28E-80F2-42B3-B6C8-92A9B437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892-B97B-47C0-B339-187F8124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F04-37D3-4A5F-B183-42406948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FAF-2586-4BE9-A303-5A10C004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69C-9DC8-464C-B109-C97DA5E9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7E44-1827-4C43-B89F-942D5EF46C9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Елена Александровна Бронникова</cp:lastModifiedBy>
  <cp:lastPrinted>2020-12-02T13:53:05Z</cp:lastPrinted>
  <dcterms:modified xsi:type="dcterms:W3CDTF">2020-12-09T01:39:18Z</dcterms:modified>
  <cp:revision>379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