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7BAC-B8E9-452A-8161-EECD3F4EB7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EC00-D92A-4B30-9D56-B4D02E0B1424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9F8B-2212-4C7B-9D26-BCD219BC231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055C-3431-43FC-90B7-61D31FC878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4068-1E9E-42A8-9EB2-03781CED113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D206-791B-47E9-AA85-0FE7310824C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5D9B-DDCC-44C7-8546-BECDC07A0C1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251F-D0E2-4FCD-BD90-F5A095E772B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4D8-21F0-4527-8CE2-C565C19D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304-ABF3-4170-AD54-032300B4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A6C-4FAC-458F-A0E5-B7A094A4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290-7484-4E1C-BB52-DBA849B7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674-00D6-4E98-91EB-283ED81C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167-E0A5-4389-9F74-D57A1250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0C8-BBFD-46D9-8626-ED91A40F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C7E-DF7F-4062-926C-B89B4E2A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90C-31D5-4AFB-8953-DE9C662F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5FB-20FF-4A46-9175-340E0989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D73-7146-4B53-B783-2797A88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49E-50FD-4DDA-8D2B-BFFF23AD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F148-DB59-4FE9-82D1-4E3DF62D4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89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1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2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2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3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1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2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7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3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9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5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1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7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0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1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2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Алена Александровна Кандеева</cp:lastModifiedBy>
  <cp:lastPrinted>2018-12-10T14:36:03Z</cp:lastPrinted>
  <dcterms:modified xsi:type="dcterms:W3CDTF">2021-12-21T03:13:57Z</dcterms:modified>
  <cp:revision>176</cp:revision>
  <dc:subject/>
  <dc:title>Презентация PowerPoint</dc:title>
</cp:coreProperties>
</file>