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7A1B-2C24-4A39-B8D7-EC137A11CC18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8D89-0ADD-45AA-8D87-A5BBA94A24EA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2705-FEC5-4EC5-9AC9-26B6F9D55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7F86-0EE0-40A6-92C5-027DCD26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416F-52EC-45EB-9267-8B11FA9F6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96FD-D844-444F-BB6C-2AEE3F8AD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0520-DDB5-4FAC-B9B3-48289281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0B71-CDC4-42AE-963D-A89C0EEA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246E-135B-4E1E-9133-2797316D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635E-25CF-4C68-9DED-1F338CD6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C0E0-01DE-48CE-82D3-9F2B23BA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1181-65FA-409E-87DD-BE5C3A7E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460A-C768-4E8E-B38B-B291418B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A652-8D63-4705-9F20-3B4D9BA8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3A57-C9CF-45E1-8335-01FB86E2650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kndchita.ru/" TargetMode="External"/><Relationship Id="rId2" Type="http://schemas.openxmlformats.org/officeDocument/2006/relationships/hyperlink" Target="http://www.kndchita.ru/" TargetMode="External"/><Relationship Id="rId3" Type="http://schemas.openxmlformats.org/officeDocument/2006/relationships/hyperlink" Target="http://www.kndchita.ru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821120" y="5122800"/>
            <a:ext cx="43228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А. Бу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меститель главного врач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ОМР ГАУЗ «Забайкальский краевой наркологический диспансе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264960" y="1720800"/>
            <a:ext cx="8520120" cy="41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12800" y="1915560"/>
            <a:ext cx="78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5" descr="i?id=276645700-65-72&amp;n=21"/>
          <p:cNvPicPr/>
          <p:nvPr/>
        </p:nvPicPr>
        <p:blipFill>
          <a:blip r:embed="rId1"/>
          <a:stretch/>
        </p:blipFill>
        <p:spPr>
          <a:xfrm>
            <a:off x="441360" y="264960"/>
            <a:ext cx="1119240" cy="10335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"/>
          <p:cNvSpPr/>
          <p:nvPr/>
        </p:nvSpPr>
        <p:spPr>
          <a:xfrm>
            <a:off x="264960" y="1219320"/>
            <a:ext cx="8520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Отче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о формам федерального статистического наблюден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№ </a:t>
            </a: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37 и № 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5920" y="23328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Бланки форм № 11 и № 37 за отчетный 2019 год остаются без изме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42560" y="160020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ФСН утверждены приказом Росст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№ 410 от 16.10.2013 г. (формы № 11 и № 37). Минздрав России поставил задачу разработки новой формы, которая в большей степени соответствует российской и мировой наркологической ситу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новой формы был разослан во все субъекты России для ознакомления и обсу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изучаются и анализируются все предложения и дополнения, полученные от субъ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81B0-6935-411F-953F-AE365642E8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79440" y="1609560"/>
            <a:ext cx="8229600" cy="22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жтабличные и межформенные проверки в 2019 году остаются без измен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47440"/>
            <a:ext cx="8350200" cy="41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ат. формы № 11 и № 37 в 2 экз., подписанные руководителем, с печатью, проштампованные в МЗ в отделе статист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. № 30 (разделы «штаты, кадры», «посещения», «мед. освидетельствование»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ф. № 1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лан работы наркологической службы района на 2020 год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конъюнктурный отчет за 2019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0E0F-4220-49CD-9FBB-B08A65D99A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ижний колонтитул 6"/>
          <p:cNvSpPr/>
          <p:nvPr/>
        </p:nvSpPr>
        <p:spPr>
          <a:xfrm>
            <a:off x="317196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57200" y="361800"/>
            <a:ext cx="8229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457200" y="0"/>
            <a:ext cx="822960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 сдаче годового отчета име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0" y="0"/>
            <a:ext cx="91440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f0000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bf0000"/>
                </a:solidFill>
                <a:latin typeface="Arial"/>
              </a:rPr>
              <a:t>Контакты:</a:t>
            </a:r>
            <a:r>
              <a:rPr b="1" lang="ru-RU" sz="4800" spc="-1" strike="noStrike">
                <a:solidFill>
                  <a:srgbClr val="b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ail: OMR-KND@yande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л. 41-64-4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0" y="2619360"/>
            <a:ext cx="9144000" cy="39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4800" spc="-1" strike="noStrike">
                <a:solidFill>
                  <a:srgbClr val="bf0000"/>
                </a:solidFill>
                <a:latin typeface="Arial"/>
              </a:rPr>
              <a:t>Официальный сайт</a:t>
            </a:r>
            <a:br>
              <a:rPr sz="4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ГАУЗ «Забайкальский краевой наркологический диспансер»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knd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hita</a:t>
            </a:r>
            <a:r>
              <a:rPr b="0" lang="fr-FR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528480" y="961920"/>
            <a:ext cx="799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bf0000"/>
                </a:solidFill>
                <a:latin typeface="Times New Roman"/>
              </a:rPr>
              <a:t>Спасибо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bf0000"/>
                </a:solidFill>
                <a:latin typeface="Times New Roman"/>
              </a:rPr>
              <a:t>за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bolnica"/>
          <p:cNvPicPr/>
          <p:nvPr/>
        </p:nvPicPr>
        <p:blipFill>
          <a:blip r:embed="rId1"/>
          <a:stretch/>
        </p:blipFill>
        <p:spPr>
          <a:xfrm>
            <a:off x="2759040" y="3930480"/>
            <a:ext cx="357516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/>
  <dc:description>PresentationLoad.com</dc:description>
  <dc:language>en-US</dc:language>
  <cp:lastModifiedBy>Елена</cp:lastModifiedBy>
  <dcterms:modified xsi:type="dcterms:W3CDTF">2019-12-18T07:34:14Z</dcterms:modified>
  <cp:revision>210</cp:revision>
  <dc:subject/>
  <dc:title>PowerPoint Template</dc:title>
</cp:coreProperties>
</file>