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A8CE-121D-442A-8A37-1127E15F21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9BDC-DE66-496D-8894-75C23E8694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FAF8-1F70-4CBA-AA42-69CA42D793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2B12-33FB-4327-86EE-986FAD9E2E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44E4-AAEB-4A6B-B1EA-347DFE8C88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A2FF-76EF-469C-8602-E29236D6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EBAA-FCE5-428E-A354-895B8B06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6C0B-1764-4B13-8814-F70A8ECA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2272-615C-4BFD-A274-1053DA02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1547-3C75-4B94-B88E-C85829F0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EF9A-4F59-4514-B115-A791A3BE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335F-C091-43FB-91FE-68FD70E9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C8BE-D9AE-45A0-8CDE-A7BB88EC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4B21-5CBA-49CE-A41F-B5D632C3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290F-1B81-4E06-904F-10D0A32D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54A9-2658-4361-AB2A-5C357E34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62D9-8C27-44E6-ADBC-B2132E9C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17B0-0A4A-47E7-8791-B1CD316C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CF12-F111-484C-B3EB-15F90F62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EE36-05D6-4C3B-A65F-4943F3EB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4CBB-CD96-4932-B982-9BB7BAE7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115F-C468-49F4-BA41-C18C9C1B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2722-1DDD-4CC6-B217-23C12EC5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21C0-6B07-49F0-8298-80CB1C37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8702-2024-4B2C-8884-E7CCD1DA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8DFC-E6DB-40E0-AF46-2130CFF6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1450-A358-4154-AFE9-7AE0F01A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F606-0EA2-4561-AAD9-2960BE88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B74E-A41E-4868-BAC2-1D3A7060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7"/>
          <p:cNvSpPr/>
          <p:nvPr/>
        </p:nvSpPr>
        <p:spPr>
          <a:xfrm rot="16200000">
            <a:off x="-2473200" y="2672640"/>
            <a:ext cx="6629400" cy="1587600"/>
          </a:xfrm>
          <a:custGeom>
            <a:avLst/>
            <a:gdLst>
              <a:gd name="textAreaLeft" fmla="*/ 0 w 6629400"/>
              <a:gd name="textAreaRight" fmla="*/ 6629760 w 662940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5693" h="1000">
                <a:moveTo>
                  <a:pt x="0" y="584"/>
                </a:moveTo>
                <a:cubicBezTo>
                  <a:pt x="249" y="545"/>
                  <a:pt x="844" y="377"/>
                  <a:pt x="1504" y="352"/>
                </a:cubicBezTo>
                <a:cubicBezTo>
                  <a:pt x="2168" y="300"/>
                  <a:pt x="3246" y="322"/>
                  <a:pt x="3960" y="432"/>
                </a:cubicBezTo>
                <a:cubicBezTo>
                  <a:pt x="4641" y="548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2ccfa"/>
              </a:gs>
              <a:gs pos="100000">
                <a:srgbClr val="e5f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8"/>
          <p:cNvSpPr/>
          <p:nvPr/>
        </p:nvSpPr>
        <p:spPr>
          <a:xfrm>
            <a:off x="63360" y="63360"/>
            <a:ext cx="9037800" cy="1605240"/>
          </a:xfrm>
          <a:custGeom>
            <a:avLst/>
            <a:gdLst>
              <a:gd name="textAreaLeft" fmla="*/ 0 w 9037800"/>
              <a:gd name="textAreaRight" fmla="*/ 9038160 w 9037800"/>
              <a:gd name="textAreaTop" fmla="*/ 0 h 1605240"/>
              <a:gd name="textAreaBottom" fmla="*/ 1605600 h 1605240"/>
            </a:gdLst>
            <a:ahLst/>
            <a:rect l="textAreaLeft" t="textAreaTop" r="textAreaRight" b="textAreaBottom"/>
            <a:pathLst>
              <a:path w="5693" h="1000">
                <a:moveTo>
                  <a:pt x="0" y="584"/>
                </a:moveTo>
                <a:cubicBezTo>
                  <a:pt x="253" y="552"/>
                  <a:pt x="820" y="405"/>
                  <a:pt x="1520" y="392"/>
                </a:cubicBezTo>
                <a:cubicBezTo>
                  <a:pt x="2184" y="340"/>
                  <a:pt x="3486" y="394"/>
                  <a:pt x="4200" y="504"/>
                </a:cubicBezTo>
                <a:cubicBezTo>
                  <a:pt x="4881" y="620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e7f2fe"/>
              </a:gs>
              <a:gs pos="100000">
                <a:srgbClr val="a2cc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9"/>
          <p:cNvSpPr/>
          <p:nvPr/>
        </p:nvSpPr>
        <p:spPr>
          <a:xfrm>
            <a:off x="324000" y="6500880"/>
            <a:ext cx="856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3240"/>
            <a:ext cx="9144000" cy="6854760"/>
            <a:chOff x="0" y="3240"/>
            <a:chExt cx="9144000" cy="6854760"/>
          </a:xfrm>
        </p:grpSpPr>
        <p:grpSp>
          <p:nvGrpSpPr>
            <p:cNvPr id="4" name="Group 31"/>
            <p:cNvGrpSpPr/>
            <p:nvPr/>
          </p:nvGrpSpPr>
          <p:grpSpPr>
            <a:xfrm>
              <a:off x="0" y="3240"/>
              <a:ext cx="9144000" cy="6854760"/>
              <a:chOff x="0" y="3240"/>
              <a:chExt cx="9144000" cy="6854760"/>
            </a:xfrm>
          </p:grpSpPr>
          <p:sp>
            <p:nvSpPr>
              <p:cNvPr id="5" name="Freeform 32"/>
              <p:cNvSpPr/>
              <p:nvPr/>
            </p:nvSpPr>
            <p:spPr>
              <a:xfrm>
                <a:off x="0" y="6386400"/>
                <a:ext cx="436680" cy="471600"/>
              </a:xfrm>
              <a:custGeom>
                <a:avLst/>
                <a:gdLst>
                  <a:gd name="textAreaLeft" fmla="*/ 0 w 436680"/>
                  <a:gd name="textAreaRight" fmla="*/ 436680 w 436680"/>
                  <a:gd name="textAreaTop" fmla="*/ 0 h 471600"/>
                  <a:gd name="textAreaBottom" fmla="*/ 471960 h 471600"/>
                </a:gdLst>
                <a:ahLst/>
                <a:rect l="textAreaLeft" t="textAreaTop" r="textAreaRight" b="textAreaBottom"/>
                <a:pathLst>
                  <a:path w="275" h="297">
                    <a:moveTo>
                      <a:pt x="275" y="291"/>
                    </a:moveTo>
                    <a:lnTo>
                      <a:pt x="112" y="211"/>
                    </a:lnTo>
                    <a:lnTo>
                      <a:pt x="28" y="127"/>
                    </a:lnTo>
                    <a:lnTo>
                      <a:pt x="0" y="0"/>
                    </a:lnTo>
                    <a:lnTo>
                      <a:pt x="1" y="29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33"/>
              <p:cNvSpPr/>
              <p:nvPr/>
            </p:nvSpPr>
            <p:spPr>
              <a:xfrm>
                <a:off x="31680" y="41400"/>
                <a:ext cx="9072720" cy="6770520"/>
              </a:xfrm>
              <a:prstGeom prst="roundRect">
                <a:avLst>
                  <a:gd name="adj" fmla="val 6227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34"/>
              <p:cNvSpPr/>
              <p:nvPr/>
            </p:nvSpPr>
            <p:spPr>
              <a:xfrm>
                <a:off x="0" y="3240"/>
                <a:ext cx="460440" cy="5000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290" h="315">
                    <a:moveTo>
                      <a:pt x="1" y="315"/>
                    </a:moveTo>
                    <a:cubicBezTo>
                      <a:pt x="21" y="279"/>
                      <a:pt x="76" y="150"/>
                      <a:pt x="122" y="97"/>
                    </a:cubicBezTo>
                    <a:cubicBezTo>
                      <a:pt x="163" y="44"/>
                      <a:pt x="290" y="23"/>
                      <a:pt x="279" y="0"/>
                    </a:cubicBez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35"/>
              <p:cNvSpPr/>
              <p:nvPr/>
            </p:nvSpPr>
            <p:spPr>
              <a:xfrm>
                <a:off x="8742240" y="6399360"/>
                <a:ext cx="401760" cy="45540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53" h="287">
                    <a:moveTo>
                      <a:pt x="250" y="0"/>
                    </a:moveTo>
                    <a:lnTo>
                      <a:pt x="179" y="143"/>
                    </a:lnTo>
                    <a:lnTo>
                      <a:pt x="85" y="236"/>
                    </a:lnTo>
                    <a:lnTo>
                      <a:pt x="0" y="287"/>
                    </a:lnTo>
                    <a:lnTo>
                      <a:pt x="253" y="28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Freeform 36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270000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3BE9-152B-4DCC-89B3-BB5C6B3EA6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38" descr="doct___19"/>
          <p:cNvPicPr/>
          <p:nvPr/>
        </p:nvPicPr>
        <p:blipFill>
          <a:blip r:embed="rId2"/>
          <a:stretch/>
        </p:blipFill>
        <p:spPr>
          <a:xfrm>
            <a:off x="324000" y="476280"/>
            <a:ext cx="755640" cy="4906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39" descr="diagr_08"/>
          <p:cNvPicPr/>
          <p:nvPr/>
        </p:nvPicPr>
        <p:blipFill>
          <a:blip r:embed="rId3"/>
          <a:stretch/>
        </p:blipFill>
        <p:spPr>
          <a:xfrm>
            <a:off x="0" y="0"/>
            <a:ext cx="601560" cy="73836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37" descr="diagr_11"/>
          <p:cNvPicPr/>
          <p:nvPr/>
        </p:nvPicPr>
        <p:blipFill>
          <a:blip r:embed="rId4"/>
          <a:stretch/>
        </p:blipFill>
        <p:spPr>
          <a:xfrm>
            <a:off x="108000" y="549360"/>
            <a:ext cx="431640" cy="30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DB56-1421-4276-B089-C549277851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1989000"/>
            <a:ext cx="828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Дополнительные разъяснения к инструкции по заполнению отчетной формы №61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«Сведения о болезни, вызванной вирусом иммунодефицита человека»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за 2019 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4360" y="5300640"/>
            <a:ext cx="7632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атьяна Анатольевна Максим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лавный внештатный специалист по проблемам диагностики и лечения ВИЧ – инфекции МЗ З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строку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показывается число пациентов, с ВИЧ-инфекцией с проявлениями туберкулё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строке 1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ывается число пациенто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 ВИЧ-инфекцией с проявлениями Т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ды В20.0, В20.7, В22.7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и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умерших в отчетн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 всех причин, то есть использу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ды В20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FC35-51B6-49D4-A9B3-2E8CD0EA4A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5000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межформенный контроль с формой 13 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ой 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2864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у 5000 включают женщин, проживающих на прикрепленной территории и находящихся под диспансерным наблюдением в данной медицинской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 показывается общее число беременных женщин с болезнью, вызванной ВИЧ,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ершивших беременность в отчетном год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строке 2 показываются сведения о тех из них, кто завершил беременность родами в отчетном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0EDA-E2E3-4D2A-9AE9-5986666A1C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6000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фе 3 пок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е число пациенто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болезнью, вызванной ВИЧ, из числа состоявших под наблюдением в отчетном году, зарегистрированных для леч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фе 4 - те из них, кто был зарегистрирован для леч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впервые в жизни установленным диагноз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зни, вызванной ВИЧ.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рафа 5 не заполня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4076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ываются только те пациенты с ВИЧ-инфекцией, которые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ыли пролеч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 текущем году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– 2019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2D59-0ACC-48C2-952A-5A80EBCABC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itaids@kkib.sibhos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6C7A-8C06-4BBB-AAAC-78465CDC70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трочник 3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ает в себя только тех лиц, которые были обследованы на антитела к ВИЧ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екущем год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дицинских организациях, относящихся к Минздраву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рока 1, пункт 2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исло лиц, у которых при исследовании крови на антитела к ВИЧ в отчетном году, получены положи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словия контроля: строка 1, пункт 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gt;=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пункт 3 (В20-24)+пункт 4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4322-2E04-4CE8-90DB-82A1BBEC9D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5280" y="476280"/>
            <a:ext cx="86090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0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обследованных на антитела к ВИЧ в отчетном году, вс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нтроль с ф.30, т.530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число лиц, у которых при исследовании крови на антитела к ВИЧ получены положительные результ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         контроль с ф.30, т.530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2) выявлено: пациентов больных ВИЧ-инфекцией (код МКБ 10 В20-В24) 3 _</a:t>
            </a:r>
            <a:r>
              <a:rPr b="0" lang="ru-RU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контроль с ф.61, т.1000, стр.1+2, гр. 05_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 с бессимптомным инфекционным статусом (код МКБ-10 Z21)  4</a:t>
            </a:r>
            <a:r>
              <a:rPr b="0" lang="ru-RU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__контроль с ф.61, т.1000, стр.59+60, гр. 05_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0" y="27000"/>
            <a:ext cx="160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981000"/>
            <a:ext cx="8300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и 1+2, гр. 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уются из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строчника 3100, пункт2-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ыявлено в отчетном году пациентов с ВИЧ-инфекцией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ды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»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и 1+2, графы 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осятся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других ведомст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5+46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м числе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учр. ФС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 47+4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о 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таб.1000, стр.1+2, гр.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сведений переносится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1-4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льские жит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3-4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ца БОМ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р.49-5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смертные случа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51-5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остранные гражда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2627280" y="651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9DA0-A48A-4A25-8AE7-9F9E4EAB72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1000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р.57- 60, гр.5-1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уются и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.57-5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нтактные лиц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20.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включают в себя сведения о пациентах, зарегистрированных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М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. 59-6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подстрочника 3100, пункт  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полнительно 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1104-2434-46E3-BFFE-7C1BADC72A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тр. 1-8, графы 5-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формируютс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з подстрочника 3100,  пункт 1-3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кроме посмертных случаев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тр. 10, графы 5-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формирую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з подстрочник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100, пункт 4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тр. 9, графы 5-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формирую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з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аб.1000, стр.57-58, гр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9B34-750F-428F-9281-E0A64A8C82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линические стад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пациентов с ВИЧ-инфекцией показываются в строках 1-8 и только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графах 16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C1A0-3868-4FDA-9C0A-E6D73096F4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аблице 3000 показываются только те пациенты с ВИЧ-инфекцией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торые были обследов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 отчетном году – 201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BEF6-F167-44C6-AC55-B2B186DAFD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92120" y="1555920"/>
          <a:ext cx="8228160" cy="4735440"/>
        </p:xfrm>
        <a:graphic>
          <a:graphicData uri="http://schemas.openxmlformats.org/drawingml/2006/table">
            <a:tbl>
              <a:tblPr/>
              <a:tblGrid>
                <a:gridCol w="3384720"/>
                <a:gridCol w="384120"/>
                <a:gridCol w="768240"/>
                <a:gridCol w="923760"/>
                <a:gridCol w="922680"/>
                <a:gridCol w="922320"/>
                <a:gridCol w="922320"/>
              </a:tblGrid>
              <a:tr h="386640">
                <a:tc row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8320" rIns="58320" tIns="0" bIns="0" anchor="ctr">
                      <a:noAutofit/>
                    </a:bodyPr>
                    <a:p>
                      <a:pPr marL="20520"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с впервые в жизни установленным диагно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диспансерным наблюдением на конец отчетного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возраст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44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возраст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44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6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ы, больные ВИЧ-инфекцией с проявлениями туберкулеза, 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.0, В20.7, В22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с проявлениями туберкуле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явлениями туберкулеза и других инфекц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явлениями туберкулеза и других болезней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2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ациентов (из стр.1): с бактериовыделением, определяемым любыми метод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5): методом простой микроскопии мокро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6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пациентов (из стр.5):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множественной лекарственной устойчивостью микобактерий туберкуле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58320" rIns="58320" tIns="0" bIns="0" anchor="ctr">
                      <a:noAutofit/>
                    </a:bodyPr>
                    <a:p>
                      <a:pPr marL="290520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широкой лекарственной устойчивостью микобактерий туберкуле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пациентов (из стр.1) обследовано на иммунный стату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имели уровень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:    более 3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-3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ы, больные ВИЧ-инфекцией с проявлениями туберкулеза, которым установлен диагноз вирусного гепатита (из стр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гепатит 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6, В18.0, В18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патит 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7.1, В18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ациентов, всего (из стр.1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ациентов (из стр.1) – мужчи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ациентов (из стр.1) – городских жител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565200" y="827640"/>
            <a:ext cx="81565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ctr">
            <a:spAutoFit/>
          </a:bodyPr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4. Диспансерное наблюдение за пациентами, больными ВИЧ-инфекцией с проявлениями туберкулез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4000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Код по ОКЕИ: человек – 79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5701320" y="2274840"/>
            <a:ext cx="347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нтроль с ф. 33, т. 2100,стр.13, гр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лево 8"/>
          <p:cNvSpPr/>
          <p:nvPr/>
        </p:nvSpPr>
        <p:spPr>
          <a:xfrm>
            <a:off x="5429160" y="2325600"/>
            <a:ext cx="276480" cy="25884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5062680" y="2584440"/>
            <a:ext cx="882360" cy="628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нтроль с ф. 61,    т. 2000, стр. 21, 22, 41, гр.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6899400" y="2584440"/>
            <a:ext cx="857160" cy="628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нтроль с ф. 61, т. 2000,стр.21,22,41, гр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"/>
          <p:cNvSpPr/>
          <p:nvPr/>
        </p:nvSpPr>
        <p:spPr>
          <a:xfrm>
            <a:off x="284040" y="128520"/>
            <a:ext cx="851400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таблицу 400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ют только тех пациентов, у которых туберкулез диагностирован как проявление болезни, вызванной ВИЧ, и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не включают пациент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которых туберкулез был выявлен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о установления диагноз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и, вызванной ВИ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1:03:22Z</dcterms:created>
  <dc:creator>Волошина ЛИ; Центр СПИД Чита</dc:creator>
  <dc:description/>
  <dc:language>en-US</dc:language>
  <cp:lastModifiedBy>Миргород</cp:lastModifiedBy>
  <dcterms:modified xsi:type="dcterms:W3CDTF">2019-12-19T04:25:39Z</dcterms:modified>
  <cp:revision>210</cp:revision>
  <dc:subject/>
  <dc:title>МОДЕРНИЗАЦИЯ СИСТЕМЫ ОКАЗАНИЯ ПРОТИВОТУБЕРКУЛЕЗНОЙ ПОМОЩИ БОЛЬНЫМ ТУБЕРКУЛЕЗОМ ЛЕГКИХ В НОВЫХ ЭПИДЕМИОЛОГИЧЕСКИХ УСЛОВИЯХ</dc:title>
</cp:coreProperties>
</file>