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A7D-74DD-4C7B-9533-1F79F89E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7E1-F3AA-4F4F-A7FD-AE52D0E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9C6-5404-4F91-9A28-13CC4F07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3DD-A434-4D04-9A0E-1E6763BA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419-AB87-4AF1-8D42-CF678A18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3ED-B95C-48A8-88C0-E8AABE21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CCB-891A-4E44-A0A0-43771F43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2C1-3FAC-4F4E-AA0A-1C13680D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2D3-D857-47B8-BD59-1F3916A4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788-7443-4B17-89F4-F2094C0E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9B6-7BDC-4684-B767-C84D118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C14-A6BD-4211-8EA3-0E7689A8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5DE0-ED6E-4D21-ADA1-CCAC58F77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469080"/>
            <a:ext cx="79218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единица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431496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ь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7497"/>
          <p:cNvSpPr/>
          <p:nvPr/>
        </p:nvSpPr>
        <p:spPr>
          <a:xfrm>
            <a:off x="-734760" y="-1795680"/>
            <a:ext cx="106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100)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Коды по ОКЕИ: человек – 792;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371"/>
          <p:cNvSpPr/>
          <p:nvPr/>
        </p:nvSpPr>
        <p:spPr>
          <a:xfrm>
            <a:off x="516240" y="904320"/>
            <a:ext cx="8193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ы по ОКЕИ: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39640" y="474480"/>
            <a:ext cx="842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ы по ОКЕИ: человек – 792; единица – 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71400" y="690840"/>
            <a:ext cx="831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Код по ОКЕИ: человек – 7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484280"/>
          <a:ext cx="8280360" cy="515772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: человек – 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согласно отправленной формы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вместе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 протоколам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тологоанатомических вскрытий в районе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ончарова Марина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-статистик Хамина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dcterms:modified xsi:type="dcterms:W3CDTF">2019-12-19T02:09:59Z</dcterms:modified>
  <cp:revision>47</cp:revision>
  <dc:subject/>
  <dc:title>Слайд 1</dc:title>
</cp:coreProperties>
</file>