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5E29-A8D9-4A07-93DD-9C936826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FD6-0526-4F8B-97E5-68A72383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FCF76-B30A-48E0-B7FC-5DE47C96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AD50F-E3F8-40B5-B889-92F7EC6C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7F5B3-D756-4A1E-A7F4-BC73F412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ACF54-B61B-4E5F-B6B7-D0418D05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7CA69-B3A9-44F7-A249-E6EF1FB0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59445-6D59-4ED1-9FF1-B8227E5E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5183F-5F59-4D5D-9B99-0139D5C2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99C39-66B6-4997-9C48-3B995E81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A5C3C-49FD-4668-832C-EC7993EF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4AF38-912B-45A8-B749-5B5250B9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FBD-D8E6-4665-8C83-B07B6890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90061-0CF7-4561-9265-0DFA9557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67BF0-EB65-4CA5-9642-F26CBD82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5FB66-0E9C-4DC0-A167-02D0210D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E50BE-8DAE-4603-898C-DC8B5381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39DDE-E152-42E7-AA39-1495FE53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A619D-26BE-4187-B6F1-317E54F8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B7538-1BFF-41E4-987A-DE1A25FD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F53DB-427A-4135-B2E6-802CF769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166C7-9B97-4394-AFA3-DBE61920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8FC04-D6E1-44AD-976E-2341C724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CB0-F827-46B9-8540-3FF3257D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42C63-2E65-4835-9B5D-A86C8E5B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DFD7D-04BF-4214-A724-040F3F32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F6861-0574-4132-A9E1-17074635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BA82C-FF00-4633-89DE-60E027CF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61D50-DE68-4933-AC62-CE9F0F6D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606E5-22B2-490B-820C-78D131FE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95E3E-747C-4971-9E0D-0DC1B555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B33E2-2202-4853-B24A-5E6B6810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D8763-9B37-4763-9899-8B9FB372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606CD-3CB6-4ABB-9F22-36466EF3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4A39-617E-46FA-B424-BB25CA5A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85914-172E-4FED-892F-13EF4E57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F2B10-BCCB-4A26-8789-C8759A3B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E8386-23B3-4691-BAB0-50FAA9F0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55D2C-C008-4787-882C-D94CDBE4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F2979-3130-475B-B293-3A37432C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D0FF0-770C-41BF-BB7D-06706C89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24F58-00EC-471D-8757-4B4FF66B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5BD82-83E2-47D1-84B3-659B69AB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B9074-307A-4DC7-82C8-CCAB2E65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D9287-1056-49C4-9654-7BD12B05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B7CE-464F-49FC-A6DB-808DD57F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DE9FD-56A9-4E4D-A7D3-CCFBAF7E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439E1-195E-4E4A-BF11-3249A0E4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8D552-28CC-4D48-94BA-1B14F5C8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EDB49-8EE6-48CA-95EA-379D8329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30EB0-B136-44CA-88F7-9245A0FF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80C77-734A-4667-98BB-18240CAC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91B0C4-59D4-4581-8754-51041074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C5736A-7266-42C3-8246-52442802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0F0FFD-895F-40F5-8411-0B88CCCE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49017-A36A-468E-A42B-90F711B2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227D-D177-4449-AE73-C0975C7A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663FB-9A26-4372-A0A4-9E3E506B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B55674-A2ED-4397-BAFF-60EDACF0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0F8FD7-EF29-4738-9F63-A4DDB320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0F3CD-1A84-4D75-880B-4A035C2B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8B79E-6584-4894-B687-7925B7F2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6F57E-01B9-4065-B9D9-E072CE31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5CC11-6D6C-4F13-A1F5-451EFCE8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064B2D-0A14-4C36-8546-E03B4FD2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3707E9-3C84-467D-AED0-F24C7383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346A5F-DB38-4D1B-8869-BD5FC2DF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867A-07CA-41F9-B897-40D37A93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BE0EB-C5DB-4F0E-A920-2679281E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9591FC-B13C-44C8-9FE8-B6F6905B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33BFAE-4988-47A2-896E-CBB1FAD0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BCAA8F-28A6-4BD2-895A-20D63C8F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B2065-6C38-4375-BE71-46D42C29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68DE1-4B04-4898-977A-E68558C8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D8CBCA-D11E-4F2B-A64C-75B133A0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40FC5-8794-4FE1-AEA4-461DD2F2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0DA1B6-1D59-43DB-8743-EE371DA2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5964E3-B65D-4002-80CB-CB80766A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B11D-7925-4FA5-AEE4-87EF896D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D50352-C2E3-41C6-9637-669CC544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FF1CAC-CD2C-46BA-8FBF-46882043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40169A-E1A6-48D6-BF47-59E15789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16FF5F-A9D0-4AEF-8935-2CF7397C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22A5FD-A2FA-4D20-A404-C65EC775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26CA2C-007B-4BC3-9B7C-C8FEACA5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6BB7D-5077-4DFD-92A5-5DB67DF9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0C4D63-791A-4091-AEF7-B1EF2C2E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784DD7-02F8-4B54-91D7-08B96989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9E1F95-695B-46F0-A0F8-C35C64FA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4FAD-DEA7-48DC-9B66-4140C957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2A7CFA-4EE8-46DD-9108-E7CE5A0A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D5795A-9F4E-432C-9ADD-C2FCA753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198003-EFAC-49DF-864E-37103323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D266F3-3C94-4518-B0B1-63A3C3B1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44B1A9-B65D-49C0-BB16-2E69CEEB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4C4A12-67E1-4CC1-85C8-5D3EBADA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88282B-B1AD-4D4C-940E-B3E27911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53F8E4-DDBE-4306-830E-0EB4AD0C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5D6618-8220-407F-A7D1-1DF243D9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901AB-CE25-4B1D-B7A6-21E9E20B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944E-31A2-490F-AAC5-8B9C1E47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56D2C6-B7F4-475F-A3F9-E5BEED90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60197F-AEE3-45FB-8373-3580495A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DCEA98-2E87-43EC-872F-BFBBE818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617A-79F0-479F-8771-6350A40D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0149-9C2D-48E5-9D9B-4430A49C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4A36-688E-4118-AD7E-C9F2EC5F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DE17-1D36-4652-9EB9-A722A67D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11D0-6286-4065-BAC9-06D44B4B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C924-B7F3-4474-8DA6-1CA0D51C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C1836-E06F-4DA0-B617-E0689749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E962C-AAAA-4622-9938-D3457D2B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8F1B1-6447-482F-B0E2-99024277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3DB2E-4481-412F-A61F-E5F6BE30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AB12F-31EC-4D76-870D-B40E7DD1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AEAD-261C-4219-9F4C-F40CC22D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9D497-05B1-4AE0-8613-E390526F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E4E43-29BE-4052-B280-31D169B6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037B3-961F-410B-A9DA-F75009FE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4EB1B-7447-4D5B-9A77-222F7354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F23AF-7E82-4DBF-A554-4AD29FBB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27989-6E82-49F0-B6A7-4823A12B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B2268-D989-41B8-9204-7A5BE740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E74A5-1766-41CF-A8AC-895FF5FC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0E2B5-84FF-4346-83EE-3E7F2474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A434D-8477-44ED-9917-8DA62C9D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611-DF29-49C0-AE0A-443B381A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AE213-7417-4D56-B7A2-CBFB1C47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9D655-B4A0-46F3-AF79-F05A84DF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177FA-9663-4783-B4B9-C4E15D27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F2C15-553C-4544-9FC7-82D89D9C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E1917-93D3-4E2A-BD67-24F51994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E138E-1C72-425C-9697-D9EA145B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DE58E-F9B4-46EC-BA5E-A6BF52B0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9F0A7-25B3-4A4B-9600-0FD4CA4F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00686-3491-4BBF-B559-40AF52BE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DE2F4-8BF2-4FFD-8828-0E8561BA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021-3FA0-49EF-B427-1A143EF7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C28AA-3F8C-472D-9CED-73FE4ECC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0335E-5D23-4503-9C27-182487E1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CF47C-0D98-447D-8D1F-5E65A786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B7EFB-FFAF-4B7D-B014-BA0B44A3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83074-2D1C-48A0-8635-677CAFB2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B5E27-C19F-4258-9119-EB4C4933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26401-7007-459C-A83C-9251EA88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407F7-08BD-4C3D-A8E1-D7C0E49F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B7253-77CC-4218-9FE6-8521B61B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319BF-D7D4-4C8C-8322-7614927B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C1A-8C6E-4513-8BAB-606568F1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DF675-6E15-41F0-828D-8435383D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A7E69-8C51-4313-9877-41A1F22D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B0975-5ED0-4987-8E14-902B3B59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4113D-3429-440A-95FE-92617021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59E96-5888-41CF-8F40-A1C30CE5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FCC02-05F0-4F48-BFF1-96A3BB23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8D2A4-8FC3-4180-8AC0-6DCF6354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A66D5-5724-48AF-A07C-B95E5598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7FE91-2DEE-47B8-9919-D4E39142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0F6EE-1B74-40A1-A9D8-35797A57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C51-6EFF-4D0C-AB1B-9E789E3D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3E82B-E47B-4D26-A635-57384DBA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C0257-B369-405E-A12E-B1AC35C5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CA534-A31D-4F89-9D69-9667354A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EBD8E-FBEF-4AF4-BC35-C17F8FCC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AE94E-C9C2-4666-9EE5-ECC7A8F0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1F8DA-F0DD-4943-8391-22D25AC6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73841-40AC-45BA-9786-CF41FC60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CDC3E-D95D-40F3-A543-52E6F25E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B2AFC-0670-428E-8C9A-400C1DED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4D361-16E7-4D5A-BBDD-5F9606B0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637-27B7-4D47-A230-5E0448F3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913C5-CC49-4DF3-B00D-C4308B71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6DCF5-8740-45FA-A514-A219E12F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3F927-65F3-4E55-9B85-9313A9B1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FFBAF-17D2-443B-B17B-CD09261C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7E69C-2FF5-4203-A5A3-3D5506AD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A1716-218D-448A-A0B3-012E24D6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333A6-A2E6-44D3-998F-E4736E5E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0F64A-C471-46ED-B5D0-42B791B1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A9FFD-E931-46E9-8EC3-E1780589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09EAF-2D77-42D1-A947-13C5C716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9A15-AF00-45C7-B314-B54572D5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A9276-FF8B-4F3C-B536-61B4752D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A82E2-D84E-4508-8A34-2A224407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5E89C-A256-4374-8E78-31A81FD3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AA4D4-BF27-4F0F-9235-1FE1B40E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36689-A703-45E1-8585-7C43CE88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FD947-F022-443A-B838-A390FCEB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2369B-CE2D-4421-BD06-04796B03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CAF19-216A-4C73-90AE-2C477A65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9DB28-57C7-492A-918F-BB4048DD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9535A-7F9E-4AD2-8291-BA5D20B2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7178-7ECA-4D4E-87F2-55D476DAEC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3CC7-31EC-4C1E-8BC5-4196678AB5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1ECE-40B6-498A-9DD0-424A519300D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E176-0E4A-4995-96DD-2C0D17737A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ABA2-F51E-4C44-888C-BE12BFE5D88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4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F9BA-DD74-430C-9AE0-8AC3DFF4FE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4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C7A8-D186-4DDA-9BA5-34F6A5C505A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B70D-4DEE-4E3D-BE9B-5518BCC862D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0455-DAEC-4392-8E05-5B5E1E0FE0D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4CF8-484D-4936-BC68-5EF8FFDD430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4D0D-5672-434C-B598-D5359EF48FA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0F84-5213-496E-B3A6-18D4AE3CFA5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1592-F558-42B0-A56B-3B46F22D09A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0BB0-8E64-48CA-94B7-ABF2EC6151A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1004-D505-484D-BFAF-25D6EEC4565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8D50-939D-42DD-BDD8-C09B5BC193C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object 2"/>
          <p:cNvSpPr/>
          <p:nvPr/>
        </p:nvSpPr>
        <p:spPr>
          <a:xfrm>
            <a:off x="684360" y="2560680"/>
            <a:ext cx="360" cy="142920"/>
          </a:xfrm>
          <a:custGeom>
            <a:avLst/>
            <a:gdLst/>
            <a:ahLst/>
            <a:rect l="l" t="t" r="r" b="b"/>
            <a:pathLst>
              <a:path w="0" h="142239">
                <a:moveTo>
                  <a:pt x="0" y="0"/>
                </a:moveTo>
                <a:lnTo>
                  <a:pt x="0" y="14166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object 3"/>
          <p:cNvSpPr/>
          <p:nvPr/>
        </p:nvSpPr>
        <p:spPr>
          <a:xfrm>
            <a:off x="684360" y="28432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object 4"/>
          <p:cNvSpPr/>
          <p:nvPr/>
        </p:nvSpPr>
        <p:spPr>
          <a:xfrm>
            <a:off x="684360" y="2995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object 5"/>
          <p:cNvSpPr/>
          <p:nvPr/>
        </p:nvSpPr>
        <p:spPr>
          <a:xfrm>
            <a:off x="684360" y="3147840"/>
            <a:ext cx="360" cy="317520"/>
          </a:xfrm>
          <a:custGeom>
            <a:avLst/>
            <a:gdLst/>
            <a:ahLst/>
            <a:rect l="l" t="t" r="r" b="b"/>
            <a:pathLst>
              <a:path w="0" h="317500">
                <a:moveTo>
                  <a:pt x="0" y="0"/>
                </a:moveTo>
                <a:lnTo>
                  <a:pt x="0" y="3169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object 6"/>
          <p:cNvSpPr/>
          <p:nvPr/>
        </p:nvSpPr>
        <p:spPr>
          <a:xfrm>
            <a:off x="684360" y="36050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object 7"/>
          <p:cNvSpPr/>
          <p:nvPr/>
        </p:nvSpPr>
        <p:spPr>
          <a:xfrm>
            <a:off x="684360" y="3757680"/>
            <a:ext cx="360" cy="164880"/>
          </a:xfrm>
          <a:custGeom>
            <a:avLst/>
            <a:gdLst/>
            <a:ahLst/>
            <a:rect l="l" t="t" r="r" b="b"/>
            <a:pathLst>
              <a:path w="0" h="165100">
                <a:moveTo>
                  <a:pt x="0" y="0"/>
                </a:moveTo>
                <a:lnTo>
                  <a:pt x="0" y="1645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object 8"/>
          <p:cNvSpPr/>
          <p:nvPr/>
        </p:nvSpPr>
        <p:spPr>
          <a:xfrm>
            <a:off x="684360" y="40622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object 9"/>
          <p:cNvSpPr/>
          <p:nvPr/>
        </p:nvSpPr>
        <p:spPr>
          <a:xfrm>
            <a:off x="684360" y="42148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object 10"/>
          <p:cNvSpPr/>
          <p:nvPr/>
        </p:nvSpPr>
        <p:spPr>
          <a:xfrm>
            <a:off x="684360" y="43671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object 11"/>
          <p:cNvSpPr/>
          <p:nvPr/>
        </p:nvSpPr>
        <p:spPr>
          <a:xfrm>
            <a:off x="684360" y="45194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object 12"/>
          <p:cNvSpPr/>
          <p:nvPr/>
        </p:nvSpPr>
        <p:spPr>
          <a:xfrm>
            <a:off x="684360" y="46720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object 13"/>
          <p:cNvSpPr/>
          <p:nvPr/>
        </p:nvSpPr>
        <p:spPr>
          <a:xfrm>
            <a:off x="684360" y="4824360"/>
            <a:ext cx="360" cy="317520"/>
          </a:xfrm>
          <a:custGeom>
            <a:avLst/>
            <a:gdLst/>
            <a:ahLst/>
            <a:rect l="l" t="t" r="r" b="b"/>
            <a:pathLst>
              <a:path w="0" h="317500">
                <a:moveTo>
                  <a:pt x="0" y="0"/>
                </a:moveTo>
                <a:lnTo>
                  <a:pt x="0" y="3169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object 14"/>
          <p:cNvSpPr/>
          <p:nvPr/>
        </p:nvSpPr>
        <p:spPr>
          <a:xfrm>
            <a:off x="684360" y="5281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object 15"/>
          <p:cNvSpPr/>
          <p:nvPr/>
        </p:nvSpPr>
        <p:spPr>
          <a:xfrm>
            <a:off x="684360" y="54338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object 16"/>
          <p:cNvSpPr/>
          <p:nvPr/>
        </p:nvSpPr>
        <p:spPr>
          <a:xfrm>
            <a:off x="684360" y="55864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object 17"/>
          <p:cNvSpPr/>
          <p:nvPr/>
        </p:nvSpPr>
        <p:spPr>
          <a:xfrm>
            <a:off x="684360" y="5738760"/>
            <a:ext cx="360" cy="57240"/>
          </a:xfrm>
          <a:custGeom>
            <a:avLst/>
            <a:gdLst/>
            <a:ahLst/>
            <a:rect l="l" t="t" r="r" b="b"/>
            <a:pathLst>
              <a:path w="0" h="58420">
                <a:moveTo>
                  <a:pt x="0" y="0"/>
                </a:moveTo>
                <a:lnTo>
                  <a:pt x="0" y="-768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object 18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846440" y="178920"/>
            <a:ext cx="54734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8" name="object 20"/>
          <p:cNvSpPr/>
          <p:nvPr/>
        </p:nvSpPr>
        <p:spPr>
          <a:xfrm>
            <a:off x="2465280" y="936720"/>
            <a:ext cx="43214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115 «Ультразвуковые исследования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object 21"/>
          <p:cNvSpPr/>
          <p:nvPr/>
        </p:nvSpPr>
        <p:spPr>
          <a:xfrm>
            <a:off x="393876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object 22"/>
          <p:cNvSpPr/>
          <p:nvPr/>
        </p:nvSpPr>
        <p:spPr>
          <a:xfrm>
            <a:off x="442908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object 23"/>
          <p:cNvSpPr/>
          <p:nvPr/>
        </p:nvSpPr>
        <p:spPr>
          <a:xfrm>
            <a:off x="518004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object 24"/>
          <p:cNvSpPr/>
          <p:nvPr/>
        </p:nvSpPr>
        <p:spPr>
          <a:xfrm>
            <a:off x="6243480" y="1467000"/>
            <a:ext cx="360" cy="4889520"/>
          </a:xfrm>
          <a:custGeom>
            <a:avLst/>
            <a:gdLst/>
            <a:ahLst/>
            <a:rect l="l" t="t" r="r" b="b"/>
            <a:pathLst>
              <a:path w="0" h="4889500">
                <a:moveTo>
                  <a:pt x="0" y="0"/>
                </a:moveTo>
                <a:lnTo>
                  <a:pt x="0" y="48895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object 25"/>
          <p:cNvSpPr/>
          <p:nvPr/>
        </p:nvSpPr>
        <p:spPr>
          <a:xfrm>
            <a:off x="7018200" y="1467000"/>
            <a:ext cx="360" cy="4889520"/>
          </a:xfrm>
          <a:custGeom>
            <a:avLst/>
            <a:gdLst/>
            <a:ahLst/>
            <a:rect l="l" t="t" r="r" b="b"/>
            <a:pathLst>
              <a:path w="0" h="4889500">
                <a:moveTo>
                  <a:pt x="0" y="0"/>
                </a:moveTo>
                <a:lnTo>
                  <a:pt x="0" y="48895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object 26"/>
          <p:cNvSpPr/>
          <p:nvPr/>
        </p:nvSpPr>
        <p:spPr>
          <a:xfrm>
            <a:off x="779148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object 27"/>
          <p:cNvSpPr/>
          <p:nvPr/>
        </p:nvSpPr>
        <p:spPr>
          <a:xfrm>
            <a:off x="5173560" y="1473120"/>
            <a:ext cx="2624400" cy="360"/>
          </a:xfrm>
          <a:custGeom>
            <a:avLst/>
            <a:gdLst/>
            <a:ahLst/>
            <a:rect l="l" t="t" r="r" b="b"/>
            <a:pathLst>
              <a:path w="2623820" h="0">
                <a:moveTo>
                  <a:pt x="0" y="0"/>
                </a:moveTo>
                <a:lnTo>
                  <a:pt x="26238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object 28"/>
          <p:cNvSpPr/>
          <p:nvPr/>
        </p:nvSpPr>
        <p:spPr>
          <a:xfrm>
            <a:off x="461880" y="2540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object 29"/>
          <p:cNvSpPr/>
          <p:nvPr/>
        </p:nvSpPr>
        <p:spPr>
          <a:xfrm>
            <a:off x="461880" y="2692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object 30"/>
          <p:cNvSpPr/>
          <p:nvPr/>
        </p:nvSpPr>
        <p:spPr>
          <a:xfrm>
            <a:off x="461880" y="2844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object 31"/>
          <p:cNvSpPr/>
          <p:nvPr/>
        </p:nvSpPr>
        <p:spPr>
          <a:xfrm>
            <a:off x="461880" y="3149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object 32"/>
          <p:cNvSpPr/>
          <p:nvPr/>
        </p:nvSpPr>
        <p:spPr>
          <a:xfrm>
            <a:off x="461880" y="3301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object 33"/>
          <p:cNvSpPr/>
          <p:nvPr/>
        </p:nvSpPr>
        <p:spPr>
          <a:xfrm>
            <a:off x="461880" y="3454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object 34"/>
          <p:cNvSpPr/>
          <p:nvPr/>
        </p:nvSpPr>
        <p:spPr>
          <a:xfrm>
            <a:off x="461880" y="3606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object 35"/>
          <p:cNvSpPr/>
          <p:nvPr/>
        </p:nvSpPr>
        <p:spPr>
          <a:xfrm>
            <a:off x="461880" y="37591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object 36"/>
          <p:cNvSpPr/>
          <p:nvPr/>
        </p:nvSpPr>
        <p:spPr>
          <a:xfrm>
            <a:off x="461880" y="39117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object 37"/>
          <p:cNvSpPr/>
          <p:nvPr/>
        </p:nvSpPr>
        <p:spPr>
          <a:xfrm>
            <a:off x="461880" y="43689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object 38"/>
          <p:cNvSpPr/>
          <p:nvPr/>
        </p:nvSpPr>
        <p:spPr>
          <a:xfrm>
            <a:off x="461880" y="45212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object 39"/>
          <p:cNvSpPr/>
          <p:nvPr/>
        </p:nvSpPr>
        <p:spPr>
          <a:xfrm>
            <a:off x="461880" y="46735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object 40"/>
          <p:cNvSpPr/>
          <p:nvPr/>
        </p:nvSpPr>
        <p:spPr>
          <a:xfrm>
            <a:off x="461880" y="4826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object 41"/>
          <p:cNvSpPr/>
          <p:nvPr/>
        </p:nvSpPr>
        <p:spPr>
          <a:xfrm>
            <a:off x="461880" y="4978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object 42"/>
          <p:cNvSpPr/>
          <p:nvPr/>
        </p:nvSpPr>
        <p:spPr>
          <a:xfrm>
            <a:off x="461880" y="5130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object 43"/>
          <p:cNvSpPr/>
          <p:nvPr/>
        </p:nvSpPr>
        <p:spPr>
          <a:xfrm>
            <a:off x="461880" y="5587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object 44"/>
          <p:cNvSpPr/>
          <p:nvPr/>
        </p:nvSpPr>
        <p:spPr>
          <a:xfrm>
            <a:off x="461880" y="5740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object 45"/>
          <p:cNvSpPr/>
          <p:nvPr/>
        </p:nvSpPr>
        <p:spPr>
          <a:xfrm>
            <a:off x="461880" y="5892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object 46"/>
          <p:cNvSpPr/>
          <p:nvPr/>
        </p:nvSpPr>
        <p:spPr>
          <a:xfrm>
            <a:off x="461880" y="60451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object 47"/>
          <p:cNvSpPr/>
          <p:nvPr/>
        </p:nvSpPr>
        <p:spPr>
          <a:xfrm>
            <a:off x="461880" y="61977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object 48"/>
          <p:cNvSpPr/>
          <p:nvPr/>
        </p:nvSpPr>
        <p:spPr>
          <a:xfrm>
            <a:off x="46836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object 49"/>
          <p:cNvSpPr/>
          <p:nvPr/>
        </p:nvSpPr>
        <p:spPr>
          <a:xfrm>
            <a:off x="874872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object 50"/>
          <p:cNvSpPr/>
          <p:nvPr/>
        </p:nvSpPr>
        <p:spPr>
          <a:xfrm>
            <a:off x="461880" y="1397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object 51"/>
          <p:cNvSpPr/>
          <p:nvPr/>
        </p:nvSpPr>
        <p:spPr>
          <a:xfrm>
            <a:off x="461880" y="63500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object 52"/>
          <p:cNvSpPr/>
          <p:nvPr/>
        </p:nvSpPr>
        <p:spPr>
          <a:xfrm>
            <a:off x="1806480" y="1901880"/>
            <a:ext cx="83052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менован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object 53"/>
          <p:cNvSpPr/>
          <p:nvPr/>
        </p:nvSpPr>
        <p:spPr>
          <a:xfrm>
            <a:off x="4122720" y="1825560"/>
            <a:ext cx="152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object 54"/>
          <p:cNvSpPr/>
          <p:nvPr/>
        </p:nvSpPr>
        <p:spPr>
          <a:xfrm>
            <a:off x="3998880" y="1978200"/>
            <a:ext cx="380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object 55"/>
          <p:cNvSpPr/>
          <p:nvPr/>
        </p:nvSpPr>
        <p:spPr>
          <a:xfrm>
            <a:off x="4646520" y="1901880"/>
            <a:ext cx="314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object 56"/>
          <p:cNvSpPr/>
          <p:nvPr/>
        </p:nvSpPr>
        <p:spPr>
          <a:xfrm>
            <a:off x="6389640" y="1436760"/>
            <a:ext cx="190440" cy="360"/>
          </a:xfrm>
          <a:custGeom>
            <a:avLst/>
            <a:gdLst/>
            <a:ahLst/>
            <a:rect l="l" t="t" r="r" b="b"/>
            <a:pathLst>
              <a:path w="190500" h="0">
                <a:moveTo>
                  <a:pt x="0" y="0"/>
                </a:moveTo>
                <a:lnTo>
                  <a:pt x="190500" y="0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object 57"/>
          <p:cNvSpPr/>
          <p:nvPr/>
        </p:nvSpPr>
        <p:spPr>
          <a:xfrm>
            <a:off x="6378480" y="1382760"/>
            <a:ext cx="21600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object 58"/>
          <p:cNvSpPr/>
          <p:nvPr/>
        </p:nvSpPr>
        <p:spPr>
          <a:xfrm>
            <a:off x="8056440" y="1444680"/>
            <a:ext cx="45900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гр. 6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object 59"/>
          <p:cNvSpPr/>
          <p:nvPr/>
        </p:nvSpPr>
        <p:spPr>
          <a:xfrm>
            <a:off x="7883640" y="1596960"/>
            <a:ext cx="8110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object 60"/>
          <p:cNvSpPr/>
          <p:nvPr/>
        </p:nvSpPr>
        <p:spPr>
          <a:xfrm>
            <a:off x="8209080" y="1749600"/>
            <a:ext cx="155520" cy="139680"/>
          </a:xfrm>
          <a:custGeom>
            <a:avLst/>
            <a:gdLst/>
            <a:ahLst/>
            <a:rect l="l" t="t" r="r" b="b"/>
            <a:pathLst>
              <a:path w="155575" h="140335">
                <a:moveTo>
                  <a:pt x="0" y="140208"/>
                </a:moveTo>
                <a:lnTo>
                  <a:pt x="155448" y="140208"/>
                </a:lnTo>
                <a:lnTo>
                  <a:pt x="155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object 61"/>
          <p:cNvSpPr/>
          <p:nvPr/>
        </p:nvSpPr>
        <p:spPr>
          <a:xfrm>
            <a:off x="8197920" y="1724040"/>
            <a:ext cx="147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object 62"/>
          <p:cNvSpPr/>
          <p:nvPr/>
        </p:nvSpPr>
        <p:spPr>
          <a:xfrm>
            <a:off x="7869240" y="1901880"/>
            <a:ext cx="841320" cy="13968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object 63"/>
          <p:cNvSpPr/>
          <p:nvPr/>
        </p:nvSpPr>
        <p:spPr>
          <a:xfrm>
            <a:off x="7858080" y="1876320"/>
            <a:ext cx="82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жизнен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object 64"/>
          <p:cNvSpPr/>
          <p:nvPr/>
        </p:nvSpPr>
        <p:spPr>
          <a:xfrm>
            <a:off x="8007480" y="2054160"/>
            <a:ext cx="485640" cy="139680"/>
          </a:xfrm>
          <a:custGeom>
            <a:avLst/>
            <a:gdLst/>
            <a:ahLst/>
            <a:rect l="l" t="t" r="r" b="b"/>
            <a:pathLst>
              <a:path w="485140" h="140335">
                <a:moveTo>
                  <a:pt x="0" y="140208"/>
                </a:moveTo>
                <a:lnTo>
                  <a:pt x="484631" y="140208"/>
                </a:lnTo>
                <a:lnTo>
                  <a:pt x="4846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object 65"/>
          <p:cNvSpPr/>
          <p:nvPr/>
        </p:nvSpPr>
        <p:spPr>
          <a:xfrm>
            <a:off x="8512200" y="2054160"/>
            <a:ext cx="360" cy="1396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object 66"/>
          <p:cNvSpPr/>
          <p:nvPr/>
        </p:nvSpPr>
        <p:spPr>
          <a:xfrm>
            <a:off x="7996320" y="2028960"/>
            <a:ext cx="55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лого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object 67"/>
          <p:cNvSpPr/>
          <p:nvPr/>
        </p:nvSpPr>
        <p:spPr>
          <a:xfrm>
            <a:off x="7854840" y="2181240"/>
            <a:ext cx="81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object 68"/>
          <p:cNvSpPr/>
          <p:nvPr/>
        </p:nvSpPr>
        <p:spPr>
          <a:xfrm>
            <a:off x="7900920" y="2206800"/>
            <a:ext cx="8114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омическ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object 69"/>
          <p:cNvSpPr/>
          <p:nvPr/>
        </p:nvSpPr>
        <p:spPr>
          <a:xfrm>
            <a:off x="7900920" y="2359080"/>
            <a:ext cx="75096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object 70"/>
          <p:cNvSpPr/>
          <p:nvPr/>
        </p:nvSpPr>
        <p:spPr>
          <a:xfrm>
            <a:off x="5681520" y="1482840"/>
            <a:ext cx="90720" cy="141120"/>
          </a:xfrm>
          <a:custGeom>
            <a:avLst/>
            <a:gdLst/>
            <a:ahLst/>
            <a:rect l="l" t="t" r="r" b="b"/>
            <a:pathLst>
              <a:path w="90170" h="140334">
                <a:moveTo>
                  <a:pt x="0" y="140208"/>
                </a:moveTo>
                <a:lnTo>
                  <a:pt x="89915" y="140208"/>
                </a:lnTo>
                <a:lnTo>
                  <a:pt x="899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object 71"/>
          <p:cNvSpPr/>
          <p:nvPr/>
        </p:nvSpPr>
        <p:spPr>
          <a:xfrm>
            <a:off x="5670720" y="1457280"/>
            <a:ext cx="85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object 72"/>
          <p:cNvSpPr/>
          <p:nvPr/>
        </p:nvSpPr>
        <p:spPr>
          <a:xfrm>
            <a:off x="5264280" y="1635120"/>
            <a:ext cx="931680" cy="141120"/>
          </a:xfrm>
          <a:custGeom>
            <a:avLst/>
            <a:gdLst/>
            <a:ahLst/>
            <a:rect l="l" t="t" r="r" b="b"/>
            <a:pathLst>
              <a:path w="931545" h="140335">
                <a:moveTo>
                  <a:pt x="0" y="140208"/>
                </a:moveTo>
                <a:lnTo>
                  <a:pt x="931163" y="140208"/>
                </a:lnTo>
                <a:lnTo>
                  <a:pt x="9311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object 73"/>
          <p:cNvSpPr/>
          <p:nvPr/>
        </p:nvSpPr>
        <p:spPr>
          <a:xfrm>
            <a:off x="5253120" y="1609560"/>
            <a:ext cx="919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азделениях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5330880" y="1776240"/>
          <a:ext cx="785880" cy="457200"/>
        </p:xfrm>
        <a:graphic>
          <a:graphicData uri="http://schemas.openxmlformats.org/drawingml/2006/table">
            <a:tbl>
              <a:tblPr/>
              <a:tblGrid>
                <a:gridCol w="112680"/>
                <a:gridCol w="555480"/>
                <a:gridCol w="117720"/>
              </a:tblGrid>
              <a:tr h="152640">
                <a:tc gridSpan="3">
                  <a:txBody>
                    <a:bodyPr lIns="0" rIns="0" tIns="0" bIns="0" anchor="t">
                      <a:noAutofit/>
                    </a:bodyPr>
                    <a:p>
                      <a:pPr marL="324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казывающи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 gridSpan="3"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у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ь 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3" name="object 75"/>
          <p:cNvSpPr/>
          <p:nvPr/>
        </p:nvSpPr>
        <p:spPr>
          <a:xfrm>
            <a:off x="5321160" y="2244600"/>
            <a:ext cx="816120" cy="141480"/>
          </a:xfrm>
          <a:custGeom>
            <a:avLst/>
            <a:gdLst/>
            <a:ahLst/>
            <a:rect l="l" t="t" r="r" b="b"/>
            <a:pathLst>
              <a:path w="817245" h="140335">
                <a:moveTo>
                  <a:pt x="0" y="140208"/>
                </a:moveTo>
                <a:lnTo>
                  <a:pt x="816863" y="140208"/>
                </a:lnTo>
                <a:lnTo>
                  <a:pt x="8168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object 76"/>
          <p:cNvSpPr/>
          <p:nvPr/>
        </p:nvSpPr>
        <p:spPr>
          <a:xfrm>
            <a:off x="5308560" y="2219400"/>
            <a:ext cx="806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булатор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object 77"/>
          <p:cNvSpPr/>
          <p:nvPr/>
        </p:nvSpPr>
        <p:spPr>
          <a:xfrm>
            <a:off x="5465880" y="2397240"/>
            <a:ext cx="490320" cy="141120"/>
          </a:xfrm>
          <a:custGeom>
            <a:avLst/>
            <a:gdLst/>
            <a:ahLst/>
            <a:rect l="l" t="t" r="r" b="b"/>
            <a:pathLst>
              <a:path w="490854" h="140335">
                <a:moveTo>
                  <a:pt x="0" y="140208"/>
                </a:moveTo>
                <a:lnTo>
                  <a:pt x="490727" y="140208"/>
                </a:lnTo>
                <a:lnTo>
                  <a:pt x="4907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object 78"/>
          <p:cNvSpPr/>
          <p:nvPr/>
        </p:nvSpPr>
        <p:spPr>
          <a:xfrm>
            <a:off x="5452920" y="2371680"/>
            <a:ext cx="51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object 79"/>
          <p:cNvSpPr/>
          <p:nvPr/>
        </p:nvSpPr>
        <p:spPr>
          <a:xfrm>
            <a:off x="6338880" y="1787400"/>
            <a:ext cx="620640" cy="141480"/>
          </a:xfrm>
          <a:custGeom>
            <a:avLst/>
            <a:gdLst/>
            <a:ahLst/>
            <a:rect l="l" t="t" r="r" b="b"/>
            <a:pathLst>
              <a:path w="620395" h="140335">
                <a:moveTo>
                  <a:pt x="0" y="140208"/>
                </a:moveTo>
                <a:lnTo>
                  <a:pt x="620268" y="140208"/>
                </a:lnTo>
                <a:lnTo>
                  <a:pt x="6202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object 80"/>
          <p:cNvSpPr/>
          <p:nvPr/>
        </p:nvSpPr>
        <p:spPr>
          <a:xfrm>
            <a:off x="6327720" y="1762200"/>
            <a:ext cx="608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object 81"/>
          <p:cNvSpPr/>
          <p:nvPr/>
        </p:nvSpPr>
        <p:spPr>
          <a:xfrm>
            <a:off x="6383160" y="1940040"/>
            <a:ext cx="528840" cy="141120"/>
          </a:xfrm>
          <a:custGeom>
            <a:avLst/>
            <a:gdLst/>
            <a:ahLst/>
            <a:rect l="l" t="t" r="r" b="b"/>
            <a:pathLst>
              <a:path w="528954" h="140335">
                <a:moveTo>
                  <a:pt x="0" y="140208"/>
                </a:moveTo>
                <a:lnTo>
                  <a:pt x="528827" y="140208"/>
                </a:lnTo>
                <a:lnTo>
                  <a:pt x="5288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object 82"/>
          <p:cNvSpPr/>
          <p:nvPr/>
        </p:nvSpPr>
        <p:spPr>
          <a:xfrm>
            <a:off x="6372360" y="1914480"/>
            <a:ext cx="5173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евн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object 83"/>
          <p:cNvSpPr/>
          <p:nvPr/>
        </p:nvSpPr>
        <p:spPr>
          <a:xfrm>
            <a:off x="6326280" y="2092320"/>
            <a:ext cx="609480" cy="141120"/>
          </a:xfrm>
          <a:custGeom>
            <a:avLst/>
            <a:gdLst/>
            <a:ahLst/>
            <a:rect l="l" t="t" r="r" b="b"/>
            <a:pathLst>
              <a:path w="609600" h="140335">
                <a:moveTo>
                  <a:pt x="0" y="140208"/>
                </a:moveTo>
                <a:lnTo>
                  <a:pt x="609599" y="140208"/>
                </a:lnTo>
                <a:lnTo>
                  <a:pt x="60959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object 84"/>
          <p:cNvSpPr/>
          <p:nvPr/>
        </p:nvSpPr>
        <p:spPr>
          <a:xfrm>
            <a:off x="6313320" y="2066760"/>
            <a:ext cx="63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ционар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object 85"/>
          <p:cNvSpPr/>
          <p:nvPr/>
        </p:nvSpPr>
        <p:spPr>
          <a:xfrm>
            <a:off x="7107120" y="1558800"/>
            <a:ext cx="630360" cy="141480"/>
          </a:xfrm>
          <a:custGeom>
            <a:avLst/>
            <a:gdLst/>
            <a:ahLst/>
            <a:rect l="l" t="t" r="r" b="b"/>
            <a:pathLst>
              <a:path w="629920" h="140335">
                <a:moveTo>
                  <a:pt x="0" y="140208"/>
                </a:moveTo>
                <a:lnTo>
                  <a:pt x="629412" y="140208"/>
                </a:lnTo>
                <a:lnTo>
                  <a:pt x="6294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object 86"/>
          <p:cNvSpPr/>
          <p:nvPr/>
        </p:nvSpPr>
        <p:spPr>
          <a:xfrm>
            <a:off x="7095960" y="1533600"/>
            <a:ext cx="61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е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object 87"/>
          <p:cNvSpPr/>
          <p:nvPr/>
        </p:nvSpPr>
        <p:spPr>
          <a:xfrm>
            <a:off x="7059600" y="1711440"/>
            <a:ext cx="690480" cy="141120"/>
          </a:xfrm>
          <a:custGeom>
            <a:avLst/>
            <a:gdLst/>
            <a:ahLst/>
            <a:rect l="l" t="t" r="r" b="b"/>
            <a:pathLst>
              <a:path w="690879" h="140335">
                <a:moveTo>
                  <a:pt x="0" y="140208"/>
                </a:moveTo>
                <a:lnTo>
                  <a:pt x="690372" y="140208"/>
                </a:lnTo>
                <a:lnTo>
                  <a:pt x="6903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object 88"/>
          <p:cNvSpPr/>
          <p:nvPr/>
        </p:nvSpPr>
        <p:spPr>
          <a:xfrm>
            <a:off x="7048440" y="1685880"/>
            <a:ext cx="716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вецион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object 89"/>
          <p:cNvSpPr/>
          <p:nvPr/>
        </p:nvSpPr>
        <p:spPr>
          <a:xfrm>
            <a:off x="708516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object 90"/>
          <p:cNvSpPr/>
          <p:nvPr/>
        </p:nvSpPr>
        <p:spPr>
          <a:xfrm>
            <a:off x="7105680" y="1863720"/>
            <a:ext cx="214200" cy="141120"/>
          </a:xfrm>
          <a:custGeom>
            <a:avLst/>
            <a:gdLst/>
            <a:ahLst/>
            <a:rect l="l" t="t" r="r" b="b"/>
            <a:pathLst>
              <a:path w="215265" h="140335">
                <a:moveTo>
                  <a:pt x="0" y="140208"/>
                </a:moveTo>
                <a:lnTo>
                  <a:pt x="214883" y="140208"/>
                </a:lnTo>
                <a:lnTo>
                  <a:pt x="214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object 91"/>
          <p:cNvSpPr/>
          <p:nvPr/>
        </p:nvSpPr>
        <p:spPr>
          <a:xfrm>
            <a:off x="73375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object 92"/>
          <p:cNvSpPr/>
          <p:nvPr/>
        </p:nvSpPr>
        <p:spPr>
          <a:xfrm>
            <a:off x="7354800" y="1863720"/>
            <a:ext cx="351000" cy="141120"/>
          </a:xfrm>
          <a:custGeom>
            <a:avLst/>
            <a:gdLst/>
            <a:ahLst/>
            <a:rect l="l" t="t" r="r" b="b"/>
            <a:pathLst>
              <a:path w="350520" h="140335">
                <a:moveTo>
                  <a:pt x="0" y="140208"/>
                </a:moveTo>
                <a:lnTo>
                  <a:pt x="350520" y="140208"/>
                </a:lnTo>
                <a:lnTo>
                  <a:pt x="3505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object 93"/>
          <p:cNvSpPr/>
          <p:nvPr/>
        </p:nvSpPr>
        <p:spPr>
          <a:xfrm>
            <a:off x="77263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object 94"/>
          <p:cNvSpPr/>
          <p:nvPr/>
        </p:nvSpPr>
        <p:spPr>
          <a:xfrm>
            <a:off x="7051680" y="1838160"/>
            <a:ext cx="709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ных вмеша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object 95"/>
          <p:cNvSpPr/>
          <p:nvPr/>
        </p:nvSpPr>
        <p:spPr>
          <a:xfrm>
            <a:off x="7089840" y="2016000"/>
            <a:ext cx="403200" cy="141480"/>
          </a:xfrm>
          <a:custGeom>
            <a:avLst/>
            <a:gdLst/>
            <a:ahLst/>
            <a:rect l="l" t="t" r="r" b="b"/>
            <a:pathLst>
              <a:path w="402590" h="140335">
                <a:moveTo>
                  <a:pt x="0" y="140208"/>
                </a:moveTo>
                <a:lnTo>
                  <a:pt x="402335" y="140208"/>
                </a:lnTo>
                <a:lnTo>
                  <a:pt x="40233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object 96"/>
          <p:cNvSpPr/>
          <p:nvPr/>
        </p:nvSpPr>
        <p:spPr>
          <a:xfrm>
            <a:off x="7508880" y="20160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34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object 97"/>
          <p:cNvSpPr/>
          <p:nvPr/>
        </p:nvSpPr>
        <p:spPr>
          <a:xfrm>
            <a:off x="7524720" y="2016000"/>
            <a:ext cx="228600" cy="141480"/>
          </a:xfrm>
          <a:custGeom>
            <a:avLst/>
            <a:gdLst/>
            <a:ahLst/>
            <a:rect l="l" t="t" r="r" b="b"/>
            <a:pathLst>
              <a:path w="228600" h="140335">
                <a:moveTo>
                  <a:pt x="0" y="140208"/>
                </a:moveTo>
                <a:lnTo>
                  <a:pt x="228600" y="140208"/>
                </a:lnTo>
                <a:lnTo>
                  <a:pt x="2286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object 98"/>
          <p:cNvSpPr/>
          <p:nvPr/>
        </p:nvSpPr>
        <p:spPr>
          <a:xfrm>
            <a:off x="7078680" y="1990800"/>
            <a:ext cx="65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ьств по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object 99"/>
          <p:cNvSpPr/>
          <p:nvPr/>
        </p:nvSpPr>
        <p:spPr>
          <a:xfrm>
            <a:off x="7116840" y="2168640"/>
            <a:ext cx="6080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object 100"/>
          <p:cNvSpPr/>
          <p:nvPr/>
        </p:nvSpPr>
        <p:spPr>
          <a:xfrm>
            <a:off x="7281720" y="2320920"/>
            <a:ext cx="246240" cy="141120"/>
          </a:xfrm>
          <a:custGeom>
            <a:avLst/>
            <a:gdLst/>
            <a:ahLst/>
            <a:rect l="l" t="t" r="r" b="b"/>
            <a:pathLst>
              <a:path w="245745" h="140335">
                <a:moveTo>
                  <a:pt x="0" y="140208"/>
                </a:moveTo>
                <a:lnTo>
                  <a:pt x="245364" y="140208"/>
                </a:lnTo>
                <a:lnTo>
                  <a:pt x="2453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object 101"/>
          <p:cNvSpPr/>
          <p:nvPr/>
        </p:nvSpPr>
        <p:spPr>
          <a:xfrm>
            <a:off x="7270920" y="2295360"/>
            <a:ext cx="269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object 102"/>
          <p:cNvSpPr/>
          <p:nvPr/>
        </p:nvSpPr>
        <p:spPr>
          <a:xfrm>
            <a:off x="22017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object 103"/>
          <p:cNvSpPr/>
          <p:nvPr/>
        </p:nvSpPr>
        <p:spPr>
          <a:xfrm>
            <a:off x="215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object 104"/>
          <p:cNvSpPr/>
          <p:nvPr/>
        </p:nvSpPr>
        <p:spPr>
          <a:xfrm>
            <a:off x="4183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object 105"/>
          <p:cNvSpPr/>
          <p:nvPr/>
        </p:nvSpPr>
        <p:spPr>
          <a:xfrm>
            <a:off x="4140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object 106"/>
          <p:cNvSpPr/>
          <p:nvPr/>
        </p:nvSpPr>
        <p:spPr>
          <a:xfrm>
            <a:off x="4803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object 107"/>
          <p:cNvSpPr/>
          <p:nvPr/>
        </p:nvSpPr>
        <p:spPr>
          <a:xfrm>
            <a:off x="475920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object 108"/>
          <p:cNvSpPr/>
          <p:nvPr/>
        </p:nvSpPr>
        <p:spPr>
          <a:xfrm>
            <a:off x="571032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object 109"/>
          <p:cNvSpPr/>
          <p:nvPr/>
        </p:nvSpPr>
        <p:spPr>
          <a:xfrm>
            <a:off x="566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object 110"/>
          <p:cNvSpPr/>
          <p:nvPr/>
        </p:nvSpPr>
        <p:spPr>
          <a:xfrm>
            <a:off x="6630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object 111"/>
          <p:cNvSpPr/>
          <p:nvPr/>
        </p:nvSpPr>
        <p:spPr>
          <a:xfrm>
            <a:off x="65865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object 112"/>
          <p:cNvSpPr/>
          <p:nvPr/>
        </p:nvSpPr>
        <p:spPr>
          <a:xfrm>
            <a:off x="74055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object 113"/>
          <p:cNvSpPr/>
          <p:nvPr/>
        </p:nvSpPr>
        <p:spPr>
          <a:xfrm>
            <a:off x="73612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object 114"/>
          <p:cNvSpPr/>
          <p:nvPr/>
        </p:nvSpPr>
        <p:spPr>
          <a:xfrm>
            <a:off x="8269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object 115"/>
          <p:cNvSpPr/>
          <p:nvPr/>
        </p:nvSpPr>
        <p:spPr>
          <a:xfrm>
            <a:off x="8226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object 116"/>
          <p:cNvSpPr/>
          <p:nvPr/>
        </p:nvSpPr>
        <p:spPr>
          <a:xfrm>
            <a:off x="501480" y="2701800"/>
            <a:ext cx="2060640" cy="141480"/>
          </a:xfrm>
          <a:custGeom>
            <a:avLst/>
            <a:gdLst/>
            <a:ahLst/>
            <a:rect l="l" t="t" r="r" b="b"/>
            <a:pathLst>
              <a:path w="2060575" h="140335">
                <a:moveTo>
                  <a:pt x="0" y="140208"/>
                </a:moveTo>
                <a:lnTo>
                  <a:pt x="2060448" y="140208"/>
                </a:lnTo>
                <a:lnTo>
                  <a:pt x="2060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object 117"/>
          <p:cNvSpPr/>
          <p:nvPr/>
        </p:nvSpPr>
        <p:spPr>
          <a:xfrm>
            <a:off x="2562120" y="2701800"/>
            <a:ext cx="41400" cy="141480"/>
          </a:xfrm>
          <a:custGeom>
            <a:avLst/>
            <a:gdLst/>
            <a:ahLst/>
            <a:rect l="l" t="t" r="r" b="b"/>
            <a:pathLst>
              <a:path w="41275" h="140335">
                <a:moveTo>
                  <a:pt x="0" y="140208"/>
                </a:moveTo>
                <a:lnTo>
                  <a:pt x="41148" y="140208"/>
                </a:lnTo>
                <a:lnTo>
                  <a:pt x="411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object 118"/>
          <p:cNvSpPr/>
          <p:nvPr/>
        </p:nvSpPr>
        <p:spPr>
          <a:xfrm>
            <a:off x="2603520" y="2701800"/>
            <a:ext cx="33480" cy="141480"/>
          </a:xfrm>
          <a:custGeom>
            <a:avLst/>
            <a:gdLst/>
            <a:ahLst/>
            <a:rect l="l" t="t" r="r" b="b"/>
            <a:pathLst>
              <a:path w="33655" h="140335">
                <a:moveTo>
                  <a:pt x="0" y="140208"/>
                </a:moveTo>
                <a:lnTo>
                  <a:pt x="33527" y="140208"/>
                </a:lnTo>
                <a:lnTo>
                  <a:pt x="335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object 119"/>
          <p:cNvSpPr/>
          <p:nvPr/>
        </p:nvSpPr>
        <p:spPr>
          <a:xfrm>
            <a:off x="2637000" y="2701800"/>
            <a:ext cx="288720" cy="141480"/>
          </a:xfrm>
          <a:custGeom>
            <a:avLst/>
            <a:gdLst/>
            <a:ahLst/>
            <a:rect l="l" t="t" r="r" b="b"/>
            <a:pathLst>
              <a:path w="288289" h="140335">
                <a:moveTo>
                  <a:pt x="0" y="140208"/>
                </a:moveTo>
                <a:lnTo>
                  <a:pt x="288036" y="140208"/>
                </a:lnTo>
                <a:lnTo>
                  <a:pt x="2880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object 120"/>
          <p:cNvSpPr/>
          <p:nvPr/>
        </p:nvSpPr>
        <p:spPr>
          <a:xfrm>
            <a:off x="488880" y="2676600"/>
            <a:ext cx="2448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льтразвуковые исследования (УЗИ) -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object 121"/>
          <p:cNvSpPr/>
          <p:nvPr/>
        </p:nvSpPr>
        <p:spPr>
          <a:xfrm>
            <a:off x="4183200" y="27018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object 122"/>
          <p:cNvSpPr/>
          <p:nvPr/>
        </p:nvSpPr>
        <p:spPr>
          <a:xfrm>
            <a:off x="4140360" y="26766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object 123"/>
          <p:cNvSpPr/>
          <p:nvPr/>
        </p:nvSpPr>
        <p:spPr>
          <a:xfrm>
            <a:off x="501480" y="2854440"/>
            <a:ext cx="663840" cy="141120"/>
          </a:xfrm>
          <a:custGeom>
            <a:avLst/>
            <a:gdLst/>
            <a:ahLst/>
            <a:rect l="l" t="t" r="r" b="b"/>
            <a:pathLst>
              <a:path w="662940" h="140335">
                <a:moveTo>
                  <a:pt x="0" y="140208"/>
                </a:moveTo>
                <a:lnTo>
                  <a:pt x="662940" y="140208"/>
                </a:lnTo>
                <a:lnTo>
                  <a:pt x="6629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object 124"/>
          <p:cNvSpPr/>
          <p:nvPr/>
        </p:nvSpPr>
        <p:spPr>
          <a:xfrm>
            <a:off x="488880" y="2828880"/>
            <a:ext cx="689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том числе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object 125"/>
          <p:cNvSpPr/>
          <p:nvPr/>
        </p:nvSpPr>
        <p:spPr>
          <a:xfrm>
            <a:off x="573120" y="3006720"/>
            <a:ext cx="276120" cy="141120"/>
          </a:xfrm>
          <a:custGeom>
            <a:avLst/>
            <a:gdLst/>
            <a:ahLst/>
            <a:rect l="l" t="t" r="r" b="b"/>
            <a:pathLst>
              <a:path w="276225" h="140335">
                <a:moveTo>
                  <a:pt x="0" y="140208"/>
                </a:moveTo>
                <a:lnTo>
                  <a:pt x="275844" y="140208"/>
                </a:lnTo>
                <a:lnTo>
                  <a:pt x="2758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object 126"/>
          <p:cNvSpPr/>
          <p:nvPr/>
        </p:nvSpPr>
        <p:spPr>
          <a:xfrm>
            <a:off x="849240" y="3006720"/>
            <a:ext cx="493920" cy="141120"/>
          </a:xfrm>
          <a:custGeom>
            <a:avLst/>
            <a:gdLst/>
            <a:ahLst/>
            <a:rect l="l" t="t" r="r" b="b"/>
            <a:pathLst>
              <a:path w="492759" h="140335">
                <a:moveTo>
                  <a:pt x="0" y="140208"/>
                </a:moveTo>
                <a:lnTo>
                  <a:pt x="492252" y="140208"/>
                </a:lnTo>
                <a:lnTo>
                  <a:pt x="49225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object 127"/>
          <p:cNvSpPr/>
          <p:nvPr/>
        </p:nvSpPr>
        <p:spPr>
          <a:xfrm>
            <a:off x="1362240" y="3006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object 128"/>
          <p:cNvSpPr/>
          <p:nvPr/>
        </p:nvSpPr>
        <p:spPr>
          <a:xfrm>
            <a:off x="1382760" y="3006720"/>
            <a:ext cx="619200" cy="141120"/>
          </a:xfrm>
          <a:custGeom>
            <a:avLst/>
            <a:gdLst/>
            <a:ahLst/>
            <a:rect l="l" t="t" r="r" b="b"/>
            <a:pathLst>
              <a:path w="619125" h="140335">
                <a:moveTo>
                  <a:pt x="0" y="140208"/>
                </a:moveTo>
                <a:lnTo>
                  <a:pt x="618744" y="140208"/>
                </a:lnTo>
                <a:lnTo>
                  <a:pt x="6187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object 129"/>
          <p:cNvSpPr/>
          <p:nvPr/>
        </p:nvSpPr>
        <p:spPr>
          <a:xfrm>
            <a:off x="2019240" y="3006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67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object 130"/>
          <p:cNvSpPr/>
          <p:nvPr/>
        </p:nvSpPr>
        <p:spPr>
          <a:xfrm>
            <a:off x="2038320" y="3006720"/>
            <a:ext cx="493920" cy="141120"/>
          </a:xfrm>
          <a:custGeom>
            <a:avLst/>
            <a:gdLst/>
            <a:ahLst/>
            <a:rect l="l" t="t" r="r" b="b"/>
            <a:pathLst>
              <a:path w="494030" h="140335">
                <a:moveTo>
                  <a:pt x="0" y="140208"/>
                </a:moveTo>
                <a:lnTo>
                  <a:pt x="493775" y="140208"/>
                </a:lnTo>
                <a:lnTo>
                  <a:pt x="49377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object 131"/>
          <p:cNvSpPr/>
          <p:nvPr/>
        </p:nvSpPr>
        <p:spPr>
          <a:xfrm>
            <a:off x="2532240" y="3006720"/>
            <a:ext cx="63360" cy="141120"/>
          </a:xfrm>
          <a:custGeom>
            <a:avLst/>
            <a:gdLst/>
            <a:ahLst/>
            <a:rect l="l" t="t" r="r" b="b"/>
            <a:pathLst>
              <a:path w="64135" h="140335">
                <a:moveTo>
                  <a:pt x="0" y="140208"/>
                </a:moveTo>
                <a:lnTo>
                  <a:pt x="64007" y="140208"/>
                </a:lnTo>
                <a:lnTo>
                  <a:pt x="6400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object 132"/>
          <p:cNvSpPr/>
          <p:nvPr/>
        </p:nvSpPr>
        <p:spPr>
          <a:xfrm>
            <a:off x="2595600" y="3006720"/>
            <a:ext cx="33480" cy="141120"/>
          </a:xfrm>
          <a:custGeom>
            <a:avLst/>
            <a:gdLst/>
            <a:ahLst/>
            <a:rect l="l" t="t" r="r" b="b"/>
            <a:pathLst>
              <a:path w="32385" h="140335">
                <a:moveTo>
                  <a:pt x="0" y="140208"/>
                </a:moveTo>
                <a:lnTo>
                  <a:pt x="32003" y="140208"/>
                </a:lnTo>
                <a:lnTo>
                  <a:pt x="3200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object 133"/>
          <p:cNvSpPr/>
          <p:nvPr/>
        </p:nvSpPr>
        <p:spPr>
          <a:xfrm>
            <a:off x="2629080" y="3006720"/>
            <a:ext cx="320400" cy="141120"/>
          </a:xfrm>
          <a:custGeom>
            <a:avLst/>
            <a:gdLst/>
            <a:ahLst/>
            <a:rect l="l" t="t" r="r" b="b"/>
            <a:pathLst>
              <a:path w="321944" h="140335">
                <a:moveTo>
                  <a:pt x="0" y="140208"/>
                </a:moveTo>
                <a:lnTo>
                  <a:pt x="321563" y="140208"/>
                </a:lnTo>
                <a:lnTo>
                  <a:pt x="3215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object 134"/>
          <p:cNvSpPr/>
          <p:nvPr/>
        </p:nvSpPr>
        <p:spPr>
          <a:xfrm>
            <a:off x="561960" y="2981160"/>
            <a:ext cx="2367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ердечно-сосудистой системы –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object 135"/>
          <p:cNvSpPr/>
          <p:nvPr/>
        </p:nvSpPr>
        <p:spPr>
          <a:xfrm>
            <a:off x="4183200" y="29304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object 136"/>
          <p:cNvSpPr/>
          <p:nvPr/>
        </p:nvSpPr>
        <p:spPr>
          <a:xfrm>
            <a:off x="4140360" y="29052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object 137"/>
          <p:cNvSpPr/>
          <p:nvPr/>
        </p:nvSpPr>
        <p:spPr>
          <a:xfrm>
            <a:off x="682560" y="3159000"/>
            <a:ext cx="92160" cy="14148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object 138"/>
          <p:cNvSpPr/>
          <p:nvPr/>
        </p:nvSpPr>
        <p:spPr>
          <a:xfrm>
            <a:off x="774720" y="3159000"/>
            <a:ext cx="1650960" cy="141480"/>
          </a:xfrm>
          <a:custGeom>
            <a:avLst/>
            <a:gdLst/>
            <a:ahLst/>
            <a:rect l="l" t="t" r="r" b="b"/>
            <a:pathLst>
              <a:path w="1651000" h="140335">
                <a:moveTo>
                  <a:pt x="0" y="140208"/>
                </a:moveTo>
                <a:lnTo>
                  <a:pt x="1650492" y="140208"/>
                </a:lnTo>
                <a:lnTo>
                  <a:pt x="165049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object 139"/>
          <p:cNvSpPr/>
          <p:nvPr/>
        </p:nvSpPr>
        <p:spPr>
          <a:xfrm>
            <a:off x="762120" y="3133800"/>
            <a:ext cx="1674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исследование сосуд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object 140"/>
          <p:cNvSpPr/>
          <p:nvPr/>
        </p:nvSpPr>
        <p:spPr>
          <a:xfrm>
            <a:off x="4102200" y="31590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object 141"/>
          <p:cNvSpPr/>
          <p:nvPr/>
        </p:nvSpPr>
        <p:spPr>
          <a:xfrm>
            <a:off x="4091040" y="31338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object 142"/>
          <p:cNvSpPr/>
          <p:nvPr/>
        </p:nvSpPr>
        <p:spPr>
          <a:xfrm>
            <a:off x="682560" y="3311640"/>
            <a:ext cx="282600" cy="141120"/>
          </a:xfrm>
          <a:custGeom>
            <a:avLst/>
            <a:gdLst/>
            <a:ahLst/>
            <a:rect l="l" t="t" r="r" b="b"/>
            <a:pathLst>
              <a:path w="283844" h="140335">
                <a:moveTo>
                  <a:pt x="0" y="140208"/>
                </a:moveTo>
                <a:lnTo>
                  <a:pt x="283463" y="140208"/>
                </a:lnTo>
                <a:lnTo>
                  <a:pt x="2834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object 143"/>
          <p:cNvSpPr/>
          <p:nvPr/>
        </p:nvSpPr>
        <p:spPr>
          <a:xfrm>
            <a:off x="965160" y="3311640"/>
            <a:ext cx="1417680" cy="141120"/>
          </a:xfrm>
          <a:custGeom>
            <a:avLst/>
            <a:gdLst/>
            <a:ahLst/>
            <a:rect l="l" t="t" r="r" b="b"/>
            <a:pathLst>
              <a:path w="1417320" h="140335">
                <a:moveTo>
                  <a:pt x="0" y="140208"/>
                </a:moveTo>
                <a:lnTo>
                  <a:pt x="1417320" y="140208"/>
                </a:lnTo>
                <a:lnTo>
                  <a:pt x="14173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object 144"/>
          <p:cNvSpPr/>
          <p:nvPr/>
        </p:nvSpPr>
        <p:spPr>
          <a:xfrm>
            <a:off x="952560" y="3286080"/>
            <a:ext cx="1441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слепым доплеро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object 145"/>
          <p:cNvSpPr/>
          <p:nvPr/>
        </p:nvSpPr>
        <p:spPr>
          <a:xfrm>
            <a:off x="4056120" y="3311640"/>
            <a:ext cx="255600" cy="141120"/>
          </a:xfrm>
          <a:custGeom>
            <a:avLst/>
            <a:gdLst/>
            <a:ahLst/>
            <a:rect l="l" t="t" r="r" b="b"/>
            <a:pathLst>
              <a:path w="256539" h="140335">
                <a:moveTo>
                  <a:pt x="0" y="140208"/>
                </a:moveTo>
                <a:lnTo>
                  <a:pt x="256032" y="140208"/>
                </a:lnTo>
                <a:lnTo>
                  <a:pt x="25603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object 146"/>
          <p:cNvSpPr/>
          <p:nvPr/>
        </p:nvSpPr>
        <p:spPr>
          <a:xfrm>
            <a:off x="4043520" y="3286080"/>
            <a:ext cx="280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1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object 147"/>
          <p:cNvSpPr/>
          <p:nvPr/>
        </p:nvSpPr>
        <p:spPr>
          <a:xfrm>
            <a:off x="517680" y="34639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0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object 148"/>
          <p:cNvSpPr/>
          <p:nvPr/>
        </p:nvSpPr>
        <p:spPr>
          <a:xfrm>
            <a:off x="533520" y="3463920"/>
            <a:ext cx="976320" cy="141120"/>
          </a:xfrm>
          <a:custGeom>
            <a:avLst/>
            <a:gdLst/>
            <a:ahLst/>
            <a:rect l="l" t="t" r="r" b="b"/>
            <a:pathLst>
              <a:path w="977265" h="140335">
                <a:moveTo>
                  <a:pt x="0" y="140208"/>
                </a:moveTo>
                <a:lnTo>
                  <a:pt x="976883" y="140208"/>
                </a:lnTo>
                <a:lnTo>
                  <a:pt x="976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object 149"/>
          <p:cNvSpPr/>
          <p:nvPr/>
        </p:nvSpPr>
        <p:spPr>
          <a:xfrm>
            <a:off x="520560" y="3438360"/>
            <a:ext cx="1001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хокардиографи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object 150"/>
          <p:cNvSpPr/>
          <p:nvPr/>
        </p:nvSpPr>
        <p:spPr>
          <a:xfrm>
            <a:off x="4183200" y="34639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object 151"/>
          <p:cNvSpPr/>
          <p:nvPr/>
        </p:nvSpPr>
        <p:spPr>
          <a:xfrm>
            <a:off x="4140360" y="34383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object 152"/>
          <p:cNvSpPr/>
          <p:nvPr/>
        </p:nvSpPr>
        <p:spPr>
          <a:xfrm>
            <a:off x="7359480" y="34639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object 153"/>
          <p:cNvSpPr/>
          <p:nvPr/>
        </p:nvSpPr>
        <p:spPr>
          <a:xfrm>
            <a:off x="7348680" y="34383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object 154"/>
          <p:cNvSpPr/>
          <p:nvPr/>
        </p:nvSpPr>
        <p:spPr>
          <a:xfrm>
            <a:off x="8223120" y="34639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object 155"/>
          <p:cNvSpPr/>
          <p:nvPr/>
        </p:nvSpPr>
        <p:spPr>
          <a:xfrm>
            <a:off x="8211960" y="34383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object 156"/>
          <p:cNvSpPr/>
          <p:nvPr/>
        </p:nvSpPr>
        <p:spPr>
          <a:xfrm>
            <a:off x="501480" y="3616200"/>
            <a:ext cx="125640" cy="141480"/>
          </a:xfrm>
          <a:custGeom>
            <a:avLst/>
            <a:gdLst/>
            <a:ahLst/>
            <a:rect l="l" t="t" r="r" b="b"/>
            <a:pathLst>
              <a:path w="125095" h="140335">
                <a:moveTo>
                  <a:pt x="0" y="140208"/>
                </a:moveTo>
                <a:lnTo>
                  <a:pt x="124968" y="140208"/>
                </a:lnTo>
                <a:lnTo>
                  <a:pt x="1249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object 157"/>
          <p:cNvSpPr/>
          <p:nvPr/>
        </p:nvSpPr>
        <p:spPr>
          <a:xfrm>
            <a:off x="627120" y="3616200"/>
            <a:ext cx="2062080" cy="141480"/>
          </a:xfrm>
          <a:custGeom>
            <a:avLst/>
            <a:gdLst/>
            <a:ahLst/>
            <a:rect l="l" t="t" r="r" b="b"/>
            <a:pathLst>
              <a:path w="2062480" h="140335">
                <a:moveTo>
                  <a:pt x="0" y="140208"/>
                </a:moveTo>
                <a:lnTo>
                  <a:pt x="2061972" y="140208"/>
                </a:lnTo>
                <a:lnTo>
                  <a:pt x="20619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object 158"/>
          <p:cNvSpPr/>
          <p:nvPr/>
        </p:nvSpPr>
        <p:spPr>
          <a:xfrm>
            <a:off x="614520" y="3591000"/>
            <a:ext cx="1641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чрезпищеводная ЭХ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object 159"/>
          <p:cNvSpPr/>
          <p:nvPr/>
        </p:nvSpPr>
        <p:spPr>
          <a:xfrm>
            <a:off x="4102200" y="36162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object 160"/>
          <p:cNvSpPr/>
          <p:nvPr/>
        </p:nvSpPr>
        <p:spPr>
          <a:xfrm>
            <a:off x="4091040" y="35910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object 161"/>
          <p:cNvSpPr/>
          <p:nvPr/>
        </p:nvSpPr>
        <p:spPr>
          <a:xfrm>
            <a:off x="7359480" y="3616200"/>
            <a:ext cx="9072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object 162"/>
          <p:cNvSpPr/>
          <p:nvPr/>
        </p:nvSpPr>
        <p:spPr>
          <a:xfrm>
            <a:off x="7348680" y="359100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object 163"/>
          <p:cNvSpPr/>
          <p:nvPr/>
        </p:nvSpPr>
        <p:spPr>
          <a:xfrm>
            <a:off x="8223120" y="36162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object 164"/>
          <p:cNvSpPr/>
          <p:nvPr/>
        </p:nvSpPr>
        <p:spPr>
          <a:xfrm>
            <a:off x="8211960" y="35910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object 165"/>
          <p:cNvSpPr/>
          <p:nvPr/>
        </p:nvSpPr>
        <p:spPr>
          <a:xfrm>
            <a:off x="1133640" y="3768840"/>
            <a:ext cx="633240" cy="141120"/>
          </a:xfrm>
          <a:custGeom>
            <a:avLst/>
            <a:gdLst/>
            <a:ahLst/>
            <a:rect l="l" t="t" r="r" b="b"/>
            <a:pathLst>
              <a:path w="634364" h="140335">
                <a:moveTo>
                  <a:pt x="0" y="140208"/>
                </a:moveTo>
                <a:lnTo>
                  <a:pt x="633984" y="140208"/>
                </a:lnTo>
                <a:lnTo>
                  <a:pt x="633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object 166"/>
          <p:cNvSpPr/>
          <p:nvPr/>
        </p:nvSpPr>
        <p:spPr>
          <a:xfrm>
            <a:off x="1766880" y="3768840"/>
            <a:ext cx="344520" cy="141120"/>
          </a:xfrm>
          <a:custGeom>
            <a:avLst/>
            <a:gdLst/>
            <a:ahLst/>
            <a:rect l="l" t="t" r="r" b="b"/>
            <a:pathLst>
              <a:path w="344805" h="140335">
                <a:moveTo>
                  <a:pt x="0" y="140208"/>
                </a:moveTo>
                <a:lnTo>
                  <a:pt x="344424" y="140208"/>
                </a:lnTo>
                <a:lnTo>
                  <a:pt x="34442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object 167"/>
          <p:cNvSpPr/>
          <p:nvPr/>
        </p:nvSpPr>
        <p:spPr>
          <a:xfrm>
            <a:off x="2131920" y="37688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object 168"/>
          <p:cNvSpPr/>
          <p:nvPr/>
        </p:nvSpPr>
        <p:spPr>
          <a:xfrm>
            <a:off x="2152800" y="3768840"/>
            <a:ext cx="950760" cy="141120"/>
          </a:xfrm>
          <a:custGeom>
            <a:avLst/>
            <a:gdLst/>
            <a:ahLst/>
            <a:rect l="l" t="t" r="r" b="b"/>
            <a:pathLst>
              <a:path w="951230" h="140335">
                <a:moveTo>
                  <a:pt x="0" y="140208"/>
                </a:moveTo>
                <a:lnTo>
                  <a:pt x="950976" y="140208"/>
                </a:lnTo>
                <a:lnTo>
                  <a:pt x="950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object 169"/>
          <p:cNvSpPr/>
          <p:nvPr/>
        </p:nvSpPr>
        <p:spPr>
          <a:xfrm>
            <a:off x="1754280" y="3743280"/>
            <a:ext cx="1361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есс-эхокардиографи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object 170"/>
          <p:cNvSpPr/>
          <p:nvPr/>
        </p:nvSpPr>
        <p:spPr>
          <a:xfrm>
            <a:off x="4102200" y="376884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object 171"/>
          <p:cNvSpPr/>
          <p:nvPr/>
        </p:nvSpPr>
        <p:spPr>
          <a:xfrm>
            <a:off x="4091040" y="374328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object 172"/>
          <p:cNvSpPr/>
          <p:nvPr/>
        </p:nvSpPr>
        <p:spPr>
          <a:xfrm>
            <a:off x="7359480" y="37688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object 173"/>
          <p:cNvSpPr/>
          <p:nvPr/>
        </p:nvSpPr>
        <p:spPr>
          <a:xfrm>
            <a:off x="7348680" y="3743280"/>
            <a:ext cx="117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object 174"/>
          <p:cNvSpPr/>
          <p:nvPr/>
        </p:nvSpPr>
        <p:spPr>
          <a:xfrm>
            <a:off x="8223120" y="37688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object 175"/>
          <p:cNvSpPr/>
          <p:nvPr/>
        </p:nvSpPr>
        <p:spPr>
          <a:xfrm>
            <a:off x="8211960" y="37432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object 176"/>
          <p:cNvSpPr/>
          <p:nvPr/>
        </p:nvSpPr>
        <p:spPr>
          <a:xfrm>
            <a:off x="573120" y="3921120"/>
            <a:ext cx="3284640" cy="141120"/>
          </a:xfrm>
          <a:custGeom>
            <a:avLst/>
            <a:gdLst/>
            <a:ahLst/>
            <a:rect l="l" t="t" r="r" b="b"/>
            <a:pathLst>
              <a:path w="3284220" h="140335">
                <a:moveTo>
                  <a:pt x="0" y="140208"/>
                </a:moveTo>
                <a:lnTo>
                  <a:pt x="3284220" y="140208"/>
                </a:lnTo>
                <a:lnTo>
                  <a:pt x="32842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object 177"/>
          <p:cNvSpPr/>
          <p:nvPr/>
        </p:nvSpPr>
        <p:spPr>
          <a:xfrm>
            <a:off x="561960" y="3895560"/>
            <a:ext cx="326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органов брюшной полости, включая гепатобилиарную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object 178"/>
          <p:cNvSpPr/>
          <p:nvPr/>
        </p:nvSpPr>
        <p:spPr>
          <a:xfrm>
            <a:off x="573120" y="4073400"/>
            <a:ext cx="465120" cy="141480"/>
          </a:xfrm>
          <a:custGeom>
            <a:avLst/>
            <a:gdLst/>
            <a:ahLst/>
            <a:rect l="l" t="t" r="r" b="b"/>
            <a:pathLst>
              <a:path w="464819" h="140335">
                <a:moveTo>
                  <a:pt x="0" y="140208"/>
                </a:moveTo>
                <a:lnTo>
                  <a:pt x="464820" y="140208"/>
                </a:lnTo>
                <a:lnTo>
                  <a:pt x="4648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object 179"/>
          <p:cNvSpPr/>
          <p:nvPr/>
        </p:nvSpPr>
        <p:spPr>
          <a:xfrm>
            <a:off x="561960" y="4048200"/>
            <a:ext cx="488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у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object 180"/>
          <p:cNvSpPr/>
          <p:nvPr/>
        </p:nvSpPr>
        <p:spPr>
          <a:xfrm>
            <a:off x="573120" y="4226040"/>
            <a:ext cx="25380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object 181"/>
          <p:cNvSpPr/>
          <p:nvPr/>
        </p:nvSpPr>
        <p:spPr>
          <a:xfrm>
            <a:off x="826920" y="4226040"/>
            <a:ext cx="2194200" cy="141120"/>
          </a:xfrm>
          <a:custGeom>
            <a:avLst/>
            <a:gdLst/>
            <a:ahLst/>
            <a:rect l="l" t="t" r="r" b="b"/>
            <a:pathLst>
              <a:path w="2194560" h="140335">
                <a:moveTo>
                  <a:pt x="0" y="140208"/>
                </a:moveTo>
                <a:lnTo>
                  <a:pt x="2194560" y="140208"/>
                </a:lnTo>
                <a:lnTo>
                  <a:pt x="219456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object 182"/>
          <p:cNvSpPr/>
          <p:nvPr/>
        </p:nvSpPr>
        <p:spPr>
          <a:xfrm>
            <a:off x="814320" y="4200480"/>
            <a:ext cx="2217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лезенку, мезентериальные лимфоузл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object 183"/>
          <p:cNvSpPr/>
          <p:nvPr/>
        </p:nvSpPr>
        <p:spPr>
          <a:xfrm>
            <a:off x="4183200" y="40734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object 184"/>
          <p:cNvSpPr/>
          <p:nvPr/>
        </p:nvSpPr>
        <p:spPr>
          <a:xfrm>
            <a:off x="4140360" y="40482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object 185"/>
          <p:cNvSpPr/>
          <p:nvPr/>
        </p:nvSpPr>
        <p:spPr>
          <a:xfrm>
            <a:off x="501480" y="4378320"/>
            <a:ext cx="316080" cy="141120"/>
          </a:xfrm>
          <a:custGeom>
            <a:avLst/>
            <a:gdLst/>
            <a:ahLst/>
            <a:rect l="l" t="t" r="r" b="b"/>
            <a:pathLst>
              <a:path w="315594" h="140335">
                <a:moveTo>
                  <a:pt x="0" y="140208"/>
                </a:moveTo>
                <a:lnTo>
                  <a:pt x="315468" y="140208"/>
                </a:lnTo>
                <a:lnTo>
                  <a:pt x="3154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object 186"/>
          <p:cNvSpPr/>
          <p:nvPr/>
        </p:nvSpPr>
        <p:spPr>
          <a:xfrm>
            <a:off x="817560" y="4378320"/>
            <a:ext cx="2181240" cy="141120"/>
          </a:xfrm>
          <a:custGeom>
            <a:avLst/>
            <a:gdLst/>
            <a:ahLst/>
            <a:rect l="l" t="t" r="r" b="b"/>
            <a:pathLst>
              <a:path w="2181225" h="140335">
                <a:moveTo>
                  <a:pt x="0" y="140208"/>
                </a:moveTo>
                <a:lnTo>
                  <a:pt x="2180844" y="140208"/>
                </a:lnTo>
                <a:lnTo>
                  <a:pt x="21808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object 187"/>
          <p:cNvSpPr/>
          <p:nvPr/>
        </p:nvSpPr>
        <p:spPr>
          <a:xfrm>
            <a:off x="804960" y="4352760"/>
            <a:ext cx="2206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на наличие свободной жидкост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object 188"/>
          <p:cNvSpPr/>
          <p:nvPr/>
        </p:nvSpPr>
        <p:spPr>
          <a:xfrm>
            <a:off x="4102200" y="43783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object 189"/>
          <p:cNvSpPr/>
          <p:nvPr/>
        </p:nvSpPr>
        <p:spPr>
          <a:xfrm>
            <a:off x="4091040" y="43527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object 190"/>
          <p:cNvSpPr/>
          <p:nvPr/>
        </p:nvSpPr>
        <p:spPr>
          <a:xfrm>
            <a:off x="501480" y="4530600"/>
            <a:ext cx="708120" cy="141480"/>
          </a:xfrm>
          <a:custGeom>
            <a:avLst/>
            <a:gdLst/>
            <a:ahLst/>
            <a:rect l="l" t="t" r="r" b="b"/>
            <a:pathLst>
              <a:path w="707390" h="140335">
                <a:moveTo>
                  <a:pt x="0" y="140208"/>
                </a:moveTo>
                <a:lnTo>
                  <a:pt x="707136" y="140208"/>
                </a:lnTo>
                <a:lnTo>
                  <a:pt x="7071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object 191"/>
          <p:cNvSpPr/>
          <p:nvPr/>
        </p:nvSpPr>
        <p:spPr>
          <a:xfrm>
            <a:off x="1209600" y="4530600"/>
            <a:ext cx="801720" cy="141480"/>
          </a:xfrm>
          <a:custGeom>
            <a:avLst/>
            <a:gdLst/>
            <a:ahLst/>
            <a:rect l="l" t="t" r="r" b="b"/>
            <a:pathLst>
              <a:path w="802005" h="140335">
                <a:moveTo>
                  <a:pt x="0" y="140208"/>
                </a:moveTo>
                <a:lnTo>
                  <a:pt x="801623" y="140208"/>
                </a:lnTo>
                <a:lnTo>
                  <a:pt x="80162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object 192"/>
          <p:cNvSpPr/>
          <p:nvPr/>
        </p:nvSpPr>
        <p:spPr>
          <a:xfrm>
            <a:off x="1197000" y="4505400"/>
            <a:ext cx="826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ых орган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object 193"/>
          <p:cNvSpPr/>
          <p:nvPr/>
        </p:nvSpPr>
        <p:spPr>
          <a:xfrm>
            <a:off x="4102200" y="45306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object 194"/>
          <p:cNvSpPr/>
          <p:nvPr/>
        </p:nvSpPr>
        <p:spPr>
          <a:xfrm>
            <a:off x="4091040" y="45054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object 195"/>
          <p:cNvSpPr/>
          <p:nvPr/>
        </p:nvSpPr>
        <p:spPr>
          <a:xfrm>
            <a:off x="573120" y="4683240"/>
            <a:ext cx="2052720" cy="141120"/>
          </a:xfrm>
          <a:custGeom>
            <a:avLst/>
            <a:gdLst/>
            <a:ahLst/>
            <a:rect l="l" t="t" r="r" b="b"/>
            <a:pathLst>
              <a:path w="2051685" h="140335">
                <a:moveTo>
                  <a:pt x="0" y="140208"/>
                </a:moveTo>
                <a:lnTo>
                  <a:pt x="2051303" y="140208"/>
                </a:lnTo>
                <a:lnTo>
                  <a:pt x="205130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object 196"/>
          <p:cNvSpPr/>
          <p:nvPr/>
        </p:nvSpPr>
        <p:spPr>
          <a:xfrm>
            <a:off x="561960" y="4657680"/>
            <a:ext cx="207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женских половых органов,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object 197"/>
          <p:cNvSpPr/>
          <p:nvPr/>
        </p:nvSpPr>
        <p:spPr>
          <a:xfrm>
            <a:off x="4183200" y="46832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object 198"/>
          <p:cNvSpPr/>
          <p:nvPr/>
        </p:nvSpPr>
        <p:spPr>
          <a:xfrm>
            <a:off x="4140360" y="46576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object 199"/>
          <p:cNvSpPr/>
          <p:nvPr/>
        </p:nvSpPr>
        <p:spPr>
          <a:xfrm>
            <a:off x="682560" y="4835520"/>
            <a:ext cx="92160" cy="14112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object 200"/>
          <p:cNvSpPr/>
          <p:nvPr/>
        </p:nvSpPr>
        <p:spPr>
          <a:xfrm>
            <a:off x="774720" y="4835520"/>
            <a:ext cx="2235240" cy="141120"/>
          </a:xfrm>
          <a:custGeom>
            <a:avLst/>
            <a:gdLst/>
            <a:ahLst/>
            <a:rect l="l" t="t" r="r" b="b"/>
            <a:pathLst>
              <a:path w="2234565" h="140335">
                <a:moveTo>
                  <a:pt x="0" y="140208"/>
                </a:moveTo>
                <a:lnTo>
                  <a:pt x="2234184" y="140208"/>
                </a:lnTo>
                <a:lnTo>
                  <a:pt x="22341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object 201"/>
          <p:cNvSpPr/>
          <p:nvPr/>
        </p:nvSpPr>
        <p:spPr>
          <a:xfrm>
            <a:off x="762120" y="4809960"/>
            <a:ext cx="2257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трансвагинально не беременны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object 202"/>
          <p:cNvSpPr/>
          <p:nvPr/>
        </p:nvSpPr>
        <p:spPr>
          <a:xfrm>
            <a:off x="4102200" y="48355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object 203"/>
          <p:cNvSpPr/>
          <p:nvPr/>
        </p:nvSpPr>
        <p:spPr>
          <a:xfrm>
            <a:off x="4091040" y="48099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object 204"/>
          <p:cNvSpPr/>
          <p:nvPr/>
        </p:nvSpPr>
        <p:spPr>
          <a:xfrm>
            <a:off x="1133640" y="4987800"/>
            <a:ext cx="125280" cy="141480"/>
          </a:xfrm>
          <a:custGeom>
            <a:avLst/>
            <a:gdLst/>
            <a:ahLst/>
            <a:rect l="l" t="t" r="r" b="b"/>
            <a:pathLst>
              <a:path w="125094" h="140335">
                <a:moveTo>
                  <a:pt x="0" y="140208"/>
                </a:moveTo>
                <a:lnTo>
                  <a:pt x="124968" y="140208"/>
                </a:lnTo>
                <a:lnTo>
                  <a:pt x="1249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object 205"/>
          <p:cNvSpPr/>
          <p:nvPr/>
        </p:nvSpPr>
        <p:spPr>
          <a:xfrm>
            <a:off x="1257480" y="4987800"/>
            <a:ext cx="1842840" cy="141480"/>
          </a:xfrm>
          <a:custGeom>
            <a:avLst/>
            <a:gdLst/>
            <a:ahLst/>
            <a:rect l="l" t="t" r="r" b="b"/>
            <a:pathLst>
              <a:path w="1842770" h="140335">
                <a:moveTo>
                  <a:pt x="0" y="140208"/>
                </a:moveTo>
                <a:lnTo>
                  <a:pt x="1842515" y="140208"/>
                </a:lnTo>
                <a:lnTo>
                  <a:pt x="18425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object 206"/>
          <p:cNvSpPr/>
          <p:nvPr/>
        </p:nvSpPr>
        <p:spPr>
          <a:xfrm>
            <a:off x="1246320" y="4962600"/>
            <a:ext cx="1865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 время беременности (из стр. 5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object 207"/>
          <p:cNvSpPr/>
          <p:nvPr/>
        </p:nvSpPr>
        <p:spPr>
          <a:xfrm>
            <a:off x="4102200" y="49878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object 208"/>
          <p:cNvSpPr/>
          <p:nvPr/>
        </p:nvSpPr>
        <p:spPr>
          <a:xfrm>
            <a:off x="4091040" y="49626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object 209"/>
          <p:cNvSpPr/>
          <p:nvPr/>
        </p:nvSpPr>
        <p:spPr>
          <a:xfrm>
            <a:off x="8223120" y="49878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object 210"/>
          <p:cNvSpPr/>
          <p:nvPr/>
        </p:nvSpPr>
        <p:spPr>
          <a:xfrm>
            <a:off x="8211960" y="49626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object 211"/>
          <p:cNvSpPr/>
          <p:nvPr/>
        </p:nvSpPr>
        <p:spPr>
          <a:xfrm>
            <a:off x="573120" y="5140440"/>
            <a:ext cx="3251160" cy="141120"/>
          </a:xfrm>
          <a:custGeom>
            <a:avLst/>
            <a:gdLst/>
            <a:ahLst/>
            <a:rect l="l" t="t" r="r" b="b"/>
            <a:pathLst>
              <a:path w="3251200" h="140335">
                <a:moveTo>
                  <a:pt x="0" y="140208"/>
                </a:moveTo>
                <a:lnTo>
                  <a:pt x="3250691" y="140208"/>
                </a:lnTo>
                <a:lnTo>
                  <a:pt x="325069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object 212"/>
          <p:cNvSpPr/>
          <p:nvPr/>
        </p:nvSpPr>
        <p:spPr>
          <a:xfrm>
            <a:off x="561960" y="5114880"/>
            <a:ext cx="3241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почек, надпочечников, забрюшинного пространства 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object 213"/>
          <p:cNvSpPr/>
          <p:nvPr/>
        </p:nvSpPr>
        <p:spPr>
          <a:xfrm>
            <a:off x="573120" y="5292720"/>
            <a:ext cx="504720" cy="141120"/>
          </a:xfrm>
          <a:custGeom>
            <a:avLst/>
            <a:gdLst/>
            <a:ahLst/>
            <a:rect l="l" t="t" r="r" b="b"/>
            <a:pathLst>
              <a:path w="504825" h="140335">
                <a:moveTo>
                  <a:pt x="0" y="140208"/>
                </a:moveTo>
                <a:lnTo>
                  <a:pt x="504444" y="140208"/>
                </a:lnTo>
                <a:lnTo>
                  <a:pt x="5044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object 214"/>
          <p:cNvSpPr/>
          <p:nvPr/>
        </p:nvSpPr>
        <p:spPr>
          <a:xfrm>
            <a:off x="561960" y="5267160"/>
            <a:ext cx="528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чев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object 215"/>
          <p:cNvSpPr/>
          <p:nvPr/>
        </p:nvSpPr>
        <p:spPr>
          <a:xfrm>
            <a:off x="573120" y="5445000"/>
            <a:ext cx="284040" cy="141480"/>
          </a:xfrm>
          <a:custGeom>
            <a:avLst/>
            <a:gdLst/>
            <a:ahLst/>
            <a:rect l="l" t="t" r="r" b="b"/>
            <a:pathLst>
              <a:path w="283844" h="140335">
                <a:moveTo>
                  <a:pt x="0" y="140208"/>
                </a:moveTo>
                <a:lnTo>
                  <a:pt x="283464" y="140208"/>
                </a:lnTo>
                <a:lnTo>
                  <a:pt x="2834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object 216"/>
          <p:cNvSpPr/>
          <p:nvPr/>
        </p:nvSpPr>
        <p:spPr>
          <a:xfrm>
            <a:off x="857160" y="5445000"/>
            <a:ext cx="385920" cy="141480"/>
          </a:xfrm>
          <a:custGeom>
            <a:avLst/>
            <a:gdLst/>
            <a:ahLst/>
            <a:rect l="l" t="t" r="r" b="b"/>
            <a:pathLst>
              <a:path w="386080" h="140335">
                <a:moveTo>
                  <a:pt x="0" y="140208"/>
                </a:moveTo>
                <a:lnTo>
                  <a:pt x="385572" y="140208"/>
                </a:lnTo>
                <a:lnTo>
                  <a:pt x="3855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object 217"/>
          <p:cNvSpPr/>
          <p:nvPr/>
        </p:nvSpPr>
        <p:spPr>
          <a:xfrm>
            <a:off x="844560" y="5419800"/>
            <a:ext cx="411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зыр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object 218"/>
          <p:cNvSpPr/>
          <p:nvPr/>
        </p:nvSpPr>
        <p:spPr>
          <a:xfrm>
            <a:off x="4183200" y="5292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object 219"/>
          <p:cNvSpPr/>
          <p:nvPr/>
        </p:nvSpPr>
        <p:spPr>
          <a:xfrm>
            <a:off x="4140360" y="52671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object 220"/>
          <p:cNvSpPr/>
          <p:nvPr/>
        </p:nvSpPr>
        <p:spPr>
          <a:xfrm>
            <a:off x="573120" y="5597640"/>
            <a:ext cx="1919160" cy="141120"/>
          </a:xfrm>
          <a:custGeom>
            <a:avLst/>
            <a:gdLst/>
            <a:ahLst/>
            <a:rect l="l" t="t" r="r" b="b"/>
            <a:pathLst>
              <a:path w="1918970" h="140335">
                <a:moveTo>
                  <a:pt x="0" y="140208"/>
                </a:moveTo>
                <a:lnTo>
                  <a:pt x="1918715" y="140208"/>
                </a:lnTo>
                <a:lnTo>
                  <a:pt x="19187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object 221"/>
          <p:cNvSpPr/>
          <p:nvPr/>
        </p:nvSpPr>
        <p:spPr>
          <a:xfrm>
            <a:off x="561960" y="5572080"/>
            <a:ext cx="1941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предстательной железы,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object 222"/>
          <p:cNvSpPr/>
          <p:nvPr/>
        </p:nvSpPr>
        <p:spPr>
          <a:xfrm>
            <a:off x="4183200" y="55976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object 223"/>
          <p:cNvSpPr/>
          <p:nvPr/>
        </p:nvSpPr>
        <p:spPr>
          <a:xfrm>
            <a:off x="4140360" y="55720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object 224"/>
          <p:cNvSpPr/>
          <p:nvPr/>
        </p:nvSpPr>
        <p:spPr>
          <a:xfrm>
            <a:off x="682560" y="5749920"/>
            <a:ext cx="92160" cy="14112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object 225"/>
          <p:cNvSpPr/>
          <p:nvPr/>
        </p:nvSpPr>
        <p:spPr>
          <a:xfrm>
            <a:off x="774720" y="5749920"/>
            <a:ext cx="1262160" cy="141120"/>
          </a:xfrm>
          <a:custGeom>
            <a:avLst/>
            <a:gdLst/>
            <a:ahLst/>
            <a:rect l="l" t="t" r="r" b="b"/>
            <a:pathLst>
              <a:path w="1262380" h="140335">
                <a:moveTo>
                  <a:pt x="0" y="140208"/>
                </a:moveTo>
                <a:lnTo>
                  <a:pt x="1261872" y="140208"/>
                </a:lnTo>
                <a:lnTo>
                  <a:pt x="12618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object 226"/>
          <p:cNvSpPr/>
          <p:nvPr/>
        </p:nvSpPr>
        <p:spPr>
          <a:xfrm>
            <a:off x="762120" y="5724360"/>
            <a:ext cx="1287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трансректаль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object 227"/>
          <p:cNvSpPr/>
          <p:nvPr/>
        </p:nvSpPr>
        <p:spPr>
          <a:xfrm>
            <a:off x="4102200" y="57499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object 228"/>
          <p:cNvSpPr/>
          <p:nvPr/>
        </p:nvSpPr>
        <p:spPr>
          <a:xfrm>
            <a:off x="4091040" y="57243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object 229"/>
          <p:cNvSpPr/>
          <p:nvPr/>
        </p:nvSpPr>
        <p:spPr>
          <a:xfrm>
            <a:off x="573120" y="5902200"/>
            <a:ext cx="1241280" cy="141480"/>
          </a:xfrm>
          <a:custGeom>
            <a:avLst/>
            <a:gdLst/>
            <a:ahLst/>
            <a:rect l="l" t="t" r="r" b="b"/>
            <a:pathLst>
              <a:path w="1240789" h="140335">
                <a:moveTo>
                  <a:pt x="0" y="140208"/>
                </a:moveTo>
                <a:lnTo>
                  <a:pt x="1240536" y="140208"/>
                </a:lnTo>
                <a:lnTo>
                  <a:pt x="12405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object 230"/>
          <p:cNvSpPr/>
          <p:nvPr/>
        </p:nvSpPr>
        <p:spPr>
          <a:xfrm>
            <a:off x="561960" y="5877000"/>
            <a:ext cx="1263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молочной желез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object 231"/>
          <p:cNvSpPr/>
          <p:nvPr/>
        </p:nvSpPr>
        <p:spPr>
          <a:xfrm>
            <a:off x="4183200" y="59022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object 232"/>
          <p:cNvSpPr/>
          <p:nvPr/>
        </p:nvSpPr>
        <p:spPr>
          <a:xfrm>
            <a:off x="4140360" y="58770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object 233"/>
          <p:cNvSpPr/>
          <p:nvPr/>
        </p:nvSpPr>
        <p:spPr>
          <a:xfrm>
            <a:off x="573120" y="6054840"/>
            <a:ext cx="2359080" cy="141120"/>
          </a:xfrm>
          <a:custGeom>
            <a:avLst/>
            <a:gdLst/>
            <a:ahLst/>
            <a:rect l="l" t="t" r="r" b="b"/>
            <a:pathLst>
              <a:path w="2357755" h="140335">
                <a:moveTo>
                  <a:pt x="0" y="140208"/>
                </a:moveTo>
                <a:lnTo>
                  <a:pt x="2357628" y="140208"/>
                </a:lnTo>
                <a:lnTo>
                  <a:pt x="23576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object 234"/>
          <p:cNvSpPr/>
          <p:nvPr/>
        </p:nvSpPr>
        <p:spPr>
          <a:xfrm>
            <a:off x="561960" y="6029280"/>
            <a:ext cx="2381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щитовидной и паращитовидной желез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object 235"/>
          <p:cNvSpPr/>
          <p:nvPr/>
        </p:nvSpPr>
        <p:spPr>
          <a:xfrm>
            <a:off x="4183200" y="60548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object 236"/>
          <p:cNvSpPr/>
          <p:nvPr/>
        </p:nvSpPr>
        <p:spPr>
          <a:xfrm>
            <a:off x="4140360" y="60292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object 237"/>
          <p:cNvSpPr/>
          <p:nvPr/>
        </p:nvSpPr>
        <p:spPr>
          <a:xfrm>
            <a:off x="573120" y="6207120"/>
            <a:ext cx="644400" cy="141120"/>
          </a:xfrm>
          <a:custGeom>
            <a:avLst/>
            <a:gdLst/>
            <a:ahLst/>
            <a:rect l="l" t="t" r="r" b="b"/>
            <a:pathLst>
              <a:path w="643255" h="140335">
                <a:moveTo>
                  <a:pt x="0" y="140208"/>
                </a:moveTo>
                <a:lnTo>
                  <a:pt x="643128" y="140208"/>
                </a:lnTo>
                <a:lnTo>
                  <a:pt x="6431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object 238"/>
          <p:cNvSpPr/>
          <p:nvPr/>
        </p:nvSpPr>
        <p:spPr>
          <a:xfrm>
            <a:off x="1238400" y="62071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object 239"/>
          <p:cNvSpPr/>
          <p:nvPr/>
        </p:nvSpPr>
        <p:spPr>
          <a:xfrm>
            <a:off x="1257480" y="6207120"/>
            <a:ext cx="1079280" cy="141120"/>
          </a:xfrm>
          <a:custGeom>
            <a:avLst/>
            <a:gdLst/>
            <a:ahLst/>
            <a:rect l="l" t="t" r="r" b="b"/>
            <a:pathLst>
              <a:path w="1079500" h="140335">
                <a:moveTo>
                  <a:pt x="0" y="140208"/>
                </a:moveTo>
                <a:lnTo>
                  <a:pt x="1078992" y="140208"/>
                </a:lnTo>
                <a:lnTo>
                  <a:pt x="107899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object 240"/>
          <p:cNvSpPr/>
          <p:nvPr/>
        </p:nvSpPr>
        <p:spPr>
          <a:xfrm>
            <a:off x="561960" y="6181560"/>
            <a:ext cx="1787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костно-мышечной систем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object 241"/>
          <p:cNvSpPr/>
          <p:nvPr/>
        </p:nvSpPr>
        <p:spPr>
          <a:xfrm>
            <a:off x="4119480" y="62071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object 242"/>
          <p:cNvSpPr/>
          <p:nvPr/>
        </p:nvSpPr>
        <p:spPr>
          <a:xfrm>
            <a:off x="4106880" y="61815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object 243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AutoShape 1"/>
          <p:cNvSpPr/>
          <p:nvPr/>
        </p:nvSpPr>
        <p:spPr>
          <a:xfrm>
            <a:off x="4572000" y="2438280"/>
            <a:ext cx="4343400" cy="1143000"/>
          </a:xfrm>
          <a:prstGeom prst="wedgeRoundRectCallout">
            <a:avLst>
              <a:gd name="adj1" fmla="val -30453"/>
              <a:gd name="adj2" fmla="val 51249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УЗИ брюшной полости (строка 04) входят: исследования гепатобилиарной системы (печени, желчного пузыря, поджелудочной железы),  селезенки, полых органов (пищевода, желудка, кишечника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AutoShape 2"/>
          <p:cNvSpPr/>
          <p:nvPr/>
        </p:nvSpPr>
        <p:spPr>
          <a:xfrm>
            <a:off x="4568760" y="4059360"/>
            <a:ext cx="4343400" cy="533160"/>
          </a:xfrm>
          <a:prstGeom prst="wedgeRoundRectCallout">
            <a:avLst>
              <a:gd name="adj1" fmla="val -38013"/>
              <a:gd name="adj2" fmla="val 42458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исследования сосудов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ует показывать в строке 2.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AutoShape 3"/>
          <p:cNvSpPr/>
          <p:nvPr/>
        </p:nvSpPr>
        <p:spPr>
          <a:xfrm>
            <a:off x="4572000" y="5486400"/>
            <a:ext cx="4343400" cy="762120"/>
          </a:xfrm>
          <a:prstGeom prst="wedgeRoundRectCallout">
            <a:avLst>
              <a:gd name="adj1" fmla="val -28125"/>
              <a:gd name="adj2" fmla="val 35416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рочие УЗ-исследования (строка 19)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АТЬ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object 2"/>
          <p:cNvSpPr/>
          <p:nvPr/>
        </p:nvSpPr>
        <p:spPr>
          <a:xfrm>
            <a:off x="671508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object 2"/>
          <p:cNvSpPr/>
          <p:nvPr/>
        </p:nvSpPr>
        <p:spPr>
          <a:xfrm>
            <a:off x="684360" y="2560680"/>
            <a:ext cx="360" cy="142920"/>
          </a:xfrm>
          <a:custGeom>
            <a:avLst/>
            <a:gdLst/>
            <a:ahLst/>
            <a:rect l="l" t="t" r="r" b="b"/>
            <a:pathLst>
              <a:path w="0" h="142239">
                <a:moveTo>
                  <a:pt x="0" y="0"/>
                </a:moveTo>
                <a:lnTo>
                  <a:pt x="0" y="14166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object 3"/>
          <p:cNvSpPr/>
          <p:nvPr/>
        </p:nvSpPr>
        <p:spPr>
          <a:xfrm>
            <a:off x="684360" y="28432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object 4"/>
          <p:cNvSpPr/>
          <p:nvPr/>
        </p:nvSpPr>
        <p:spPr>
          <a:xfrm>
            <a:off x="684360" y="2995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object 5"/>
          <p:cNvSpPr/>
          <p:nvPr/>
        </p:nvSpPr>
        <p:spPr>
          <a:xfrm>
            <a:off x="684360" y="31478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object 6"/>
          <p:cNvSpPr/>
          <p:nvPr/>
        </p:nvSpPr>
        <p:spPr>
          <a:xfrm>
            <a:off x="684360" y="33004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object 7"/>
          <p:cNvSpPr/>
          <p:nvPr/>
        </p:nvSpPr>
        <p:spPr>
          <a:xfrm>
            <a:off x="684360" y="34527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object 8"/>
          <p:cNvSpPr/>
          <p:nvPr/>
        </p:nvSpPr>
        <p:spPr>
          <a:xfrm>
            <a:off x="684360" y="36050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object 9"/>
          <p:cNvSpPr/>
          <p:nvPr/>
        </p:nvSpPr>
        <p:spPr>
          <a:xfrm>
            <a:off x="684360" y="37576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object 10"/>
          <p:cNvSpPr/>
          <p:nvPr/>
        </p:nvSpPr>
        <p:spPr>
          <a:xfrm>
            <a:off x="684360" y="39099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object 11"/>
          <p:cNvSpPr/>
          <p:nvPr/>
        </p:nvSpPr>
        <p:spPr>
          <a:xfrm>
            <a:off x="684360" y="40622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object 12"/>
          <p:cNvSpPr/>
          <p:nvPr/>
        </p:nvSpPr>
        <p:spPr>
          <a:xfrm>
            <a:off x="684360" y="42148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object 13"/>
          <p:cNvSpPr/>
          <p:nvPr/>
        </p:nvSpPr>
        <p:spPr>
          <a:xfrm>
            <a:off x="684360" y="43671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object 14"/>
          <p:cNvSpPr/>
          <p:nvPr/>
        </p:nvSpPr>
        <p:spPr>
          <a:xfrm>
            <a:off x="684360" y="45194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object 15"/>
          <p:cNvSpPr/>
          <p:nvPr/>
        </p:nvSpPr>
        <p:spPr>
          <a:xfrm>
            <a:off x="684360" y="46720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object 16"/>
          <p:cNvSpPr/>
          <p:nvPr/>
        </p:nvSpPr>
        <p:spPr>
          <a:xfrm>
            <a:off x="684360" y="48243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object 17"/>
          <p:cNvSpPr/>
          <p:nvPr/>
        </p:nvSpPr>
        <p:spPr>
          <a:xfrm>
            <a:off x="684360" y="4976640"/>
            <a:ext cx="360" cy="165240"/>
          </a:xfrm>
          <a:custGeom>
            <a:avLst/>
            <a:gdLst/>
            <a:ahLst/>
            <a:rect l="l" t="t" r="r" b="b"/>
            <a:pathLst>
              <a:path w="0" h="165100">
                <a:moveTo>
                  <a:pt x="0" y="0"/>
                </a:moveTo>
                <a:lnTo>
                  <a:pt x="0" y="1645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object 18"/>
          <p:cNvSpPr/>
          <p:nvPr/>
        </p:nvSpPr>
        <p:spPr>
          <a:xfrm>
            <a:off x="684360" y="5281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object 20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846440" y="178920"/>
            <a:ext cx="54734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85" name="object 22"/>
          <p:cNvSpPr/>
          <p:nvPr/>
        </p:nvSpPr>
        <p:spPr>
          <a:xfrm>
            <a:off x="7445520" y="936720"/>
            <a:ext cx="12236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object 23"/>
          <p:cNvSpPr/>
          <p:nvPr/>
        </p:nvSpPr>
        <p:spPr>
          <a:xfrm>
            <a:off x="393876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object 24"/>
          <p:cNvSpPr/>
          <p:nvPr/>
        </p:nvSpPr>
        <p:spPr>
          <a:xfrm>
            <a:off x="442908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object 25"/>
          <p:cNvSpPr/>
          <p:nvPr/>
        </p:nvSpPr>
        <p:spPr>
          <a:xfrm>
            <a:off x="518004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object 26"/>
          <p:cNvSpPr/>
          <p:nvPr/>
        </p:nvSpPr>
        <p:spPr>
          <a:xfrm>
            <a:off x="6243480" y="1467000"/>
            <a:ext cx="360" cy="3975120"/>
          </a:xfrm>
          <a:custGeom>
            <a:avLst/>
            <a:gdLst/>
            <a:ahLst/>
            <a:rect l="l" t="t" r="r" b="b"/>
            <a:pathLst>
              <a:path w="0" h="3975100">
                <a:moveTo>
                  <a:pt x="0" y="0"/>
                </a:moveTo>
                <a:lnTo>
                  <a:pt x="0" y="39751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object 27"/>
          <p:cNvSpPr/>
          <p:nvPr/>
        </p:nvSpPr>
        <p:spPr>
          <a:xfrm>
            <a:off x="7018200" y="1467000"/>
            <a:ext cx="360" cy="3975120"/>
          </a:xfrm>
          <a:custGeom>
            <a:avLst/>
            <a:gdLst/>
            <a:ahLst/>
            <a:rect l="l" t="t" r="r" b="b"/>
            <a:pathLst>
              <a:path w="0" h="3975100">
                <a:moveTo>
                  <a:pt x="0" y="0"/>
                </a:moveTo>
                <a:lnTo>
                  <a:pt x="0" y="39751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object 28"/>
          <p:cNvSpPr/>
          <p:nvPr/>
        </p:nvSpPr>
        <p:spPr>
          <a:xfrm>
            <a:off x="779148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object 29"/>
          <p:cNvSpPr/>
          <p:nvPr/>
        </p:nvSpPr>
        <p:spPr>
          <a:xfrm>
            <a:off x="5173560" y="1473120"/>
            <a:ext cx="2624400" cy="360"/>
          </a:xfrm>
          <a:custGeom>
            <a:avLst/>
            <a:gdLst/>
            <a:ahLst/>
            <a:rect l="l" t="t" r="r" b="b"/>
            <a:pathLst>
              <a:path w="2623820" h="0">
                <a:moveTo>
                  <a:pt x="0" y="0"/>
                </a:moveTo>
                <a:lnTo>
                  <a:pt x="26238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object 30"/>
          <p:cNvSpPr/>
          <p:nvPr/>
        </p:nvSpPr>
        <p:spPr>
          <a:xfrm>
            <a:off x="461880" y="2540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object 31"/>
          <p:cNvSpPr/>
          <p:nvPr/>
        </p:nvSpPr>
        <p:spPr>
          <a:xfrm>
            <a:off x="461880" y="2692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object 32"/>
          <p:cNvSpPr/>
          <p:nvPr/>
        </p:nvSpPr>
        <p:spPr>
          <a:xfrm>
            <a:off x="461880" y="2844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object 33"/>
          <p:cNvSpPr/>
          <p:nvPr/>
        </p:nvSpPr>
        <p:spPr>
          <a:xfrm>
            <a:off x="461880" y="29973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object 34"/>
          <p:cNvSpPr/>
          <p:nvPr/>
        </p:nvSpPr>
        <p:spPr>
          <a:xfrm>
            <a:off x="461880" y="3149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object 35"/>
          <p:cNvSpPr/>
          <p:nvPr/>
        </p:nvSpPr>
        <p:spPr>
          <a:xfrm>
            <a:off x="461880" y="3301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object 36"/>
          <p:cNvSpPr/>
          <p:nvPr/>
        </p:nvSpPr>
        <p:spPr>
          <a:xfrm>
            <a:off x="461880" y="3454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object 37"/>
          <p:cNvSpPr/>
          <p:nvPr/>
        </p:nvSpPr>
        <p:spPr>
          <a:xfrm>
            <a:off x="461880" y="3606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object 38"/>
          <p:cNvSpPr/>
          <p:nvPr/>
        </p:nvSpPr>
        <p:spPr>
          <a:xfrm>
            <a:off x="461880" y="40640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object 39"/>
          <p:cNvSpPr/>
          <p:nvPr/>
        </p:nvSpPr>
        <p:spPr>
          <a:xfrm>
            <a:off x="461880" y="42163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object 40"/>
          <p:cNvSpPr/>
          <p:nvPr/>
        </p:nvSpPr>
        <p:spPr>
          <a:xfrm>
            <a:off x="461880" y="43689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object 41"/>
          <p:cNvSpPr/>
          <p:nvPr/>
        </p:nvSpPr>
        <p:spPr>
          <a:xfrm>
            <a:off x="461880" y="45212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object 42"/>
          <p:cNvSpPr/>
          <p:nvPr/>
        </p:nvSpPr>
        <p:spPr>
          <a:xfrm>
            <a:off x="461880" y="46735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object 43"/>
          <p:cNvSpPr/>
          <p:nvPr/>
        </p:nvSpPr>
        <p:spPr>
          <a:xfrm>
            <a:off x="461880" y="4826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object 44"/>
          <p:cNvSpPr/>
          <p:nvPr/>
        </p:nvSpPr>
        <p:spPr>
          <a:xfrm>
            <a:off x="461880" y="5130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object 45"/>
          <p:cNvSpPr/>
          <p:nvPr/>
        </p:nvSpPr>
        <p:spPr>
          <a:xfrm>
            <a:off x="461880" y="52833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object 46"/>
          <p:cNvSpPr/>
          <p:nvPr/>
        </p:nvSpPr>
        <p:spPr>
          <a:xfrm>
            <a:off x="46836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object 47"/>
          <p:cNvSpPr/>
          <p:nvPr/>
        </p:nvSpPr>
        <p:spPr>
          <a:xfrm>
            <a:off x="874872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object 48"/>
          <p:cNvSpPr/>
          <p:nvPr/>
        </p:nvSpPr>
        <p:spPr>
          <a:xfrm>
            <a:off x="461880" y="1397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object 49"/>
          <p:cNvSpPr/>
          <p:nvPr/>
        </p:nvSpPr>
        <p:spPr>
          <a:xfrm>
            <a:off x="461880" y="5435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object 50"/>
          <p:cNvSpPr/>
          <p:nvPr/>
        </p:nvSpPr>
        <p:spPr>
          <a:xfrm>
            <a:off x="1806480" y="1901880"/>
            <a:ext cx="83052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менован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object 51"/>
          <p:cNvSpPr/>
          <p:nvPr/>
        </p:nvSpPr>
        <p:spPr>
          <a:xfrm>
            <a:off x="4122720" y="1825560"/>
            <a:ext cx="152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object 52"/>
          <p:cNvSpPr/>
          <p:nvPr/>
        </p:nvSpPr>
        <p:spPr>
          <a:xfrm>
            <a:off x="3998880" y="1978200"/>
            <a:ext cx="380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object 53"/>
          <p:cNvSpPr/>
          <p:nvPr/>
        </p:nvSpPr>
        <p:spPr>
          <a:xfrm>
            <a:off x="4646520" y="1901880"/>
            <a:ext cx="314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object 54"/>
          <p:cNvSpPr/>
          <p:nvPr/>
        </p:nvSpPr>
        <p:spPr>
          <a:xfrm>
            <a:off x="6389640" y="1436760"/>
            <a:ext cx="190440" cy="360"/>
          </a:xfrm>
          <a:custGeom>
            <a:avLst/>
            <a:gdLst/>
            <a:ahLst/>
            <a:rect l="l" t="t" r="r" b="b"/>
            <a:pathLst>
              <a:path w="190500" h="0">
                <a:moveTo>
                  <a:pt x="0" y="0"/>
                </a:moveTo>
                <a:lnTo>
                  <a:pt x="190500" y="0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object 55"/>
          <p:cNvSpPr/>
          <p:nvPr/>
        </p:nvSpPr>
        <p:spPr>
          <a:xfrm>
            <a:off x="6378480" y="1382760"/>
            <a:ext cx="21600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object 56"/>
          <p:cNvSpPr/>
          <p:nvPr/>
        </p:nvSpPr>
        <p:spPr>
          <a:xfrm>
            <a:off x="8056440" y="1444680"/>
            <a:ext cx="45900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гр. 6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object 57"/>
          <p:cNvSpPr/>
          <p:nvPr/>
        </p:nvSpPr>
        <p:spPr>
          <a:xfrm>
            <a:off x="7883640" y="1596960"/>
            <a:ext cx="8110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object 58"/>
          <p:cNvSpPr/>
          <p:nvPr/>
        </p:nvSpPr>
        <p:spPr>
          <a:xfrm>
            <a:off x="8209080" y="1749600"/>
            <a:ext cx="155520" cy="139680"/>
          </a:xfrm>
          <a:custGeom>
            <a:avLst/>
            <a:gdLst/>
            <a:ahLst/>
            <a:rect l="l" t="t" r="r" b="b"/>
            <a:pathLst>
              <a:path w="155575" h="140335">
                <a:moveTo>
                  <a:pt x="0" y="140208"/>
                </a:moveTo>
                <a:lnTo>
                  <a:pt x="155448" y="140208"/>
                </a:lnTo>
                <a:lnTo>
                  <a:pt x="155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object 59"/>
          <p:cNvSpPr/>
          <p:nvPr/>
        </p:nvSpPr>
        <p:spPr>
          <a:xfrm>
            <a:off x="8197920" y="1724040"/>
            <a:ext cx="147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object 60"/>
          <p:cNvSpPr/>
          <p:nvPr/>
        </p:nvSpPr>
        <p:spPr>
          <a:xfrm>
            <a:off x="7869240" y="1901880"/>
            <a:ext cx="841320" cy="13968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object 61"/>
          <p:cNvSpPr/>
          <p:nvPr/>
        </p:nvSpPr>
        <p:spPr>
          <a:xfrm>
            <a:off x="7858080" y="1876320"/>
            <a:ext cx="82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жизнен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object 62"/>
          <p:cNvSpPr/>
          <p:nvPr/>
        </p:nvSpPr>
        <p:spPr>
          <a:xfrm>
            <a:off x="8007480" y="2054160"/>
            <a:ext cx="485640" cy="139680"/>
          </a:xfrm>
          <a:custGeom>
            <a:avLst/>
            <a:gdLst/>
            <a:ahLst/>
            <a:rect l="l" t="t" r="r" b="b"/>
            <a:pathLst>
              <a:path w="485140" h="140335">
                <a:moveTo>
                  <a:pt x="0" y="140208"/>
                </a:moveTo>
                <a:lnTo>
                  <a:pt x="484631" y="140208"/>
                </a:lnTo>
                <a:lnTo>
                  <a:pt x="4846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object 63"/>
          <p:cNvSpPr/>
          <p:nvPr/>
        </p:nvSpPr>
        <p:spPr>
          <a:xfrm>
            <a:off x="8512200" y="2054160"/>
            <a:ext cx="360" cy="1396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object 64"/>
          <p:cNvSpPr/>
          <p:nvPr/>
        </p:nvSpPr>
        <p:spPr>
          <a:xfrm>
            <a:off x="7996320" y="2028960"/>
            <a:ext cx="55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лого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object 65"/>
          <p:cNvSpPr/>
          <p:nvPr/>
        </p:nvSpPr>
        <p:spPr>
          <a:xfrm>
            <a:off x="7854840" y="2181240"/>
            <a:ext cx="81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object 66"/>
          <p:cNvSpPr/>
          <p:nvPr/>
        </p:nvSpPr>
        <p:spPr>
          <a:xfrm>
            <a:off x="7900920" y="2206800"/>
            <a:ext cx="8114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омическ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object 67"/>
          <p:cNvSpPr/>
          <p:nvPr/>
        </p:nvSpPr>
        <p:spPr>
          <a:xfrm>
            <a:off x="7900920" y="2359080"/>
            <a:ext cx="75096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object 68"/>
          <p:cNvSpPr/>
          <p:nvPr/>
        </p:nvSpPr>
        <p:spPr>
          <a:xfrm>
            <a:off x="5681520" y="1482840"/>
            <a:ext cx="90720" cy="141120"/>
          </a:xfrm>
          <a:custGeom>
            <a:avLst/>
            <a:gdLst/>
            <a:ahLst/>
            <a:rect l="l" t="t" r="r" b="b"/>
            <a:pathLst>
              <a:path w="90170" h="140334">
                <a:moveTo>
                  <a:pt x="0" y="140208"/>
                </a:moveTo>
                <a:lnTo>
                  <a:pt x="89915" y="140208"/>
                </a:lnTo>
                <a:lnTo>
                  <a:pt x="899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object 69"/>
          <p:cNvSpPr/>
          <p:nvPr/>
        </p:nvSpPr>
        <p:spPr>
          <a:xfrm>
            <a:off x="5670720" y="1457280"/>
            <a:ext cx="85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object 70"/>
          <p:cNvSpPr/>
          <p:nvPr/>
        </p:nvSpPr>
        <p:spPr>
          <a:xfrm>
            <a:off x="5264280" y="1635120"/>
            <a:ext cx="931680" cy="141120"/>
          </a:xfrm>
          <a:custGeom>
            <a:avLst/>
            <a:gdLst/>
            <a:ahLst/>
            <a:rect l="l" t="t" r="r" b="b"/>
            <a:pathLst>
              <a:path w="931545" h="140335">
                <a:moveTo>
                  <a:pt x="0" y="140208"/>
                </a:moveTo>
                <a:lnTo>
                  <a:pt x="931163" y="140208"/>
                </a:lnTo>
                <a:lnTo>
                  <a:pt x="9311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object 71"/>
          <p:cNvSpPr/>
          <p:nvPr/>
        </p:nvSpPr>
        <p:spPr>
          <a:xfrm>
            <a:off x="5253120" y="1609560"/>
            <a:ext cx="919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азделениях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5330880" y="1776240"/>
          <a:ext cx="785880" cy="457200"/>
        </p:xfrm>
        <a:graphic>
          <a:graphicData uri="http://schemas.openxmlformats.org/drawingml/2006/table">
            <a:tbl>
              <a:tblPr/>
              <a:tblGrid>
                <a:gridCol w="112680"/>
                <a:gridCol w="555480"/>
                <a:gridCol w="117720"/>
              </a:tblGrid>
              <a:tr h="152640">
                <a:tc gridSpan="3">
                  <a:txBody>
                    <a:bodyPr lIns="0" rIns="0" tIns="0" bIns="0" anchor="t">
                      <a:noAutofit/>
                    </a:bodyPr>
                    <a:p>
                      <a:pPr marL="324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казывающи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 gridSpan="3"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у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ь 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6" name="object 73"/>
          <p:cNvSpPr/>
          <p:nvPr/>
        </p:nvSpPr>
        <p:spPr>
          <a:xfrm>
            <a:off x="5321160" y="2244600"/>
            <a:ext cx="816120" cy="141480"/>
          </a:xfrm>
          <a:custGeom>
            <a:avLst/>
            <a:gdLst/>
            <a:ahLst/>
            <a:rect l="l" t="t" r="r" b="b"/>
            <a:pathLst>
              <a:path w="817245" h="140335">
                <a:moveTo>
                  <a:pt x="0" y="140208"/>
                </a:moveTo>
                <a:lnTo>
                  <a:pt x="816863" y="140208"/>
                </a:lnTo>
                <a:lnTo>
                  <a:pt x="8168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object 74"/>
          <p:cNvSpPr/>
          <p:nvPr/>
        </p:nvSpPr>
        <p:spPr>
          <a:xfrm>
            <a:off x="5308560" y="2219400"/>
            <a:ext cx="806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булатор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object 75"/>
          <p:cNvSpPr/>
          <p:nvPr/>
        </p:nvSpPr>
        <p:spPr>
          <a:xfrm>
            <a:off x="5465880" y="2397240"/>
            <a:ext cx="490320" cy="141120"/>
          </a:xfrm>
          <a:custGeom>
            <a:avLst/>
            <a:gdLst/>
            <a:ahLst/>
            <a:rect l="l" t="t" r="r" b="b"/>
            <a:pathLst>
              <a:path w="490854" h="140335">
                <a:moveTo>
                  <a:pt x="0" y="140208"/>
                </a:moveTo>
                <a:lnTo>
                  <a:pt x="490727" y="140208"/>
                </a:lnTo>
                <a:lnTo>
                  <a:pt x="4907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object 76"/>
          <p:cNvSpPr/>
          <p:nvPr/>
        </p:nvSpPr>
        <p:spPr>
          <a:xfrm>
            <a:off x="5452920" y="2371680"/>
            <a:ext cx="51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object 77"/>
          <p:cNvSpPr/>
          <p:nvPr/>
        </p:nvSpPr>
        <p:spPr>
          <a:xfrm>
            <a:off x="6338880" y="1787400"/>
            <a:ext cx="620640" cy="141480"/>
          </a:xfrm>
          <a:custGeom>
            <a:avLst/>
            <a:gdLst/>
            <a:ahLst/>
            <a:rect l="l" t="t" r="r" b="b"/>
            <a:pathLst>
              <a:path w="620395" h="140335">
                <a:moveTo>
                  <a:pt x="0" y="140208"/>
                </a:moveTo>
                <a:lnTo>
                  <a:pt x="620268" y="140208"/>
                </a:lnTo>
                <a:lnTo>
                  <a:pt x="6202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object 78"/>
          <p:cNvSpPr/>
          <p:nvPr/>
        </p:nvSpPr>
        <p:spPr>
          <a:xfrm>
            <a:off x="6327720" y="1762200"/>
            <a:ext cx="608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object 79"/>
          <p:cNvSpPr/>
          <p:nvPr/>
        </p:nvSpPr>
        <p:spPr>
          <a:xfrm>
            <a:off x="6383160" y="1940040"/>
            <a:ext cx="528840" cy="141120"/>
          </a:xfrm>
          <a:custGeom>
            <a:avLst/>
            <a:gdLst/>
            <a:ahLst/>
            <a:rect l="l" t="t" r="r" b="b"/>
            <a:pathLst>
              <a:path w="528954" h="140335">
                <a:moveTo>
                  <a:pt x="0" y="140208"/>
                </a:moveTo>
                <a:lnTo>
                  <a:pt x="528827" y="140208"/>
                </a:lnTo>
                <a:lnTo>
                  <a:pt x="5288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object 80"/>
          <p:cNvSpPr/>
          <p:nvPr/>
        </p:nvSpPr>
        <p:spPr>
          <a:xfrm>
            <a:off x="6372360" y="1914480"/>
            <a:ext cx="5173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евн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object 81"/>
          <p:cNvSpPr/>
          <p:nvPr/>
        </p:nvSpPr>
        <p:spPr>
          <a:xfrm>
            <a:off x="6326280" y="2092320"/>
            <a:ext cx="609480" cy="141120"/>
          </a:xfrm>
          <a:custGeom>
            <a:avLst/>
            <a:gdLst/>
            <a:ahLst/>
            <a:rect l="l" t="t" r="r" b="b"/>
            <a:pathLst>
              <a:path w="609600" h="140335">
                <a:moveTo>
                  <a:pt x="0" y="140208"/>
                </a:moveTo>
                <a:lnTo>
                  <a:pt x="609599" y="140208"/>
                </a:lnTo>
                <a:lnTo>
                  <a:pt x="60959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object 82"/>
          <p:cNvSpPr/>
          <p:nvPr/>
        </p:nvSpPr>
        <p:spPr>
          <a:xfrm>
            <a:off x="6313320" y="2066760"/>
            <a:ext cx="63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ционар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object 83"/>
          <p:cNvSpPr/>
          <p:nvPr/>
        </p:nvSpPr>
        <p:spPr>
          <a:xfrm>
            <a:off x="7107120" y="1558800"/>
            <a:ext cx="630360" cy="141480"/>
          </a:xfrm>
          <a:custGeom>
            <a:avLst/>
            <a:gdLst/>
            <a:ahLst/>
            <a:rect l="l" t="t" r="r" b="b"/>
            <a:pathLst>
              <a:path w="629920" h="140335">
                <a:moveTo>
                  <a:pt x="0" y="140208"/>
                </a:moveTo>
                <a:lnTo>
                  <a:pt x="629412" y="140208"/>
                </a:lnTo>
                <a:lnTo>
                  <a:pt x="6294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object 84"/>
          <p:cNvSpPr/>
          <p:nvPr/>
        </p:nvSpPr>
        <p:spPr>
          <a:xfrm>
            <a:off x="7095960" y="1533600"/>
            <a:ext cx="61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е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object 85"/>
          <p:cNvSpPr/>
          <p:nvPr/>
        </p:nvSpPr>
        <p:spPr>
          <a:xfrm>
            <a:off x="7059600" y="1711440"/>
            <a:ext cx="690480" cy="141120"/>
          </a:xfrm>
          <a:custGeom>
            <a:avLst/>
            <a:gdLst/>
            <a:ahLst/>
            <a:rect l="l" t="t" r="r" b="b"/>
            <a:pathLst>
              <a:path w="690879" h="140335">
                <a:moveTo>
                  <a:pt x="0" y="140208"/>
                </a:moveTo>
                <a:lnTo>
                  <a:pt x="690372" y="140208"/>
                </a:lnTo>
                <a:lnTo>
                  <a:pt x="6903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object 86"/>
          <p:cNvSpPr/>
          <p:nvPr/>
        </p:nvSpPr>
        <p:spPr>
          <a:xfrm>
            <a:off x="7048440" y="1685880"/>
            <a:ext cx="716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вецион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object 87"/>
          <p:cNvSpPr/>
          <p:nvPr/>
        </p:nvSpPr>
        <p:spPr>
          <a:xfrm>
            <a:off x="708516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object 88"/>
          <p:cNvSpPr/>
          <p:nvPr/>
        </p:nvSpPr>
        <p:spPr>
          <a:xfrm>
            <a:off x="7105680" y="1863720"/>
            <a:ext cx="214200" cy="141120"/>
          </a:xfrm>
          <a:custGeom>
            <a:avLst/>
            <a:gdLst/>
            <a:ahLst/>
            <a:rect l="l" t="t" r="r" b="b"/>
            <a:pathLst>
              <a:path w="215265" h="140335">
                <a:moveTo>
                  <a:pt x="0" y="140208"/>
                </a:moveTo>
                <a:lnTo>
                  <a:pt x="214883" y="140208"/>
                </a:lnTo>
                <a:lnTo>
                  <a:pt x="214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object 89"/>
          <p:cNvSpPr/>
          <p:nvPr/>
        </p:nvSpPr>
        <p:spPr>
          <a:xfrm>
            <a:off x="73375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object 90"/>
          <p:cNvSpPr/>
          <p:nvPr/>
        </p:nvSpPr>
        <p:spPr>
          <a:xfrm>
            <a:off x="7354800" y="1863720"/>
            <a:ext cx="351000" cy="141120"/>
          </a:xfrm>
          <a:custGeom>
            <a:avLst/>
            <a:gdLst/>
            <a:ahLst/>
            <a:rect l="l" t="t" r="r" b="b"/>
            <a:pathLst>
              <a:path w="350520" h="140335">
                <a:moveTo>
                  <a:pt x="0" y="140208"/>
                </a:moveTo>
                <a:lnTo>
                  <a:pt x="350520" y="140208"/>
                </a:lnTo>
                <a:lnTo>
                  <a:pt x="3505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object 91"/>
          <p:cNvSpPr/>
          <p:nvPr/>
        </p:nvSpPr>
        <p:spPr>
          <a:xfrm>
            <a:off x="77263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object 92"/>
          <p:cNvSpPr/>
          <p:nvPr/>
        </p:nvSpPr>
        <p:spPr>
          <a:xfrm>
            <a:off x="7051680" y="1838160"/>
            <a:ext cx="709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ных вмеша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object 93"/>
          <p:cNvSpPr/>
          <p:nvPr/>
        </p:nvSpPr>
        <p:spPr>
          <a:xfrm>
            <a:off x="7089840" y="2016000"/>
            <a:ext cx="403200" cy="141480"/>
          </a:xfrm>
          <a:custGeom>
            <a:avLst/>
            <a:gdLst/>
            <a:ahLst/>
            <a:rect l="l" t="t" r="r" b="b"/>
            <a:pathLst>
              <a:path w="402590" h="140335">
                <a:moveTo>
                  <a:pt x="0" y="140208"/>
                </a:moveTo>
                <a:lnTo>
                  <a:pt x="402335" y="140208"/>
                </a:lnTo>
                <a:lnTo>
                  <a:pt x="40233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object 94"/>
          <p:cNvSpPr/>
          <p:nvPr/>
        </p:nvSpPr>
        <p:spPr>
          <a:xfrm>
            <a:off x="7508880" y="20160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34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object 95"/>
          <p:cNvSpPr/>
          <p:nvPr/>
        </p:nvSpPr>
        <p:spPr>
          <a:xfrm>
            <a:off x="7524720" y="2016000"/>
            <a:ext cx="228600" cy="141480"/>
          </a:xfrm>
          <a:custGeom>
            <a:avLst/>
            <a:gdLst/>
            <a:ahLst/>
            <a:rect l="l" t="t" r="r" b="b"/>
            <a:pathLst>
              <a:path w="228600" h="140335">
                <a:moveTo>
                  <a:pt x="0" y="140208"/>
                </a:moveTo>
                <a:lnTo>
                  <a:pt x="228600" y="140208"/>
                </a:lnTo>
                <a:lnTo>
                  <a:pt x="2286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object 96"/>
          <p:cNvSpPr/>
          <p:nvPr/>
        </p:nvSpPr>
        <p:spPr>
          <a:xfrm>
            <a:off x="7078680" y="1990800"/>
            <a:ext cx="65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ьств по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object 97"/>
          <p:cNvSpPr/>
          <p:nvPr/>
        </p:nvSpPr>
        <p:spPr>
          <a:xfrm>
            <a:off x="7116840" y="2168640"/>
            <a:ext cx="6080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object 98"/>
          <p:cNvSpPr/>
          <p:nvPr/>
        </p:nvSpPr>
        <p:spPr>
          <a:xfrm>
            <a:off x="7281720" y="2320920"/>
            <a:ext cx="246240" cy="141120"/>
          </a:xfrm>
          <a:custGeom>
            <a:avLst/>
            <a:gdLst/>
            <a:ahLst/>
            <a:rect l="l" t="t" r="r" b="b"/>
            <a:pathLst>
              <a:path w="245745" h="140335">
                <a:moveTo>
                  <a:pt x="0" y="140208"/>
                </a:moveTo>
                <a:lnTo>
                  <a:pt x="245364" y="140208"/>
                </a:lnTo>
                <a:lnTo>
                  <a:pt x="2453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object 99"/>
          <p:cNvSpPr/>
          <p:nvPr/>
        </p:nvSpPr>
        <p:spPr>
          <a:xfrm>
            <a:off x="7270920" y="2295360"/>
            <a:ext cx="269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object 100"/>
          <p:cNvSpPr/>
          <p:nvPr/>
        </p:nvSpPr>
        <p:spPr>
          <a:xfrm>
            <a:off x="22017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object 101"/>
          <p:cNvSpPr/>
          <p:nvPr/>
        </p:nvSpPr>
        <p:spPr>
          <a:xfrm>
            <a:off x="215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object 102"/>
          <p:cNvSpPr/>
          <p:nvPr/>
        </p:nvSpPr>
        <p:spPr>
          <a:xfrm>
            <a:off x="4183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object 103"/>
          <p:cNvSpPr/>
          <p:nvPr/>
        </p:nvSpPr>
        <p:spPr>
          <a:xfrm>
            <a:off x="4140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object 104"/>
          <p:cNvSpPr/>
          <p:nvPr/>
        </p:nvSpPr>
        <p:spPr>
          <a:xfrm>
            <a:off x="4803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object 105"/>
          <p:cNvSpPr/>
          <p:nvPr/>
        </p:nvSpPr>
        <p:spPr>
          <a:xfrm>
            <a:off x="475920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object 106"/>
          <p:cNvSpPr/>
          <p:nvPr/>
        </p:nvSpPr>
        <p:spPr>
          <a:xfrm>
            <a:off x="571032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object 107"/>
          <p:cNvSpPr/>
          <p:nvPr/>
        </p:nvSpPr>
        <p:spPr>
          <a:xfrm>
            <a:off x="566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object 108"/>
          <p:cNvSpPr/>
          <p:nvPr/>
        </p:nvSpPr>
        <p:spPr>
          <a:xfrm>
            <a:off x="6630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object 109"/>
          <p:cNvSpPr/>
          <p:nvPr/>
        </p:nvSpPr>
        <p:spPr>
          <a:xfrm>
            <a:off x="65865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object 110"/>
          <p:cNvSpPr/>
          <p:nvPr/>
        </p:nvSpPr>
        <p:spPr>
          <a:xfrm>
            <a:off x="74055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object 111"/>
          <p:cNvSpPr/>
          <p:nvPr/>
        </p:nvSpPr>
        <p:spPr>
          <a:xfrm>
            <a:off x="73612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object 112"/>
          <p:cNvSpPr/>
          <p:nvPr/>
        </p:nvSpPr>
        <p:spPr>
          <a:xfrm>
            <a:off x="8269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object 113"/>
          <p:cNvSpPr/>
          <p:nvPr/>
        </p:nvSpPr>
        <p:spPr>
          <a:xfrm>
            <a:off x="8226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object 114"/>
          <p:cNvSpPr/>
          <p:nvPr/>
        </p:nvSpPr>
        <p:spPr>
          <a:xfrm>
            <a:off x="573120" y="2701800"/>
            <a:ext cx="1057320" cy="141480"/>
          </a:xfrm>
          <a:custGeom>
            <a:avLst/>
            <a:gdLst/>
            <a:ahLst/>
            <a:rect l="l" t="t" r="r" b="b"/>
            <a:pathLst>
              <a:path w="1056639" h="140335">
                <a:moveTo>
                  <a:pt x="0" y="140208"/>
                </a:moveTo>
                <a:lnTo>
                  <a:pt x="1056131" y="140208"/>
                </a:lnTo>
                <a:lnTo>
                  <a:pt x="10561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object 115"/>
          <p:cNvSpPr/>
          <p:nvPr/>
        </p:nvSpPr>
        <p:spPr>
          <a:xfrm>
            <a:off x="561960" y="2676600"/>
            <a:ext cx="1081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мягких ткане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object 116"/>
          <p:cNvSpPr/>
          <p:nvPr/>
        </p:nvSpPr>
        <p:spPr>
          <a:xfrm>
            <a:off x="4119480" y="27018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object 117"/>
          <p:cNvSpPr/>
          <p:nvPr/>
        </p:nvSpPr>
        <p:spPr>
          <a:xfrm>
            <a:off x="4106880" y="26766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object 118"/>
          <p:cNvSpPr/>
          <p:nvPr/>
        </p:nvSpPr>
        <p:spPr>
          <a:xfrm>
            <a:off x="573120" y="2854440"/>
            <a:ext cx="190440" cy="141120"/>
          </a:xfrm>
          <a:custGeom>
            <a:avLst/>
            <a:gdLst/>
            <a:ahLst/>
            <a:rect l="l" t="t" r="r" b="b"/>
            <a:pathLst>
              <a:path w="189229" h="140335">
                <a:moveTo>
                  <a:pt x="0" y="140208"/>
                </a:moveTo>
                <a:lnTo>
                  <a:pt x="188976" y="140208"/>
                </a:lnTo>
                <a:lnTo>
                  <a:pt x="188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object 119"/>
          <p:cNvSpPr/>
          <p:nvPr/>
        </p:nvSpPr>
        <p:spPr>
          <a:xfrm>
            <a:off x="762120" y="2854440"/>
            <a:ext cx="1288800" cy="141120"/>
          </a:xfrm>
          <a:custGeom>
            <a:avLst/>
            <a:gdLst/>
            <a:ahLst/>
            <a:rect l="l" t="t" r="r" b="b"/>
            <a:pathLst>
              <a:path w="1287780" h="140335">
                <a:moveTo>
                  <a:pt x="0" y="140208"/>
                </a:moveTo>
                <a:lnTo>
                  <a:pt x="1287780" y="140208"/>
                </a:lnTo>
                <a:lnTo>
                  <a:pt x="128778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object 120"/>
          <p:cNvSpPr/>
          <p:nvPr/>
        </p:nvSpPr>
        <p:spPr>
          <a:xfrm>
            <a:off x="2050920" y="2854440"/>
            <a:ext cx="654120" cy="141120"/>
          </a:xfrm>
          <a:custGeom>
            <a:avLst/>
            <a:gdLst/>
            <a:ahLst/>
            <a:rect l="l" t="t" r="r" b="b"/>
            <a:pathLst>
              <a:path w="654050" h="140335">
                <a:moveTo>
                  <a:pt x="0" y="140208"/>
                </a:moveTo>
                <a:lnTo>
                  <a:pt x="653795" y="140208"/>
                </a:lnTo>
                <a:lnTo>
                  <a:pt x="65379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object 121"/>
          <p:cNvSpPr/>
          <p:nvPr/>
        </p:nvSpPr>
        <p:spPr>
          <a:xfrm>
            <a:off x="750960" y="2828880"/>
            <a:ext cx="1966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поверхностных лимфоузл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object 122"/>
          <p:cNvSpPr/>
          <p:nvPr/>
        </p:nvSpPr>
        <p:spPr>
          <a:xfrm>
            <a:off x="4070520" y="2854440"/>
            <a:ext cx="223560" cy="14112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object 123"/>
          <p:cNvSpPr/>
          <p:nvPr/>
        </p:nvSpPr>
        <p:spPr>
          <a:xfrm>
            <a:off x="4059360" y="282888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object 124"/>
          <p:cNvSpPr/>
          <p:nvPr/>
        </p:nvSpPr>
        <p:spPr>
          <a:xfrm>
            <a:off x="573120" y="3006720"/>
            <a:ext cx="1163520" cy="141120"/>
          </a:xfrm>
          <a:custGeom>
            <a:avLst/>
            <a:gdLst/>
            <a:ahLst/>
            <a:rect l="l" t="t" r="r" b="b"/>
            <a:pathLst>
              <a:path w="1163320" h="140335">
                <a:moveTo>
                  <a:pt x="0" y="140208"/>
                </a:moveTo>
                <a:lnTo>
                  <a:pt x="1162812" y="140208"/>
                </a:lnTo>
                <a:lnTo>
                  <a:pt x="11628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object 125"/>
          <p:cNvSpPr/>
          <p:nvPr/>
        </p:nvSpPr>
        <p:spPr>
          <a:xfrm>
            <a:off x="561960" y="2981160"/>
            <a:ext cx="118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головного мозг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object 126"/>
          <p:cNvSpPr/>
          <p:nvPr/>
        </p:nvSpPr>
        <p:spPr>
          <a:xfrm>
            <a:off x="4119480" y="30067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object 127"/>
          <p:cNvSpPr/>
          <p:nvPr/>
        </p:nvSpPr>
        <p:spPr>
          <a:xfrm>
            <a:off x="4106880" y="29811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object 128"/>
          <p:cNvSpPr/>
          <p:nvPr/>
        </p:nvSpPr>
        <p:spPr>
          <a:xfrm>
            <a:off x="7359480" y="30067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object 129"/>
          <p:cNvSpPr/>
          <p:nvPr/>
        </p:nvSpPr>
        <p:spPr>
          <a:xfrm>
            <a:off x="7348680" y="29811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object 130"/>
          <p:cNvSpPr/>
          <p:nvPr/>
        </p:nvSpPr>
        <p:spPr>
          <a:xfrm>
            <a:off x="8223120" y="30067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object 131"/>
          <p:cNvSpPr/>
          <p:nvPr/>
        </p:nvSpPr>
        <p:spPr>
          <a:xfrm>
            <a:off x="8211960" y="29811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object 132"/>
          <p:cNvSpPr/>
          <p:nvPr/>
        </p:nvSpPr>
        <p:spPr>
          <a:xfrm>
            <a:off x="573120" y="3159000"/>
            <a:ext cx="158760" cy="141480"/>
          </a:xfrm>
          <a:custGeom>
            <a:avLst/>
            <a:gdLst/>
            <a:ahLst/>
            <a:rect l="l" t="t" r="r" b="b"/>
            <a:pathLst>
              <a:path w="157479" h="140335">
                <a:moveTo>
                  <a:pt x="0" y="140208"/>
                </a:moveTo>
                <a:lnTo>
                  <a:pt x="156972" y="140208"/>
                </a:lnTo>
                <a:lnTo>
                  <a:pt x="1569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object 133"/>
          <p:cNvSpPr/>
          <p:nvPr/>
        </p:nvSpPr>
        <p:spPr>
          <a:xfrm>
            <a:off x="730080" y="3159000"/>
            <a:ext cx="419400" cy="141480"/>
          </a:xfrm>
          <a:custGeom>
            <a:avLst/>
            <a:gdLst/>
            <a:ahLst/>
            <a:rect l="l" t="t" r="r" b="b"/>
            <a:pathLst>
              <a:path w="417830" h="140335">
                <a:moveTo>
                  <a:pt x="0" y="140208"/>
                </a:moveTo>
                <a:lnTo>
                  <a:pt x="417575" y="140208"/>
                </a:lnTo>
                <a:lnTo>
                  <a:pt x="41757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object 134"/>
          <p:cNvSpPr/>
          <p:nvPr/>
        </p:nvSpPr>
        <p:spPr>
          <a:xfrm>
            <a:off x="1147680" y="3159000"/>
            <a:ext cx="1073160" cy="141480"/>
          </a:xfrm>
          <a:custGeom>
            <a:avLst/>
            <a:gdLst/>
            <a:ahLst/>
            <a:rect l="l" t="t" r="r" b="b"/>
            <a:pathLst>
              <a:path w="1071880" h="140335">
                <a:moveTo>
                  <a:pt x="0" y="140208"/>
                </a:moveTo>
                <a:lnTo>
                  <a:pt x="1071371" y="140208"/>
                </a:lnTo>
                <a:lnTo>
                  <a:pt x="107137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object 135"/>
          <p:cNvSpPr/>
          <p:nvPr/>
        </p:nvSpPr>
        <p:spPr>
          <a:xfrm>
            <a:off x="717480" y="3133800"/>
            <a:ext cx="1514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эхоэнцефалограф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object 136"/>
          <p:cNvSpPr/>
          <p:nvPr/>
        </p:nvSpPr>
        <p:spPr>
          <a:xfrm>
            <a:off x="4070520" y="3159000"/>
            <a:ext cx="223560" cy="14148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object 137"/>
          <p:cNvSpPr/>
          <p:nvPr/>
        </p:nvSpPr>
        <p:spPr>
          <a:xfrm>
            <a:off x="4059360" y="313380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object 138"/>
          <p:cNvSpPr/>
          <p:nvPr/>
        </p:nvSpPr>
        <p:spPr>
          <a:xfrm>
            <a:off x="7359480" y="3159000"/>
            <a:ext cx="9072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object 139"/>
          <p:cNvSpPr/>
          <p:nvPr/>
        </p:nvSpPr>
        <p:spPr>
          <a:xfrm>
            <a:off x="7348680" y="313380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object 140"/>
          <p:cNvSpPr/>
          <p:nvPr/>
        </p:nvSpPr>
        <p:spPr>
          <a:xfrm>
            <a:off x="8223120" y="31590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object 141"/>
          <p:cNvSpPr/>
          <p:nvPr/>
        </p:nvSpPr>
        <p:spPr>
          <a:xfrm>
            <a:off x="8211960" y="31338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object 142"/>
          <p:cNvSpPr/>
          <p:nvPr/>
        </p:nvSpPr>
        <p:spPr>
          <a:xfrm>
            <a:off x="573120" y="3311640"/>
            <a:ext cx="571320" cy="141120"/>
          </a:xfrm>
          <a:custGeom>
            <a:avLst/>
            <a:gdLst/>
            <a:ahLst/>
            <a:rect l="l" t="t" r="r" b="b"/>
            <a:pathLst>
              <a:path w="570230" h="140335">
                <a:moveTo>
                  <a:pt x="0" y="140208"/>
                </a:moveTo>
                <a:lnTo>
                  <a:pt x="569976" y="140208"/>
                </a:lnTo>
                <a:lnTo>
                  <a:pt x="569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object 143"/>
          <p:cNvSpPr/>
          <p:nvPr/>
        </p:nvSpPr>
        <p:spPr>
          <a:xfrm>
            <a:off x="1143000" y="3311640"/>
            <a:ext cx="950760" cy="141120"/>
          </a:xfrm>
          <a:custGeom>
            <a:avLst/>
            <a:gdLst/>
            <a:ahLst/>
            <a:rect l="l" t="t" r="r" b="b"/>
            <a:pathLst>
              <a:path w="949960" h="140335">
                <a:moveTo>
                  <a:pt x="0" y="140208"/>
                </a:moveTo>
                <a:lnTo>
                  <a:pt x="949452" y="140208"/>
                </a:lnTo>
                <a:lnTo>
                  <a:pt x="94945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object 144"/>
          <p:cNvSpPr/>
          <p:nvPr/>
        </p:nvSpPr>
        <p:spPr>
          <a:xfrm>
            <a:off x="2112840" y="33116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object 145"/>
          <p:cNvSpPr/>
          <p:nvPr/>
        </p:nvSpPr>
        <p:spPr>
          <a:xfrm>
            <a:off x="2131920" y="3311640"/>
            <a:ext cx="841320" cy="14112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object 146"/>
          <p:cNvSpPr/>
          <p:nvPr/>
        </p:nvSpPr>
        <p:spPr>
          <a:xfrm>
            <a:off x="1131840" y="3286080"/>
            <a:ext cx="1854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йросонография детям до 1 год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object 147"/>
          <p:cNvSpPr/>
          <p:nvPr/>
        </p:nvSpPr>
        <p:spPr>
          <a:xfrm>
            <a:off x="4070520" y="3311640"/>
            <a:ext cx="223560" cy="14112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object 148"/>
          <p:cNvSpPr/>
          <p:nvPr/>
        </p:nvSpPr>
        <p:spPr>
          <a:xfrm>
            <a:off x="4059360" y="328608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object 149"/>
          <p:cNvSpPr/>
          <p:nvPr/>
        </p:nvSpPr>
        <p:spPr>
          <a:xfrm>
            <a:off x="7359480" y="33116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object 150"/>
          <p:cNvSpPr/>
          <p:nvPr/>
        </p:nvSpPr>
        <p:spPr>
          <a:xfrm>
            <a:off x="7348680" y="328608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object 151"/>
          <p:cNvSpPr/>
          <p:nvPr/>
        </p:nvSpPr>
        <p:spPr>
          <a:xfrm>
            <a:off x="8223120" y="33116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object 152"/>
          <p:cNvSpPr/>
          <p:nvPr/>
        </p:nvSpPr>
        <p:spPr>
          <a:xfrm>
            <a:off x="8211960" y="32860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object 153"/>
          <p:cNvSpPr/>
          <p:nvPr/>
        </p:nvSpPr>
        <p:spPr>
          <a:xfrm>
            <a:off x="573120" y="3463920"/>
            <a:ext cx="554040" cy="141120"/>
          </a:xfrm>
          <a:custGeom>
            <a:avLst/>
            <a:gdLst/>
            <a:ahLst/>
            <a:rect l="l" t="t" r="r" b="b"/>
            <a:pathLst>
              <a:path w="553719" h="140335">
                <a:moveTo>
                  <a:pt x="0" y="140208"/>
                </a:moveTo>
                <a:lnTo>
                  <a:pt x="553212" y="140208"/>
                </a:lnTo>
                <a:lnTo>
                  <a:pt x="5532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object 154"/>
          <p:cNvSpPr/>
          <p:nvPr/>
        </p:nvSpPr>
        <p:spPr>
          <a:xfrm>
            <a:off x="561960" y="3438360"/>
            <a:ext cx="577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глаз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object 155"/>
          <p:cNvSpPr/>
          <p:nvPr/>
        </p:nvSpPr>
        <p:spPr>
          <a:xfrm>
            <a:off x="4119480" y="34639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object 156"/>
          <p:cNvSpPr/>
          <p:nvPr/>
        </p:nvSpPr>
        <p:spPr>
          <a:xfrm>
            <a:off x="4106880" y="34383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object 157"/>
          <p:cNvSpPr/>
          <p:nvPr/>
        </p:nvSpPr>
        <p:spPr>
          <a:xfrm>
            <a:off x="7359480" y="34639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object 158"/>
          <p:cNvSpPr/>
          <p:nvPr/>
        </p:nvSpPr>
        <p:spPr>
          <a:xfrm>
            <a:off x="7348680" y="34383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object 159"/>
          <p:cNvSpPr/>
          <p:nvPr/>
        </p:nvSpPr>
        <p:spPr>
          <a:xfrm>
            <a:off x="8223120" y="34639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object 160"/>
          <p:cNvSpPr/>
          <p:nvPr/>
        </p:nvSpPr>
        <p:spPr>
          <a:xfrm>
            <a:off x="8211960" y="34383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object 161"/>
          <p:cNvSpPr/>
          <p:nvPr/>
        </p:nvSpPr>
        <p:spPr>
          <a:xfrm>
            <a:off x="573120" y="3616200"/>
            <a:ext cx="3176640" cy="141480"/>
          </a:xfrm>
          <a:custGeom>
            <a:avLst/>
            <a:gdLst/>
            <a:ahLst/>
            <a:rect l="l" t="t" r="r" b="b"/>
            <a:pathLst>
              <a:path w="3176270" h="140335">
                <a:moveTo>
                  <a:pt x="0" y="140208"/>
                </a:moveTo>
                <a:lnTo>
                  <a:pt x="3176016" y="140208"/>
                </a:lnTo>
                <a:lnTo>
                  <a:pt x="31760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object 162"/>
          <p:cNvSpPr/>
          <p:nvPr/>
        </p:nvSpPr>
        <p:spPr>
          <a:xfrm>
            <a:off x="561960" y="3591000"/>
            <a:ext cx="316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органов грудной клетки (кроме сердца): вилочкова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object 163"/>
          <p:cNvSpPr/>
          <p:nvPr/>
        </p:nvSpPr>
        <p:spPr>
          <a:xfrm>
            <a:off x="573120" y="3768840"/>
            <a:ext cx="2925720" cy="141120"/>
          </a:xfrm>
          <a:custGeom>
            <a:avLst/>
            <a:gdLst/>
            <a:ahLst/>
            <a:rect l="l" t="t" r="r" b="b"/>
            <a:pathLst>
              <a:path w="2924810" h="140335">
                <a:moveTo>
                  <a:pt x="0" y="140208"/>
                </a:moveTo>
                <a:lnTo>
                  <a:pt x="2924555" y="140208"/>
                </a:lnTo>
                <a:lnTo>
                  <a:pt x="292455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object 164"/>
          <p:cNvSpPr/>
          <p:nvPr/>
        </p:nvSpPr>
        <p:spPr>
          <a:xfrm>
            <a:off x="561960" y="3743280"/>
            <a:ext cx="2909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леза, легкие, плевральная полость, внутригруд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object 165"/>
          <p:cNvSpPr/>
          <p:nvPr/>
        </p:nvSpPr>
        <p:spPr>
          <a:xfrm>
            <a:off x="573120" y="3921120"/>
            <a:ext cx="615960" cy="141120"/>
          </a:xfrm>
          <a:custGeom>
            <a:avLst/>
            <a:gdLst/>
            <a:ahLst/>
            <a:rect l="l" t="t" r="r" b="b"/>
            <a:pathLst>
              <a:path w="615950" h="140335">
                <a:moveTo>
                  <a:pt x="0" y="140208"/>
                </a:moveTo>
                <a:lnTo>
                  <a:pt x="615696" y="140208"/>
                </a:lnTo>
                <a:lnTo>
                  <a:pt x="61569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object 166"/>
          <p:cNvSpPr/>
          <p:nvPr/>
        </p:nvSpPr>
        <p:spPr>
          <a:xfrm>
            <a:off x="561960" y="3895560"/>
            <a:ext cx="641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мфоузл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object 167"/>
          <p:cNvSpPr/>
          <p:nvPr/>
        </p:nvSpPr>
        <p:spPr>
          <a:xfrm>
            <a:off x="4119480" y="37688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object 168"/>
          <p:cNvSpPr/>
          <p:nvPr/>
        </p:nvSpPr>
        <p:spPr>
          <a:xfrm>
            <a:off x="4106880" y="37432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object 169"/>
          <p:cNvSpPr/>
          <p:nvPr/>
        </p:nvSpPr>
        <p:spPr>
          <a:xfrm>
            <a:off x="573120" y="4073400"/>
            <a:ext cx="1793880" cy="141480"/>
          </a:xfrm>
          <a:custGeom>
            <a:avLst/>
            <a:gdLst/>
            <a:ahLst/>
            <a:rect l="l" t="t" r="r" b="b"/>
            <a:pathLst>
              <a:path w="1792605" h="140335">
                <a:moveTo>
                  <a:pt x="0" y="140208"/>
                </a:moveTo>
                <a:lnTo>
                  <a:pt x="1792224" y="140208"/>
                </a:lnTo>
                <a:lnTo>
                  <a:pt x="179222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object 170"/>
          <p:cNvSpPr/>
          <p:nvPr/>
        </p:nvSpPr>
        <p:spPr>
          <a:xfrm>
            <a:off x="561960" y="4048200"/>
            <a:ext cx="1816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наружных половых орган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object 171"/>
          <p:cNvSpPr/>
          <p:nvPr/>
        </p:nvSpPr>
        <p:spPr>
          <a:xfrm>
            <a:off x="4119480" y="40734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object 172"/>
          <p:cNvSpPr/>
          <p:nvPr/>
        </p:nvSpPr>
        <p:spPr>
          <a:xfrm>
            <a:off x="4106880" y="40482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object 173"/>
          <p:cNvSpPr/>
          <p:nvPr/>
        </p:nvSpPr>
        <p:spPr>
          <a:xfrm>
            <a:off x="573120" y="4226040"/>
            <a:ext cx="1216080" cy="141120"/>
          </a:xfrm>
          <a:custGeom>
            <a:avLst/>
            <a:gdLst/>
            <a:ahLst/>
            <a:rect l="l" t="t" r="r" b="b"/>
            <a:pathLst>
              <a:path w="1214755" h="140335">
                <a:moveTo>
                  <a:pt x="0" y="140208"/>
                </a:moveTo>
                <a:lnTo>
                  <a:pt x="1214628" y="140208"/>
                </a:lnTo>
                <a:lnTo>
                  <a:pt x="12146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object 174"/>
          <p:cNvSpPr/>
          <p:nvPr/>
        </p:nvSpPr>
        <p:spPr>
          <a:xfrm>
            <a:off x="1808280" y="42260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object 175"/>
          <p:cNvSpPr/>
          <p:nvPr/>
        </p:nvSpPr>
        <p:spPr>
          <a:xfrm>
            <a:off x="1827360" y="4226040"/>
            <a:ext cx="736560" cy="141120"/>
          </a:xfrm>
          <a:custGeom>
            <a:avLst/>
            <a:gdLst/>
            <a:ahLst/>
            <a:rect l="l" t="t" r="r" b="b"/>
            <a:pathLst>
              <a:path w="737869" h="140335">
                <a:moveTo>
                  <a:pt x="0" y="140208"/>
                </a:moveTo>
                <a:lnTo>
                  <a:pt x="737615" y="140208"/>
                </a:lnTo>
                <a:lnTo>
                  <a:pt x="7376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object 176"/>
          <p:cNvSpPr/>
          <p:nvPr/>
        </p:nvSpPr>
        <p:spPr>
          <a:xfrm>
            <a:off x="561960" y="4200480"/>
            <a:ext cx="2016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ндосонографически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object 177"/>
          <p:cNvSpPr/>
          <p:nvPr/>
        </p:nvSpPr>
        <p:spPr>
          <a:xfrm>
            <a:off x="4119480" y="42260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object 178"/>
          <p:cNvSpPr/>
          <p:nvPr/>
        </p:nvSpPr>
        <p:spPr>
          <a:xfrm>
            <a:off x="4106880" y="42004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object 179"/>
          <p:cNvSpPr/>
          <p:nvPr/>
        </p:nvSpPr>
        <p:spPr>
          <a:xfrm>
            <a:off x="573120" y="4378320"/>
            <a:ext cx="1708200" cy="141120"/>
          </a:xfrm>
          <a:custGeom>
            <a:avLst/>
            <a:gdLst/>
            <a:ahLst/>
            <a:rect l="l" t="t" r="r" b="b"/>
            <a:pathLst>
              <a:path w="1706880" h="140335">
                <a:moveTo>
                  <a:pt x="0" y="140208"/>
                </a:moveTo>
                <a:lnTo>
                  <a:pt x="1706879" y="140208"/>
                </a:lnTo>
                <a:lnTo>
                  <a:pt x="170687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object 180"/>
          <p:cNvSpPr/>
          <p:nvPr/>
        </p:nvSpPr>
        <p:spPr>
          <a:xfrm>
            <a:off x="561960" y="4352760"/>
            <a:ext cx="1730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льтразвуковая денситометр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object 181"/>
          <p:cNvSpPr/>
          <p:nvPr/>
        </p:nvSpPr>
        <p:spPr>
          <a:xfrm>
            <a:off x="4119480" y="43783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object 182"/>
          <p:cNvSpPr/>
          <p:nvPr/>
        </p:nvSpPr>
        <p:spPr>
          <a:xfrm>
            <a:off x="4106880" y="43527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object 183"/>
          <p:cNvSpPr/>
          <p:nvPr/>
        </p:nvSpPr>
        <p:spPr>
          <a:xfrm>
            <a:off x="7359480" y="43783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object 184"/>
          <p:cNvSpPr/>
          <p:nvPr/>
        </p:nvSpPr>
        <p:spPr>
          <a:xfrm>
            <a:off x="7348680" y="43527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object 185"/>
          <p:cNvSpPr/>
          <p:nvPr/>
        </p:nvSpPr>
        <p:spPr>
          <a:xfrm>
            <a:off x="8223120" y="43783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object 186"/>
          <p:cNvSpPr/>
          <p:nvPr/>
        </p:nvSpPr>
        <p:spPr>
          <a:xfrm>
            <a:off x="8211960" y="43527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object 187"/>
          <p:cNvSpPr/>
          <p:nvPr/>
        </p:nvSpPr>
        <p:spPr>
          <a:xfrm>
            <a:off x="573120" y="4530600"/>
            <a:ext cx="1895400" cy="141480"/>
          </a:xfrm>
          <a:custGeom>
            <a:avLst/>
            <a:gdLst/>
            <a:ahLst/>
            <a:rect l="l" t="t" r="r" b="b"/>
            <a:pathLst>
              <a:path w="1894839" h="140335">
                <a:moveTo>
                  <a:pt x="0" y="140208"/>
                </a:moveTo>
                <a:lnTo>
                  <a:pt x="1894331" y="140208"/>
                </a:lnTo>
                <a:lnTo>
                  <a:pt x="18943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object 188"/>
          <p:cNvSpPr/>
          <p:nvPr/>
        </p:nvSpPr>
        <p:spPr>
          <a:xfrm>
            <a:off x="561960" y="4505400"/>
            <a:ext cx="19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раоперационны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object 189"/>
          <p:cNvSpPr/>
          <p:nvPr/>
        </p:nvSpPr>
        <p:spPr>
          <a:xfrm>
            <a:off x="4119480" y="45306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object 190"/>
          <p:cNvSpPr/>
          <p:nvPr/>
        </p:nvSpPr>
        <p:spPr>
          <a:xfrm>
            <a:off x="4106880" y="45054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object 191"/>
          <p:cNvSpPr/>
          <p:nvPr/>
        </p:nvSpPr>
        <p:spPr>
          <a:xfrm>
            <a:off x="573120" y="4683240"/>
            <a:ext cx="1177920" cy="141120"/>
          </a:xfrm>
          <a:custGeom>
            <a:avLst/>
            <a:gdLst/>
            <a:ahLst/>
            <a:rect l="l" t="t" r="r" b="b"/>
            <a:pathLst>
              <a:path w="1176655" h="140335">
                <a:moveTo>
                  <a:pt x="0" y="140208"/>
                </a:moveTo>
                <a:lnTo>
                  <a:pt x="1176528" y="140208"/>
                </a:lnTo>
                <a:lnTo>
                  <a:pt x="11765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object 192"/>
          <p:cNvSpPr/>
          <p:nvPr/>
        </p:nvSpPr>
        <p:spPr>
          <a:xfrm>
            <a:off x="561960" y="4657680"/>
            <a:ext cx="1200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чи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object 193"/>
          <p:cNvSpPr/>
          <p:nvPr/>
        </p:nvSpPr>
        <p:spPr>
          <a:xfrm>
            <a:off x="4119480" y="46832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object 194"/>
          <p:cNvSpPr/>
          <p:nvPr/>
        </p:nvSpPr>
        <p:spPr>
          <a:xfrm>
            <a:off x="4106880" y="46576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object 195"/>
          <p:cNvSpPr/>
          <p:nvPr/>
        </p:nvSpPr>
        <p:spPr>
          <a:xfrm>
            <a:off x="533520" y="4835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26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object 196"/>
          <p:cNvSpPr/>
          <p:nvPr/>
        </p:nvSpPr>
        <p:spPr>
          <a:xfrm>
            <a:off x="565200" y="4835520"/>
            <a:ext cx="2819520" cy="141120"/>
          </a:xfrm>
          <a:custGeom>
            <a:avLst/>
            <a:gdLst/>
            <a:ahLst/>
            <a:rect l="l" t="t" r="r" b="b"/>
            <a:pathLst>
              <a:path w="2819400" h="140335">
                <a:moveTo>
                  <a:pt x="0" y="140208"/>
                </a:moveTo>
                <a:lnTo>
                  <a:pt x="2819400" y="140208"/>
                </a:lnTo>
                <a:lnTo>
                  <a:pt x="28194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object 197"/>
          <p:cNvSpPr/>
          <p:nvPr/>
        </p:nvSpPr>
        <p:spPr>
          <a:xfrm>
            <a:off x="552600" y="4809960"/>
            <a:ext cx="28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общего числа исследований (стр. 1) выполнено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object 198"/>
          <p:cNvSpPr/>
          <p:nvPr/>
        </p:nvSpPr>
        <p:spPr>
          <a:xfrm>
            <a:off x="754200" y="4987800"/>
            <a:ext cx="1804680" cy="141480"/>
          </a:xfrm>
          <a:custGeom>
            <a:avLst/>
            <a:gdLst/>
            <a:ahLst/>
            <a:rect l="l" t="t" r="r" b="b"/>
            <a:pathLst>
              <a:path w="1804670" h="140335">
                <a:moveTo>
                  <a:pt x="0" y="140208"/>
                </a:moveTo>
                <a:lnTo>
                  <a:pt x="1804416" y="140208"/>
                </a:lnTo>
                <a:lnTo>
                  <a:pt x="18044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object 199"/>
          <p:cNvSpPr/>
          <p:nvPr/>
        </p:nvSpPr>
        <p:spPr>
          <a:xfrm>
            <a:off x="741240" y="4962600"/>
            <a:ext cx="182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рожденным и детям до 2 ле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object 200"/>
          <p:cNvSpPr/>
          <p:nvPr/>
        </p:nvSpPr>
        <p:spPr>
          <a:xfrm>
            <a:off x="4119480" y="49118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object 201"/>
          <p:cNvSpPr/>
          <p:nvPr/>
        </p:nvSpPr>
        <p:spPr>
          <a:xfrm>
            <a:off x="4106880" y="48862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object 202"/>
          <p:cNvSpPr/>
          <p:nvPr/>
        </p:nvSpPr>
        <p:spPr>
          <a:xfrm>
            <a:off x="501480" y="5140440"/>
            <a:ext cx="25416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object 203"/>
          <p:cNvSpPr/>
          <p:nvPr/>
        </p:nvSpPr>
        <p:spPr>
          <a:xfrm>
            <a:off x="755640" y="5140440"/>
            <a:ext cx="2260440" cy="141120"/>
          </a:xfrm>
          <a:custGeom>
            <a:avLst/>
            <a:gdLst/>
            <a:ahLst/>
            <a:rect l="l" t="t" r="r" b="b"/>
            <a:pathLst>
              <a:path w="2261870" h="140335">
                <a:moveTo>
                  <a:pt x="0" y="140208"/>
                </a:moveTo>
                <a:lnTo>
                  <a:pt x="2261616" y="140208"/>
                </a:lnTo>
                <a:lnTo>
                  <a:pt x="22616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object 204"/>
          <p:cNvSpPr/>
          <p:nvPr/>
        </p:nvSpPr>
        <p:spPr>
          <a:xfrm>
            <a:off x="743040" y="5114880"/>
            <a:ext cx="2284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 внутривенным контрастировани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object 205"/>
          <p:cNvSpPr/>
          <p:nvPr/>
        </p:nvSpPr>
        <p:spPr>
          <a:xfrm>
            <a:off x="4119480" y="51404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object 206"/>
          <p:cNvSpPr/>
          <p:nvPr/>
        </p:nvSpPr>
        <p:spPr>
          <a:xfrm>
            <a:off x="4106880" y="51148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object 207"/>
          <p:cNvSpPr/>
          <p:nvPr/>
        </p:nvSpPr>
        <p:spPr>
          <a:xfrm>
            <a:off x="7359480" y="51404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object 208"/>
          <p:cNvSpPr/>
          <p:nvPr/>
        </p:nvSpPr>
        <p:spPr>
          <a:xfrm>
            <a:off x="7348680" y="511488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object 209"/>
          <p:cNvSpPr/>
          <p:nvPr/>
        </p:nvSpPr>
        <p:spPr>
          <a:xfrm>
            <a:off x="8223120" y="51404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object 210"/>
          <p:cNvSpPr/>
          <p:nvPr/>
        </p:nvSpPr>
        <p:spPr>
          <a:xfrm>
            <a:off x="8211960" y="51148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object 211"/>
          <p:cNvSpPr/>
          <p:nvPr/>
        </p:nvSpPr>
        <p:spPr>
          <a:xfrm>
            <a:off x="501480" y="5292720"/>
            <a:ext cx="25416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object 212"/>
          <p:cNvSpPr/>
          <p:nvPr/>
        </p:nvSpPr>
        <p:spPr>
          <a:xfrm>
            <a:off x="755640" y="5292720"/>
            <a:ext cx="365040" cy="141120"/>
          </a:xfrm>
          <a:custGeom>
            <a:avLst/>
            <a:gdLst/>
            <a:ahLst/>
            <a:rect l="l" t="t" r="r" b="b"/>
            <a:pathLst>
              <a:path w="365759" h="140335">
                <a:moveTo>
                  <a:pt x="0" y="140208"/>
                </a:moveTo>
                <a:lnTo>
                  <a:pt x="365759" y="140208"/>
                </a:lnTo>
                <a:lnTo>
                  <a:pt x="36575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object 213"/>
          <p:cNvSpPr/>
          <p:nvPr/>
        </p:nvSpPr>
        <p:spPr>
          <a:xfrm>
            <a:off x="1120680" y="5292720"/>
            <a:ext cx="793800" cy="141120"/>
          </a:xfrm>
          <a:custGeom>
            <a:avLst/>
            <a:gdLst/>
            <a:ahLst/>
            <a:rect l="l" t="t" r="r" b="b"/>
            <a:pathLst>
              <a:path w="794385" h="140335">
                <a:moveTo>
                  <a:pt x="0" y="140208"/>
                </a:moveTo>
                <a:lnTo>
                  <a:pt x="794004" y="140208"/>
                </a:lnTo>
                <a:lnTo>
                  <a:pt x="79400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object 214"/>
          <p:cNvSpPr/>
          <p:nvPr/>
        </p:nvSpPr>
        <p:spPr>
          <a:xfrm>
            <a:off x="743040" y="5267160"/>
            <a:ext cx="118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 эластографие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object 215"/>
          <p:cNvSpPr/>
          <p:nvPr/>
        </p:nvSpPr>
        <p:spPr>
          <a:xfrm>
            <a:off x="4119480" y="52927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object 216"/>
          <p:cNvSpPr/>
          <p:nvPr/>
        </p:nvSpPr>
        <p:spPr>
          <a:xfrm>
            <a:off x="4106880" y="52671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object 217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object 2"/>
          <p:cNvSpPr/>
          <p:nvPr/>
        </p:nvSpPr>
        <p:spPr>
          <a:xfrm>
            <a:off x="671508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20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+ 7 914 – 462 – 14 - 99</a:t>
            </a:r>
            <a:br>
              <a:rPr sz="6600"/>
            </a:b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mr.mmv008@yandex.ru</a:t>
            </a:r>
            <a:endParaRPr b="0" lang="en-US" sz="6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3" name="Line 4"/>
          <p:cNvSpPr/>
          <p:nvPr/>
        </p:nvSpPr>
        <p:spPr>
          <a:xfrm>
            <a:off x="1116000" y="1052640"/>
            <a:ext cx="8028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01:27:00Z</dcterms:created>
  <dc:creator>User</dc:creator>
  <dc:description/>
  <dc:language>en-US</dc:language>
  <cp:lastModifiedBy>Елена Александровна Бронникова</cp:lastModifiedBy>
  <dcterms:modified xsi:type="dcterms:W3CDTF">2019-12-20T01:10:33Z</dcterms:modified>
  <cp:revision>221</cp:revision>
  <dc:subject/>
  <dc:title>КОЛИЧЕСТВЕННЫЕ ПОКАЗАТЕЛИ РАБОТЫ</dc:title>
</cp:coreProperties>
</file>