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9941-CF31-4ECF-B40E-CBBF68AE9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C364-C9B0-44DE-BB9F-DE5AD672F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851A-9E40-49A5-BA87-FEBDE8DB6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5369-F581-4E88-B39F-96992A993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0E589-7E20-4FA3-983D-D4082920D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9FF7F-1F5A-4976-9697-45A582CBF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6C345-1558-41A6-8487-B19B6235D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55E9C-459D-4C7D-9350-D92AD69AC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F6C0C-0740-4BD7-A20A-2E58676F3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D0369-EE08-48CD-80B9-EE4793AC4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A3DAB-C2F1-4A69-8E4E-A46DA148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B2E2-0909-4C6D-8DE5-A476BDA16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17AA3-F55F-4A6C-A92A-49C329CF4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D4A03-CB9C-4BB4-9EBD-CA9E3DA5F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991F1-9FE0-4B97-ABBB-BDC10E775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1BA27-3670-49C4-B5EC-B9FFC2807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2AF02-820D-4C34-A102-BDB5B3BFD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76F4-9FA4-4BA2-9F3E-CC5B08E86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417A-A357-4A08-BC38-F2859F676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51F8-4B2A-4055-A08B-AED53DF13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0CEC-AE02-425E-A012-926FE2A76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5DB7-F3B4-44F1-B10F-21B82DC6B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466B-2929-4930-9AA4-C1901A354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C858-D93F-481A-80F8-BCA47D0D9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742EB-9A28-4B99-910D-65B31C3135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5560" indent="0" algn="r">
              <a:lnSpc>
                <a:spcPts val="1236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88888"/>
                </a:solidFill>
                <a:latin typeface="Trebuchet MS"/>
                <a:ea typeface="Trebuchet MS"/>
              </a:defRPr>
            </a:lvl1pPr>
          </a:lstStyle>
          <a:p>
            <a:pPr marL="25560" indent="0" algn="r">
              <a:lnSpc>
                <a:spcPts val="1236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555C3-31FD-4FBD-B000-070CA7663B5B}" type="slidenum">
              <a:rPr b="0" lang="ru-RU" sz="1200" spc="-1" strike="noStrike">
                <a:solidFill>
                  <a:srgbClr val="888888"/>
                </a:solidFill>
                <a:latin typeface="Trebuchet MS"/>
                <a:ea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niirg.ru/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 Light"/>
              </a:rPr>
              <a:t>РАЗДЕЛ </a:t>
            </a:r>
            <a:r>
              <a:rPr b="1" lang="en-US" sz="5400" spc="-1" strike="noStrike">
                <a:solidFill>
                  <a:srgbClr val="000000"/>
                </a:solidFill>
                <a:latin typeface="Calibri Light"/>
              </a:rPr>
              <a:t>VI</a:t>
            </a:r>
            <a:r>
              <a:rPr b="1" lang="ru-RU" sz="5400" spc="-1" strike="noStrike">
                <a:solidFill>
                  <a:srgbClr val="000000"/>
                </a:solidFill>
                <a:latin typeface="Calibri Light"/>
              </a:rPr>
              <a:t>. 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Calibri Light"/>
              </a:rPr>
              <a:t>РАБОТА ДИАГНОСТИЧЕСКИХ ОТДЕЛЕНИЙ (КАБИНЕТОВ)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занцев Константин Борисови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5049000" y="5770440"/>
            <a:ext cx="209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9.12.2019 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5117. </a:t>
            </a: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Аппараты и оборудование для лучевой  диагностики</a:t>
            </a: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838080" y="3587760"/>
          <a:ext cx="10515600" cy="4206960"/>
        </p:xfrm>
        <a:graphic>
          <a:graphicData uri="http://schemas.openxmlformats.org/drawingml/2006/table">
            <a:tbl>
              <a:tblPr/>
              <a:tblGrid>
                <a:gridCol w="4659480"/>
                <a:gridCol w="682560"/>
                <a:gridCol w="1073160"/>
                <a:gridCol w="1266840"/>
                <a:gridCol w="785880"/>
                <a:gridCol w="876240"/>
                <a:gridCol w="1171440"/>
              </a:tblGrid>
              <a:tr h="274680"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теоденситометры рентгенов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нтгеновские аппараты всего (без компьютерных томографов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Р томографы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3000" rIns="63000" tIns="0" bIns="0" anchor="ctr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менее 1,0 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3000" rIns="63000" tIns="0" bIns="0" anchor="ctr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для костей и суставов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.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3000" rIns="63000" tIns="0" bIns="0" anchor="ctr">
                      <a:noAutofit/>
                    </a:bodyPr>
                    <a:p>
                      <a:pPr marL="88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 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3000" rIns="63000" tIns="0" bIns="0" anchor="ctr">
                      <a:noAutofit/>
                    </a:bodyPr>
                    <a:p>
                      <a:pPr marL="88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5 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3000" rIns="63000" tIns="0" bIns="0" anchor="ctr">
                      <a:noAutofit/>
                    </a:bodyPr>
                    <a:p>
                      <a:pPr marL="88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0 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3000" rIns="63000" tIns="0" bIns="0" anchor="ctr">
                      <a:noAutofit/>
                    </a:bodyPr>
                    <a:p>
                      <a:pPr marL="88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олее 3,0 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явочные автоматы и каме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915120"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Системы компьютерной радиографии (рентгенографии на фотостимулируемых люминофорах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274680">
                <a:tc>
                  <a:txBody>
                    <a:bodyPr lIns="63000" rIns="6300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63000" rIns="6300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274680">
                <a:tc>
                  <a:txBody>
                    <a:bodyPr lIns="63000" rIns="6300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63000" rIns="6300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838080" y="1625760"/>
          <a:ext cx="10515600" cy="1950840"/>
        </p:xfrm>
        <a:graphic>
          <a:graphicData uri="http://schemas.openxmlformats.org/drawingml/2006/table">
            <a:tbl>
              <a:tblPr/>
              <a:tblGrid>
                <a:gridCol w="4659480"/>
                <a:gridCol w="682560"/>
                <a:gridCol w="1073160"/>
                <a:gridCol w="1266840"/>
                <a:gridCol w="785880"/>
                <a:gridCol w="876240"/>
                <a:gridCol w="1171440"/>
              </a:tblGrid>
              <a:tr h="487800"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noFill/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noFill/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аппаратов и оборуд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 w="5760">
                      <a:solidFill>
                        <a:srgbClr val="4472c4"/>
                      </a:solidFill>
                    </a:lnL>
                    <a:lnR w="1224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noFill/>
                  </a:tcPr>
                </a:tc>
                <a:tc gridSpan="4">
                  <a:txBody>
                    <a:bodyPr lIns="56880" rIns="568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3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подразделениях, оказывающих медицинскую помощь в амбулаторных условия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 w="1224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йствую-щ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 сроком 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ксплуатации свыше 10 л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в подразделениях, оказывающих медицинскую помощь в амбулаторных условиях (из гр. 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5119. </a:t>
            </a: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Магнитно-резонансные томографии</a:t>
            </a: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838080" y="1690560"/>
          <a:ext cx="10515600" cy="4587840"/>
        </p:xfrm>
        <a:graphic>
          <a:graphicData uri="http://schemas.openxmlformats.org/drawingml/2006/table">
            <a:tbl>
              <a:tblPr/>
              <a:tblGrid>
                <a:gridCol w="4560840"/>
                <a:gridCol w="682920"/>
                <a:gridCol w="785520"/>
                <a:gridCol w="1657440"/>
                <a:gridCol w="1658880"/>
                <a:gridCol w="1170000"/>
              </a:tblGrid>
              <a:tr h="18288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исследов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 внутривенным  контрастировани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гр. 3 выполнено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2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подразделениях, оказывающих медицинскую помощь в амбулато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4472c4"/>
                      </a:solidFill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условиях дневного стациона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 выполнено М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408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рд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324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егких и средост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рганов брюшной полости и забрюшинного простран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рганов малого та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лочной желез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ловного мозг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324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звоночника и спинного мозг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: шейного отдел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         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грудного отдела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         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пояснично-крестцового отдел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ласти “голова-шея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324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стей, суставов и мягких тка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сосуд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   </a:t>
                      </a: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прочих органов и систе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тервенционные вмешательства под МРТ – контролем (из стр.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TextBox 2"/>
          <p:cNvSpPr/>
          <p:nvPr/>
        </p:nvSpPr>
        <p:spPr>
          <a:xfrm>
            <a:off x="6719760" y="4782960"/>
            <a:ext cx="4891320" cy="14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е нумераци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ение отделов позвоночника по аналогии с К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авление строки для подсчета исследований сосудов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539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 u="sng">
                <a:solidFill>
                  <a:srgbClr val="0563c1"/>
                </a:solidFill>
                <a:uFillTx/>
                <a:latin typeface="Calibri Light"/>
                <a:hlinkClick r:id="rId1"/>
              </a:rPr>
              <a:t>niirg.ru</a:t>
            </a:r>
            <a:br>
              <a:rPr sz="8000"/>
            </a:br>
            <a:r>
              <a:rPr b="1" lang="ru-RU" sz="3600" spc="-1" strike="noStrike">
                <a:solidFill>
                  <a:srgbClr val="000000"/>
                </a:solidFill>
                <a:latin typeface="Calibri Light"/>
              </a:rPr>
              <a:t>ЕСКИД (ЕДИНАЯ СИСТЕМА КОНТРОЛЯ И УЧЕТА ИНДИВИДУАЛЬНЫХ ДОЗ ОБЛУЧЕНИЯ ГРАЖДАН)</a:t>
            </a:r>
            <a:br>
              <a:rPr sz="3600"/>
            </a:br>
            <a:br>
              <a:rPr sz="3600"/>
            </a:b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ДОЗ-1,2</a:t>
            </a: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 обновление от 11.12.2019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Доз – 3  </a:t>
            </a: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бновление от 10.01.2019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588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КАЗАНЦЕВ КОНСТАНТИН БОРИСОВИЧ</a:t>
            </a:r>
            <a:br>
              <a:rPr sz="4400"/>
            </a:br>
            <a:br>
              <a:rPr sz="4400"/>
            </a:br>
            <a:r>
              <a:rPr b="1" lang="ru-RU" sz="9600" spc="-1" strike="noStrike">
                <a:solidFill>
                  <a:srgbClr val="000000"/>
                </a:solidFill>
                <a:latin typeface="Calibri Light"/>
              </a:rPr>
              <a:t>8-924-272-8882</a:t>
            </a:r>
            <a:br>
              <a:rPr sz="9600"/>
            </a:br>
            <a:br>
              <a:rPr sz="9600"/>
            </a:br>
            <a:r>
              <a:rPr b="1" lang="en-US" sz="7200" spc="-1" strike="noStrike">
                <a:solidFill>
                  <a:srgbClr val="000000"/>
                </a:solidFill>
                <a:latin typeface="Calibri Light"/>
              </a:rPr>
              <a:t>dr.kazancev2017@yandex.ru</a:t>
            </a:r>
            <a:br>
              <a:rPr sz="7200"/>
            </a:b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object 2"/>
          <p:cNvSpPr/>
          <p:nvPr/>
        </p:nvSpPr>
        <p:spPr>
          <a:xfrm>
            <a:off x="8238960" y="6215040"/>
            <a:ext cx="1428840" cy="142920"/>
          </a:xfrm>
          <a:custGeom>
            <a:avLst/>
            <a:gdLst/>
            <a:ahLst/>
            <a:rect l="l" t="t" r="r" b="b"/>
            <a:pathLst>
              <a:path w="1428750" h="142875">
                <a:moveTo>
                  <a:pt x="0" y="142875"/>
                </a:moveTo>
                <a:lnTo>
                  <a:pt x="1428750" y="142875"/>
                </a:lnTo>
                <a:lnTo>
                  <a:pt x="1428750" y="0"/>
                </a:lnTo>
                <a:lnTo>
                  <a:pt x="0" y="0"/>
                </a:lnTo>
                <a:lnTo>
                  <a:pt x="0" y="14287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ject 3"/>
          <p:cNvSpPr/>
          <p:nvPr/>
        </p:nvSpPr>
        <p:spPr>
          <a:xfrm>
            <a:off x="2208240" y="2565360"/>
            <a:ext cx="1440" cy="3225960"/>
          </a:xfrm>
          <a:custGeom>
            <a:avLst/>
            <a:gdLst/>
            <a:ahLst/>
            <a:rect l="l" t="t" r="r" b="b"/>
            <a:pathLst>
              <a:path w="1904" h="3225800">
                <a:moveTo>
                  <a:pt x="1587" y="0"/>
                </a:moveTo>
                <a:lnTo>
                  <a:pt x="0" y="3225800"/>
                </a:ln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object 4"/>
          <p:cNvSpPr/>
          <p:nvPr/>
        </p:nvSpPr>
        <p:spPr>
          <a:xfrm>
            <a:off x="1919160" y="115920"/>
            <a:ext cx="8374320" cy="649080"/>
          </a:xfrm>
          <a:custGeom>
            <a:avLst/>
            <a:gdLst/>
            <a:ahLst/>
            <a:rect l="l" t="t" r="r" b="b"/>
            <a:pathLst>
              <a:path w="8374380" h="649605">
                <a:moveTo>
                  <a:pt x="0" y="649287"/>
                </a:moveTo>
                <a:lnTo>
                  <a:pt x="8373999" y="649287"/>
                </a:lnTo>
                <a:lnTo>
                  <a:pt x="8373999" y="0"/>
                </a:lnTo>
                <a:lnTo>
                  <a:pt x="0" y="0"/>
                </a:lnTo>
                <a:lnTo>
                  <a:pt x="0" y="649287"/>
                </a:lnTo>
                <a:close/>
              </a:path>
            </a:pathLst>
          </a:custGeom>
          <a:solidFill>
            <a:srgbClr val="006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object 7"/>
          <p:cNvSpPr/>
          <p:nvPr/>
        </p:nvSpPr>
        <p:spPr>
          <a:xfrm>
            <a:off x="8251920" y="6356520"/>
            <a:ext cx="14954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ts val="198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7e7e7e"/>
                </a:solidFill>
                <a:latin typeface="Arial"/>
                <a:ea typeface="Arial"/>
              </a:rPr>
              <a:t>РОССИЯ 2019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ject 6"/>
          <p:cNvSpPr/>
          <p:nvPr/>
        </p:nvSpPr>
        <p:spPr>
          <a:xfrm>
            <a:off x="165240" y="179280"/>
            <a:ext cx="11255400" cy="62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МЕНЕНИЯ, ВНОСИМЫЕ В ФОРМУ ФЕДЕРАЛЬНОГ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ТИСТИЧЕСКОГО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БЛЮДЕНИЯ № 3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Вводятся большие изменения в раздел V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РАБОТА ДИАГНОСТИЧЕСКИХ ОТДЕЛЕНИЙ (КАБИНЕТОВ)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100 «Рентгенодиагностические исследования (без профилактических исследований)»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 5111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ентгенохирургия, рентгеноэндоваскулярные диагностика и лечение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6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113 «Компьютерная томография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ы 5114 «Рентгенологические профилактические (скрининговые) обследования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117 «Аппараты и оборудование для лучевой диагностик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119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агнитно-резонансные томографи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 Light"/>
              </a:rPr>
              <a:t>5100. </a:t>
            </a:r>
            <a:r>
              <a:rPr b="1" lang="ru-RU" sz="4000" spc="-1" strike="noStrike">
                <a:solidFill>
                  <a:srgbClr val="000000"/>
                </a:solidFill>
                <a:latin typeface="Calibri Light"/>
              </a:rPr>
              <a:t>Рентгенодиагностические исследования (</a:t>
            </a:r>
            <a:r>
              <a:rPr b="1" lang="ru-RU" sz="4000" spc="-1" strike="noStrike">
                <a:solidFill>
                  <a:srgbClr val="ff0000"/>
                </a:solidFill>
                <a:latin typeface="Calibri Light"/>
              </a:rPr>
              <a:t>без профилактических исследований</a:t>
            </a:r>
            <a:r>
              <a:rPr b="1" lang="ru-RU" sz="4000" spc="-1" strike="noStrike">
                <a:solidFill>
                  <a:srgbClr val="000000"/>
                </a:solidFill>
                <a:latin typeface="Calibri Light"/>
              </a:rPr>
              <a:t>) 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1" name="Рисунок 5" descr="Изображение выглядит как снимок экрана&#10;&#10;Автоматически созданное описание"/>
          <p:cNvPicPr/>
          <p:nvPr/>
        </p:nvPicPr>
        <p:blipFill>
          <a:blip r:embed="rId1"/>
          <a:stretch/>
        </p:blipFill>
        <p:spPr>
          <a:xfrm>
            <a:off x="838080" y="1735200"/>
            <a:ext cx="8847360" cy="232884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7" descr="Изображение выглядит как экран, здание, легкий, сидит&#10;&#10;Автоматически созданное описание"/>
          <p:cNvPicPr/>
          <p:nvPr/>
        </p:nvPicPr>
        <p:blipFill>
          <a:blip r:embed="rId2"/>
          <a:stretch/>
        </p:blipFill>
        <p:spPr>
          <a:xfrm>
            <a:off x="838080" y="4073400"/>
            <a:ext cx="8915400" cy="18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 Light"/>
              </a:rPr>
              <a:t>5100 </a:t>
            </a:r>
            <a:r>
              <a:rPr b="1" lang="ru-RU" sz="4000" spc="-1" strike="noStrike">
                <a:solidFill>
                  <a:srgbClr val="000000"/>
                </a:solidFill>
                <a:latin typeface="Calibri Light"/>
              </a:rPr>
              <a:t>1. Рентгенодиагностические исследования (без профилактических исследований) 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4" name="Рисунок 5" descr="Изображение выглядит как снимок экрана&#10;&#10;Автоматически созданное описание"/>
          <p:cNvPicPr/>
          <p:nvPr/>
        </p:nvPicPr>
        <p:blipFill>
          <a:blip r:embed="rId1"/>
          <a:stretch/>
        </p:blipFill>
        <p:spPr>
          <a:xfrm>
            <a:off x="838080" y="1735200"/>
            <a:ext cx="8204400" cy="215892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3" descr="Изображение выглядит как экран, здание, легкий, часы&#10;&#10;Автоматически созданное описание"/>
          <p:cNvPicPr/>
          <p:nvPr/>
        </p:nvPicPr>
        <p:blipFill>
          <a:blip r:embed="rId2"/>
          <a:stretch/>
        </p:blipFill>
        <p:spPr>
          <a:xfrm>
            <a:off x="852480" y="3863880"/>
            <a:ext cx="8204040" cy="1889280"/>
          </a:xfrm>
          <a:prstGeom prst="rect">
            <a:avLst/>
          </a:prstGeom>
          <a:ln w="0">
            <a:noFill/>
          </a:ln>
        </p:spPr>
      </p:pic>
      <p:sp>
        <p:nvSpPr>
          <p:cNvPr id="96" name="TextBox 3"/>
          <p:cNvSpPr/>
          <p:nvPr/>
        </p:nvSpPr>
        <p:spPr>
          <a:xfrm>
            <a:off x="7566120" y="5091120"/>
            <a:ext cx="4292640" cy="977760"/>
          </a:xfrm>
          <a:prstGeom prst="rect">
            <a:avLst/>
          </a:prstGeom>
          <a:solidFill>
            <a:srgbClr val="ffffff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а нумерац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ены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елы позвоночни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елена денситометрия Проставлены кресты в ячейках, котор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е не заполняютс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 Light"/>
              </a:rPr>
              <a:t>5100 </a:t>
            </a:r>
            <a:r>
              <a:rPr b="1" lang="ru-RU" sz="4000" spc="-1" strike="noStrike">
                <a:solidFill>
                  <a:srgbClr val="000000"/>
                </a:solidFill>
                <a:latin typeface="Calibri Light"/>
              </a:rPr>
              <a:t>1. Рентгенодиагностические исследования (без профилактических исследований) 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8" name="Рисунок 5" descr="Изображение выглядит как снимок экрана&#10;&#10;Автоматически созданное описание"/>
          <p:cNvPicPr/>
          <p:nvPr/>
        </p:nvPicPr>
        <p:blipFill>
          <a:blip r:embed="rId1"/>
          <a:stretch/>
        </p:blipFill>
        <p:spPr>
          <a:xfrm>
            <a:off x="838080" y="1735200"/>
            <a:ext cx="9107640" cy="239724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3" descr="Изображение выглядит как экран, здание, часы, большой&#10;&#10;Автоматически созданное описание"/>
          <p:cNvPicPr/>
          <p:nvPr/>
        </p:nvPicPr>
        <p:blipFill>
          <a:blip r:embed="rId2"/>
          <a:stretch/>
        </p:blipFill>
        <p:spPr>
          <a:xfrm>
            <a:off x="838080" y="4118040"/>
            <a:ext cx="9107640" cy="188100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6" descr=""/>
          <p:cNvPicPr/>
          <p:nvPr/>
        </p:nvPicPr>
        <p:blipFill>
          <a:blip r:embed="rId3"/>
          <a:srcRect l="-274" t="-39826" r="21380" b="-18605"/>
          <a:stretch/>
        </p:blipFill>
        <p:spPr>
          <a:xfrm>
            <a:off x="825480" y="5904000"/>
            <a:ext cx="9107640" cy="284040"/>
          </a:xfrm>
          <a:prstGeom prst="rect">
            <a:avLst/>
          </a:prstGeom>
          <a:ln w="0">
            <a:noFill/>
          </a:ln>
        </p:spPr>
      </p:pic>
      <p:sp>
        <p:nvSpPr>
          <p:cNvPr id="101" name="TextBox 3"/>
          <p:cNvSpPr/>
          <p:nvPr/>
        </p:nvSpPr>
        <p:spPr>
          <a:xfrm>
            <a:off x="7643880" y="5167440"/>
            <a:ext cx="4292640" cy="1436400"/>
          </a:xfrm>
          <a:prstGeom prst="rect">
            <a:avLst/>
          </a:prstGeom>
          <a:solidFill>
            <a:srgbClr val="ffffff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а нумерац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елен томосинтез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сены околоносовые пазухи, челюсти и  височная кос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авлены кресты в ячейках, котор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е не заполняютс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5113. </a:t>
            </a: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Компьютерная томография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1494000"/>
          <a:ext cx="10515600" cy="4846320"/>
        </p:xfrm>
        <a:graphic>
          <a:graphicData uri="http://schemas.openxmlformats.org/drawingml/2006/table">
            <a:tbl>
              <a:tblPr/>
              <a:tblGrid>
                <a:gridCol w="4192560"/>
                <a:gridCol w="685800"/>
                <a:gridCol w="1094040"/>
                <a:gridCol w="1552320"/>
                <a:gridCol w="1552680"/>
                <a:gridCol w="1438200"/>
              </a:tblGrid>
              <a:tr h="18288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рганов и систем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(гр. 3)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з внутривенного контрастир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4472c4"/>
                      </a:solidFill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с внутривенным контрастирование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подразделениях, оказывающих медицинскую помощь в амбулаторных условия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 исследов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. ч.: головного мозг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2001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околоносовых пазу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2001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височной к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2001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ласти  шеи, гортани и гортаноглот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2001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ласти груди (без сердца и коронарных сосудов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2001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рдца и коронарных сосу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 marL="2001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рганов брюшной полости (печень,  селезенка,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001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желудочная желез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2001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чек и мочевых пу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2001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рганов малого та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2001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позвоночника, из него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2001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звоночника (шейный отдел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2001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звоночника (грудной отдел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2001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звоночника (поясничный и крестцовый  отделы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2001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костей, суставов и мягких тканей конечносте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marL="2001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1800" spc="-1" strike="noStrike">
                          <a:solidFill>
                            <a:srgbClr val="c55a11"/>
                          </a:solidFill>
                          <a:latin typeface="Calibri"/>
                        </a:rPr>
                        <a:t>прочих органов и систе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34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Ангиография иных сосу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04" name="TextBox 1"/>
          <p:cNvSpPr/>
          <p:nvPr/>
        </p:nvSpPr>
        <p:spPr>
          <a:xfrm>
            <a:off x="7445520" y="4572000"/>
            <a:ext cx="4093920" cy="19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а нумерац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елены височные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сти и околоносовые пазух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ены отделв позвоночни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ставы, коненчости и кости таза объеденины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ы столбцы 4 и 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 Light"/>
              </a:rPr>
              <a:t>5114. </a:t>
            </a:r>
            <a:r>
              <a:rPr b="1" lang="ru-RU" sz="4000" spc="-1" strike="noStrike">
                <a:solidFill>
                  <a:srgbClr val="000000"/>
                </a:solidFill>
                <a:latin typeface="Calibri Light"/>
              </a:rPr>
              <a:t>Рентгенологические </a:t>
            </a:r>
            <a:r>
              <a:rPr b="1" lang="ru-RU" sz="4000" spc="-1" strike="noStrike">
                <a:solidFill>
                  <a:srgbClr val="ff0000"/>
                </a:solidFill>
                <a:latin typeface="Calibri Light"/>
              </a:rPr>
              <a:t>профилактические </a:t>
            </a:r>
            <a:r>
              <a:rPr b="1" lang="ru-RU" sz="4000" spc="-1" strike="noStrike">
                <a:solidFill>
                  <a:srgbClr val="000000"/>
                </a:solidFill>
                <a:latin typeface="Calibri Light"/>
              </a:rPr>
              <a:t>(</a:t>
            </a:r>
            <a:r>
              <a:rPr b="1" lang="ru-RU" sz="4000" spc="-1" strike="noStrike">
                <a:solidFill>
                  <a:srgbClr val="ff0000"/>
                </a:solidFill>
                <a:latin typeface="Calibri Light"/>
              </a:rPr>
              <a:t>скрининговые</a:t>
            </a:r>
            <a:r>
              <a:rPr b="1" lang="ru-RU" sz="4000" spc="-1" strike="noStrike">
                <a:solidFill>
                  <a:srgbClr val="000000"/>
                </a:solidFill>
                <a:latin typeface="Calibri Light"/>
              </a:rPr>
              <a:t>) обследования</a:t>
            </a:r>
            <a:r>
              <a:rPr b="0" lang="ru-RU" sz="40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838080" y="1709640"/>
          <a:ext cx="10515600" cy="4456080"/>
        </p:xfrm>
        <a:graphic>
          <a:graphicData uri="http://schemas.openxmlformats.org/drawingml/2006/table">
            <a:tbl>
              <a:tblPr/>
              <a:tblGrid>
                <a:gridCol w="6042240"/>
                <a:gridCol w="596880"/>
                <a:gridCol w="893520"/>
                <a:gridCol w="1492560"/>
                <a:gridCol w="1490400"/>
              </a:tblGrid>
              <a:tr h="23508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5b9bd5"/>
                      </a:solidFill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5b9bd5"/>
                      </a:solidFill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5b9bd5"/>
                      </a:solidFill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5b9bd5"/>
                      </a:solidFill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7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тям 0-17 л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включительно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ицам старше трудоспособного возрас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4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</a:tr>
              <a:tr h="432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рентгеновских профилактических исследов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рганов грудной клетки, всего,  в том числе выполнено: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пленочных флюорографа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</a:tr>
              <a:tr h="27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на передвижных пленочных флюорографических установках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652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цифровых флюорографах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</a:tr>
              <a:tr h="23472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на передвижных цифровых флюорографических установка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508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нтгенографий на пленк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</a:tr>
              <a:tr h="23652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 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низкодозных компьютерных томограф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4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рентгеновских профилактических исследований молочных желе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</a:tr>
              <a:tr h="236520"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 них выполнено:  на пленочных аппарата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цифровых аппаратах и аппаратах, оснащенных системо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79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пьютерной радиографии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</a:tr>
              <a:tr h="236520"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передвижных маммографических установка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840"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                            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на аппаратах с функцией томосинте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07" name="TextBox 1"/>
          <p:cNvSpPr/>
          <p:nvPr/>
        </p:nvSpPr>
        <p:spPr>
          <a:xfrm>
            <a:off x="7605720" y="4708440"/>
            <a:ext cx="4194000" cy="2040120"/>
          </a:xfrm>
          <a:prstGeom prst="rect">
            <a:avLst/>
          </a:prstGeom>
          <a:solidFill>
            <a:srgbClr val="ffffff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оку 1 добавлено слово "рентгеновских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у 2.1 добавлено "в том числе ... пленочных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авлена строка 1.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оку 2 добавлено слово "рентгеновских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ировка строк 4, 8  (старая таблица) "на цифровых аппаратах и системах  компьютерной радиографии"  изменена на  "на цифровых аппаратах и аппаратах, оснащенных системой компьютерной радиографии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R)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5117. </a:t>
            </a: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Аппараты и оборудование для лучевой  диагностики</a:t>
            </a: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838080" y="1725480"/>
          <a:ext cx="10515600" cy="5029200"/>
        </p:xfrm>
        <a:graphic>
          <a:graphicData uri="http://schemas.openxmlformats.org/drawingml/2006/table">
            <a:tbl>
              <a:tblPr/>
              <a:tblGrid>
                <a:gridCol w="4494240"/>
                <a:gridCol w="658800"/>
                <a:gridCol w="1033560"/>
                <a:gridCol w="1224000"/>
                <a:gridCol w="846000"/>
                <a:gridCol w="1128960"/>
                <a:gridCol w="1130040"/>
              </a:tblGrid>
              <a:tr h="156960"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аппаратов и оборудов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 gridSpan="4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60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подразделениях, оказывающих медицинскую помощь в амбулаторных условиях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 w="5760">
                      <a:solidFill>
                        <a:srgbClr val="4472c4"/>
                      </a:solidFill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йствую-щи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 сроком </a:t>
                      </a:r>
                      <a:br>
                        <a:rPr sz="900"/>
                      </a:b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ксплуатации свыше 10 л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в подразделениях, оказывающих медицинскую помощь в амбулаторных условиях (из гр. 6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52640"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9120"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леуправляемые поворотные столы-штативы с функцией рентгеноскоп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нтгенодиагностические комплексы на 3 рабочих мест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нтгенодиагностические комплексы на 2 рабочих мес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цифровы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нтгенодиагностические комплексы на 1 рабочее мест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цифровы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920"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ифровые аппараты для исследований органов грудной клетки (цифровые флюорографы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на шасси автомоби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леночные флюорограф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на шасси автомоби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алатные аппарат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едвижные рентгенотелевизионные установки типа С-дуг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нтгенурологические аппарат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ммографические аппарат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 marL="88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цифровы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 marL="88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 функцией томосинтез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нтальные аппарат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 marL="88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прицельные (радиовизиографы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 marL="88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цифровы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1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анорамные томографы (ортопантомографы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цифровы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нтальные томограф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гиографические аппараты стационарны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5117. </a:t>
            </a: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Аппараты и оборудование для лучевой  диагностики</a:t>
            </a: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838080" y="2249640"/>
          <a:ext cx="10515600" cy="3063600"/>
        </p:xfrm>
        <a:graphic>
          <a:graphicData uri="http://schemas.openxmlformats.org/drawingml/2006/table">
            <a:tbl>
              <a:tblPr/>
              <a:tblGrid>
                <a:gridCol w="4659480"/>
                <a:gridCol w="682560"/>
                <a:gridCol w="1073160"/>
                <a:gridCol w="1266840"/>
                <a:gridCol w="785880"/>
                <a:gridCol w="876240"/>
                <a:gridCol w="1171440"/>
              </a:tblGrid>
              <a:tr h="274680"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noFill/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noFill/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аппаратов и оборудов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 w="5760">
                      <a:solidFill>
                        <a:srgbClr val="4472c4"/>
                      </a:solidFill>
                    </a:lnL>
                    <a:lnR w="1224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noFill/>
                  </a:tcPr>
                </a:tc>
                <a:tc gridSpan="4">
                  <a:txBody>
                    <a:bodyPr lIns="56880" rIns="568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60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подразделениях, оказывающих медицинскую помощь в амбулаторных условиях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 w="1224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йствую-щи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 сроком </a:t>
                      </a:r>
                      <a:br>
                        <a:rPr sz="900"/>
                      </a:b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ксплуатации свыше 10 л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в подразделениях, оказывающих медицинскую помощь в амбулаторных условиях (из гр. 6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ьютерные томограф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88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пошагов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88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пиральные односрезов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88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пиральные многосрезовые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270000">
                        <a:tabLst>
                          <a:tab algn="l" pos="0"/>
                          <a:tab algn="l" pos="838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. ч.: менее 16 срез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3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270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                     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6 срез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3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270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-40 срез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3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270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64 сре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3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8 и более срез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3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270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едвиж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04T17:34:54Z</dcterms:created>
  <dc:creator>Игорь Тюрин</dc:creator>
  <dc:description/>
  <dc:language>en-US</dc:language>
  <cp:lastModifiedBy>Елена Александровна Бронникова</cp:lastModifiedBy>
  <dcterms:modified xsi:type="dcterms:W3CDTF">2019-12-20T01:15:28Z</dcterms:modified>
  <cp:revision>32</cp:revision>
  <dc:subject/>
  <dc:title>Работа диагностических отделений</dc:title>
</cp:coreProperties>
</file>