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5198-A152-4722-92AA-A2E48CFD1A15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63A4-8C78-4A0F-B4C9-A8A6AA12AF0A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FCC6-0559-456C-BB51-7695DE08EE4B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Dotum"/>
                  <a:ea typeface="Dotum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Dotum"/>
                  <a:ea typeface="Dotum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3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03"/>
          <p:cNvSpPr/>
          <p:nvPr/>
        </p:nvSpPr>
        <p:spPr>
          <a:xfrm>
            <a:off x="-41400" y="-3348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Rectangle 193"/>
          <p:cNvSpPr/>
          <p:nvPr/>
        </p:nvSpPr>
        <p:spPr>
          <a:xfrm>
            <a:off x="4346640" y="3662280"/>
            <a:ext cx="18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равила, порядок и требования </a:t>
            </a:r>
            <a:br>
              <a:rPr sz="4000"/>
            </a:br>
            <a:r>
              <a:rPr b="0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к заполнению ФСН №12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едения о числе заболеваний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регистрированных у пациентов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живающих в районе обслуживания медицинской организации»</a:t>
            </a:r>
            <a:br>
              <a:rPr sz="4000"/>
            </a:br>
            <a:br>
              <a:rPr sz="40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Зарегистрирована Росстатом 22.11.2019 г. № 679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2019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1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611280" y="1341360"/>
            <a:ext cx="80643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, фоновом,  конкурирующем  и сопутствующем заболеваниях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включают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соот-ветствующим  строкам по  числу  выявленных  и  зарегистрированных забо-леваний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4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611280" y="1341360"/>
            <a:ext cx="80643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заполняется на основании первичной учетной медицинской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755640" y="1484280"/>
            <a:ext cx="748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755640" y="1484280"/>
            <a:ext cx="7488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подозрении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болевание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684360" y="1557360"/>
            <a:ext cx="79200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  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1. Дети (0-14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1000)  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9" name="Таблица 1" descr=""/>
          <p:cNvPicPr/>
          <p:nvPr/>
        </p:nvPicPr>
        <p:blipFill>
          <a:blip r:embed="rId1"/>
          <a:stretch/>
        </p:blipFill>
        <p:spPr>
          <a:xfrm>
            <a:off x="628560" y="2603520"/>
            <a:ext cx="7886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6060"/>
                </a:solidFill>
                <a:latin typeface="-윤고딕140"/>
              </a:rPr>
              <a:t>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92" name="Таблица 1" descr=""/>
          <p:cNvPicPr/>
          <p:nvPr/>
        </p:nvPicPr>
        <p:blipFill>
          <a:blip r:embed="rId1"/>
          <a:stretch/>
        </p:blipFill>
        <p:spPr>
          <a:xfrm>
            <a:off x="749160" y="957240"/>
            <a:ext cx="75726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95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2779560"/>
            <a:ext cx="8137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9" name="Таблица 4" descr=""/>
          <p:cNvPicPr/>
          <p:nvPr/>
        </p:nvPicPr>
        <p:blipFill>
          <a:blip r:embed="rId1"/>
          <a:stretch/>
        </p:blipFill>
        <p:spPr>
          <a:xfrm>
            <a:off x="628560" y="2535120"/>
            <a:ext cx="78868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95280" y="90792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-болеваний, зарегистрированных  у  пациентов, проживающих в районе обслужива-ния  медицинской организации»,  составляется  всеми  медицинскими организаци-ями, входящими в номенклатуру медицинских организаций, оказывающих  медицинскую  помощь  в  амбулаторных  условиях (приказ Минздрава  России  от 6  августа  2013 г.  № 529н «Об утверждении номенклатуры медицинских организаций», зарегистрирован Министерством юстиции Российской Федерации 13.09.2013 № 29950,в соответствии с приказом от 21 июля 2016 года № 355 «Об утверждении статистического  инструментария  для  организации  Министерством здравоохранения Рос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ulim"/>
              </a:rPr>
              <a:t>       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4. Взрослые 18 лет и боле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3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3" name="Таблица 1" descr=""/>
          <p:cNvPicPr/>
          <p:nvPr/>
        </p:nvPicPr>
        <p:blipFill>
          <a:blip r:embed="rId1"/>
          <a:stretch/>
        </p:blipFill>
        <p:spPr>
          <a:xfrm>
            <a:off x="628560" y="2822400"/>
            <a:ext cx="7886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5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5. Взрослые старше трудоспособного возраста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(с 55 лет у женщин и с 60 лет у мужчин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4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7" name="Таблица 1" descr=""/>
          <p:cNvPicPr/>
          <p:nvPr/>
        </p:nvPicPr>
        <p:blipFill>
          <a:blip r:embed="rId1"/>
          <a:stretch/>
        </p:blipFill>
        <p:spPr>
          <a:xfrm>
            <a:off x="628560" y="2749680"/>
            <a:ext cx="78868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а 8 трактовка не изменена???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468360" y="-633240"/>
            <a:ext cx="820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468360" y="1628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ответственно графы 8 и графы 14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43000" y="169992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заполняются в соответствии с требованиями по заполнению 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43000" y="1052640"/>
            <a:ext cx="68580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2. Дети первых трех лет жизни       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60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ого года жизн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акторы, влияющие на состояние здоровья населения и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ращения в медицинские организаци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4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412920" y="836640"/>
            <a:ext cx="84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 и ведущая  только консультативный прием, составляет форму по соответствующим строкам лишь в том случае, если в дан-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организации у пациентов  не только выявляются  эти заболевания, но  и осуществляется их лечение,  а также  и диспансерное наблюдение за пациен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250920" y="76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20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557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72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(из гр. 9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4"/>
          <p:cNvSpPr/>
          <p:nvPr/>
        </p:nvSpPr>
        <p:spPr>
          <a:xfrm>
            <a:off x="468360" y="5300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971640" y="1557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246320"/>
          <a:ext cx="7993080" cy="440820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539640" y="1268280"/>
            <a:ext cx="8064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-онар, минуя поликлинику, следует включать в отчёт на общих основания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н амбулаторного пациента  может  быть  заполнен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-дан в поликлини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заполнен в поликлинике на основании выписки из кар-ты стационарного больног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61128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аждый случай острого заболевания зарегистрированный в текущем году не подлежит перерегистрации в следующем. В заболеваемость  не следует вклю-чать заболевания, коды которых отмечены «звездочкой» (альтерна-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ивные), используемые только для специальных разработок по проявлениям ос-новного заболевания и только вместе с кодом основного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755640" y="1052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отит, ос-трый миокардит, острые  респираторные  инфекции  верхних и нижних  дыха-тельных  путей,  грипп, а  также травмы, за  исключением  по следствий и др.) регистрируются столько раз, сколько они возникают в течение отчетного года. При этом графа 4 должна быть равна  графе  9  по  соответствующим  строкам  таблиц 1000, 1500, 2000, 3000 и  4000. На  начало года по данным строкам 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89928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08000" y="1557360"/>
            <a:ext cx="8496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основании сведений 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01 января по 31 декабря 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684360" y="134136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 специалис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 вибрационной  болезнью  (др. 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, которое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755640" y="105264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- ного эпикриза". При этом если пациент пришел на прием, то в Талоне произ-водится отметка о регистрации всех заболеваний для включения  этих сведе-ний в форму федерального  статистического наблюдения № 12 и вносится от-метка о посещении. Если  пациент на  прием  не  пришел, то в  Талоне регис-трируются все заболевания без отметки о посещении. В Талоне такж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-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чета. Эта данные  необходимы для заполнения формы федерального статис-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468360" y="3068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826920" y="1341360"/>
            <a:ext cx="792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755640" y="2133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 10, 11, 36, 37 (за минусом *) и с обязательным движение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684360" y="62064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Деменция 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менция при других болезнях, классифицированных в других рубрика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G3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чке 7.0, по строке 6.0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1403280" y="981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191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-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письмо МЗиСР РФ от 26 апреля 2011 г. №14-9/10/2-41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1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971640" y="692280"/>
            <a:ext cx="7777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ых трех лет жизни - 1500, 1600, 1601, 1650, 1700, 1800, 190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2000, 2001, 2003, 2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 старше  трудоспособного  возраста (с  55 лет  у женщин и 60 лет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мужчин) - 4000, 4001, 4003, 4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            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468360" y="253692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1187280" y="1413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900000" y="307512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971640" y="9079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1"/>
          <p:cNvSpPr/>
          <p:nvPr/>
        </p:nvSpPr>
        <p:spPr>
          <a:xfrm>
            <a:off x="611280" y="2565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1042920" y="21337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8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4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971640" y="692280"/>
            <a:ext cx="7777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28560" y="2276640"/>
          <a:ext cx="7886880" cy="3025440"/>
        </p:xfrm>
        <a:graphic>
          <a:graphicData uri="http://schemas.openxmlformats.org/drawingml/2006/table">
            <a:tbl>
              <a:tblPr/>
              <a:tblGrid>
                <a:gridCol w="1503360"/>
                <a:gridCol w="452520"/>
                <a:gridCol w="506520"/>
                <a:gridCol w="434880"/>
                <a:gridCol w="434880"/>
                <a:gridCol w="506520"/>
                <a:gridCol w="506520"/>
                <a:gridCol w="506160"/>
                <a:gridCol w="582840"/>
                <a:gridCol w="582480"/>
                <a:gridCol w="433440"/>
                <a:gridCol w="434880"/>
                <a:gridCol w="582840"/>
                <a:gridCol w="419040"/>
              </a:tblGrid>
              <a:tr h="233280"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Calibri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9160" rIns="29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8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билитация!!!!!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1187280" y="119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невмония - графа 4 = графе 9, графа 8 = графе 1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900000" y="2276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7" name="Прямоугольник 1"/>
          <p:cNvSpPr/>
          <p:nvPr/>
        </p:nvSpPr>
        <p:spPr>
          <a:xfrm>
            <a:off x="1692360" y="1125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755640" y="27813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116000" y="1197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042920" y="2060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6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8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187280" y="119700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году (+ и -)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1258920" y="1341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684360" y="26128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90000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900000" y="1052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755640" y="292104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1" name="Прямоугольник 1"/>
          <p:cNvSpPr/>
          <p:nvPr/>
        </p:nvSpPr>
        <p:spPr>
          <a:xfrm>
            <a:off x="838080" y="14842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3" name="Прямоугольник 1"/>
          <p:cNvSpPr/>
          <p:nvPr/>
        </p:nvSpPr>
        <p:spPr>
          <a:xfrm>
            <a:off x="755640" y="9349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826920" y="2565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395280" y="38750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8 класса (стр. 19.0), не должны регистрироваться как заболева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611280" y="1413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539640" y="2781360"/>
            <a:ext cx="82090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0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1"/>
          <p:cNvSpPr/>
          <p:nvPr/>
        </p:nvSpPr>
        <p:spPr>
          <a:xfrm>
            <a:off x="971640" y="112536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755640" y="28749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1"/>
          <p:cNvSpPr/>
          <p:nvPr/>
        </p:nvSpPr>
        <p:spPr>
          <a:xfrm>
            <a:off x="971640" y="1125360"/>
            <a:ext cx="770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е 9 – (Х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7, 5.8, 7.10, 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а 9 – (Х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539640" y="765000"/>
            <a:ext cx="820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606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1 – выявлено впервые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755640" y="1989000"/>
            <a:ext cx="77770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нутриформенный, межформенный (с ф. №14)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межгодовой контроль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в ф. № 12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≥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. №14</a:t>
            </a:r>
            <a:br>
              <a:rPr sz="4000"/>
            </a:b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601640" y="1724040"/>
            <a:ext cx="5940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5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163440" y="789120"/>
            <a:ext cx="883944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а результата не являются диагнозом какого-либо заболева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 ф. №12 и ф. №14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611280" y="198900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В данный  отчет  включаются сведения об  общем числе зарегистрированных в данном  учреждении заболеваний у пациентов и о больных с заболеваниям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по поводу которых осуществляется диспансеризац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Светлана Викторовна Шалаева</cp:lastModifiedBy>
  <dcterms:modified xsi:type="dcterms:W3CDTF">2019-12-18T02:30:57Z</dcterms:modified>
  <cp:revision>433</cp:revision>
  <dc:subject/>
  <dc:title>슬라이드 1</dc:title>
</cp:coreProperties>
</file>