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713-8B1D-49F6-8CFC-23958C34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7BA-D200-498E-98C8-03CD93A7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660-0A9C-4225-942E-BE63FE50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BF0-F515-420B-BF93-0F1C560E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8446-05CD-4D7A-A99B-2D4C7932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E178-2798-4DE5-9E76-7023EC74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02AA-DA65-4B75-A66F-C0095DA6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A089-D061-4EDA-9D61-6915AED6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5616-FA96-400B-9E73-787253A5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78A7-1E20-4F29-920E-28C41124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2443-A2D9-475B-BAE4-2037B3CB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ABA-AF7A-4CE6-8E05-428AE3E7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FFA2-75AB-4C77-90EF-B2B4861B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80F4-9F3E-4175-9B4A-6E8E8E19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D09A-31E0-4163-BAE1-A6C0EC03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3B74-64DE-4C8C-A5AB-9DAC03E8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0B44-063A-4AE7-BF27-9BE076D6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E08-F2DF-4BCE-884C-35A71856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B57-906E-422D-95A2-1FA0F3AB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44A-6235-491A-9B6F-883CA884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1E4-7BB9-4FA7-99AF-69809295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452-A4D5-490E-8D68-CA226E7A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8F6-BD58-435E-93AA-1921580B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6DC-07DD-4C70-B8F7-F7B0FD19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E549-F188-47EB-9DD2-E46B52C23CB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81A1-B168-4CFB-B7C9-30C74FE958A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рядок представления годового отчета за2019г. в ГБУЗ «ЗККФПЦ»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Формирование и контроль корректности отчетов федерального статистического наблю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Заместитель главного врача по организационно-методической работе Татьяна Николаевна Кнести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Тел: 41-60-09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8-914-498-945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e-mail: optd_chita@mail.r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0572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5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.8(о заболеваниях активным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уберкулезом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21428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0160" y="257040"/>
            <a:ext cx="87436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71440" y="466560"/>
            <a:ext cx="86011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 по противотуберкулезной работе среди населения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гистрация новых случаев заболевания туберкулезом за 2019г.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 20.12.2019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 25.12.2019г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– окончательно сверить (можно по телефону) заболеваемость, в том числе – выявленных при аутопсии, бактериовыделителей (по методу обнаружения), временно проживающих на территории, БОМЖ, число умерших от туберкул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Типичные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1428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молекулярно-генетических  методов при составлении отчёта по формам 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икак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ющая система мониторинга не рассчитана на учёт результатов молекулярно-генетических методов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посев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использованием автоматических бактериологических анализаторов (бактеков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 составлении отчёта по форма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результаты обычного пос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При сдаче отчета предоставить следующие отчетные фор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8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3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а 2513 формы № 30 – строка 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казать суммарно всех жителей территории обслуживания, обследованных в текущем году лучевым метод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в любой медицинской организации, независимо от ведомственной принадлежност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ы по противотуберкулезной работе среди детей и подростк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заполнить все таблицы по всем графам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 том числ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иммунодиагностике туберкулеза (туберкулиновая проба, Диаскинтест) отразить числ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лиц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следованных данным методом, а не число выполненных исследований; данные должны совпадать с таблице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513 ф. № 30 и таблицей 2200 ф. № 3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вакцинации БЦЖ новорожденных предоставить сводные данные обо всех новорожденных детях района, в том числе рожденных в других Л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о ЗАГСу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 к годовому отчету по противотуберкулезной работе за подписью главного врача ЦРБ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 анализ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казателей в динамике за 3 года в сравнении с краем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оверные пофамильные списки с указанием даты рождения, адреса, даты взятия на учет, диагноза, раздельно с наличием бактериовыделения и без н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контингентов, состоящих на учете п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руппам ДУ (раздельн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ереведенных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ДУ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мерших от туберкулеза в отчетном году по данным ЦСУ, в том числ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елением на городских и сельских ж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 туберкулезом, умерших от других причи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актериовыделителей с МЛУ и их дви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оперированных по поводу туберкулеза различной  лок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 ГБУЗ «ЗККФПЦ », ННИИТ, ККБ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прибывших из ФСИН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нятых с диспансерного учета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лиц с ВИЧ/ТБ, раздельно впервые выявленные и континген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твержденную численность населения  района (всего, дети, подрост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чет за 2019г. по профилактическим осмотрам населения, в бумажном варианте и 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ронном (Еxce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ии форм диспансерного наблюдения больных туберкулезом ф – 30/04 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тчетные данные, отраженные в нескольких отчетных формах, должны во всех формах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ОВПАДА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т.ч.: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мунодиагностика (проба Манту 2те, ДС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евое обследование (флюорография, РГР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ингенты всех групп «Д» учета,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еред сдачей годового отчета будет проводиться контроль ведения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Федерального регистра, лиц больных тубекулезом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ри наличии расхождений отчет 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принят не буде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503280" y="115920"/>
            <a:ext cx="8640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Правила заполнения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форм № 8 и №33 и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типичные ошибк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Елена Александровна Бронникова</cp:lastModifiedBy>
  <dcterms:modified xsi:type="dcterms:W3CDTF">2019-12-20T00:53:54Z</dcterms:modified>
  <cp:revision>90</cp:revision>
  <dc:subject/>
  <dc:title>Недочеты при составлении форм ФСН №№ 30,47,12. Сопоставление данных из разных форм с формами №№ 8 и 33</dc:title>
</cp:coreProperties>
</file>