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292-C3A6-4540-B0D4-5997690B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814-9FBF-4365-8214-7695C9FB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EF0-1A93-441B-A41B-7411F422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8F0-FCBB-43C0-A962-3C039C7E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64F2-9340-4C47-B5A5-AE24035A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830-DB8C-4193-9E23-FD6BC403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99E-45DC-4850-A4A5-39285945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E27-4F56-4253-BCAB-8436F94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2EA4-6EDB-4585-910A-311255B2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4A5-D032-4C1B-B784-E35676D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1E94-E647-411E-A71C-C02D874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497-D459-4F4D-9AD1-CBCFA792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A521-E78E-46FA-8DA1-C6B8C4C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2DB8-B6D1-4F2C-9B69-0C6CBE19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D153-86BC-4A72-A645-0100B10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1981-633D-41D5-8344-29E48594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11F8-802C-47F9-AB42-3CB402AE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980C-32B5-4FE1-BFA8-8AADD867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8BA6-F74B-47E4-8D06-50C1774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8919-D706-4535-87F5-52C916D8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88EB-294C-4204-BB2E-490D500C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09B9-2E64-49B7-A050-9DB1AB5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D0E-67EF-4495-954C-A87D83A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EC20-2763-4F28-86E5-CD499B8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6B71-3C72-4759-94F4-4DF6BB8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7E44-945C-4640-BF83-78BDBA5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0134-4D39-4511-B8EE-E0E4D93F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6230-CC87-461E-AB17-11A656A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2B9F-1EB2-46BD-88EC-859E79F9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80DA-E8EB-4BC5-A731-29D5FF00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0C5F-58F4-46D6-944D-08086B21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13DF-A5CC-4DDA-9381-07BC3BB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C94C-5D80-4A4D-A494-A1D82D46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5BD-9664-4DCF-B8CF-CA893CB2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CBB0-1545-4B8D-91FA-2636B580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0957-4BED-4CF1-9394-5CE65599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9B86-872F-4953-B64C-F5066EC7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DA77F-32E4-48BF-81C1-1CD65BC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59E1-F521-4956-8359-E82C75D4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623A-A7AF-4C4C-858C-1CC44D2D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376D-30EC-4F10-849D-88652B9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F9459-E8C8-458E-BBCB-EF60494D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49C3-9B58-492C-9688-4561BCAB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E57-5BAA-4CF5-A875-1B1FD9B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A19-6EDD-4C87-91E0-BB5ADDD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729-6BD9-4068-94CD-FACDB18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207-BEB0-4C37-B90B-0D6EB738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587-50C6-4D98-8C5B-3C214BB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1D76-CBFF-4DA7-A013-107FE4AD42D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756E-006E-4C14-B37C-84B09F86B77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C4AB-E095-4B3C-82A0-C7CEC511732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4FB-B2FA-4601-855A-12B28293CD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8070840" cy="394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15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onstantia"/>
              </a:rPr>
              <a:t>Брендирование автомобилей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ализация мероприятий по приобретению медицинского автомобильного транспорта в 2021-2022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Главная медсестра\Desktop\авто у приемного — копия.jpg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Главная медсестра\Desktop\авто у гаража.jpg"/>
          <p:cNvPicPr/>
          <p:nvPr/>
        </p:nvPicPr>
        <p:blipFill>
          <a:blip r:embed="rId2"/>
          <a:stretch/>
        </p:blipFill>
        <p:spPr>
          <a:xfrm>
            <a:off x="4648320" y="26272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орловская участковая больн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1 год – 16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2 год - 1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Users\Главная медсестра\Desktop\нуб нива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xuJLec</dc:creator>
  <dc:description/>
  <dc:language>en-US</dc:language>
  <cp:lastModifiedBy>Главная медсестра</cp:lastModifiedBy>
  <dcterms:modified xsi:type="dcterms:W3CDTF">2022-11-11T09:06:4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