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89878-552B-40AB-84F7-CEC4DB0C348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44ECD-5E51-48F2-90C3-F61B951E3F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E7BF8-0EA2-4B1D-A179-0E5EE7FE7D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7CB85-9CBF-460E-9AA0-2786BDF12B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22A45-1E60-4E91-A987-90278B36EC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B9B1-6E2C-4EA1-89EB-35E32E957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EE77-B4E4-4ED2-A19C-DDF848428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5D69-1D41-4F8C-8E8C-09ACB540F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4DCC-4CE5-4732-BF22-B82D0CCF5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BB61F-815D-494D-AE21-29B3C7CC0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0D79A-11FA-497C-9243-C2D7C3749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DFC4F-2686-4174-94AF-72D8EAAC4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5A28B-A55F-4AFD-A009-150397940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8F8B4-2D14-45BB-BA26-04F721035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24F80-3F2B-4C7A-A089-2EB290323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376B6-EABD-4CD5-82A9-9F7B511A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BAAA-6173-4758-B135-8C1D52915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EFD11-BB34-4054-B1B1-05065EE7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4A978-603A-49AE-9C8D-2844F171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E638A-F41B-4927-B30C-F9401E464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FC8ED-39D9-450C-AA6D-A162FA34E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E71B2-F34C-4B58-91BF-E3489BFDC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C634-7C38-4346-B142-B9F06B998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7EBE-A61A-48E1-B5A1-98FA02059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A1D7-7756-482C-BD18-A32987CD9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07BE-5647-421D-BC1E-DFB1CFD75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99A0-C900-402A-8102-3B72F470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8918-A5EF-4479-B640-29A5CA9B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49F8-8BDA-4634-8AB0-28874B20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7"/>
          <p:cNvSpPr/>
          <p:nvPr/>
        </p:nvSpPr>
        <p:spPr>
          <a:xfrm rot="16200000">
            <a:off x="-2473200" y="2672640"/>
            <a:ext cx="6629400" cy="1587600"/>
          </a:xfrm>
          <a:custGeom>
            <a:avLst/>
            <a:gdLst>
              <a:gd name="textAreaLeft" fmla="*/ 0 w 6629400"/>
              <a:gd name="textAreaRight" fmla="*/ 6629760 w 6629400"/>
              <a:gd name="textAreaTop" fmla="*/ 0 h 1587600"/>
              <a:gd name="textAreaBottom" fmla="*/ 1587960 h 1587600"/>
            </a:gdLst>
            <a:ahLst/>
            <a:rect l="textAreaLeft" t="textAreaTop" r="textAreaRight" b="textAreaBottom"/>
            <a:pathLst>
              <a:path w="5693" h="1000">
                <a:moveTo>
                  <a:pt x="0" y="584"/>
                </a:moveTo>
                <a:cubicBezTo>
                  <a:pt x="249" y="545"/>
                  <a:pt x="844" y="377"/>
                  <a:pt x="1504" y="352"/>
                </a:cubicBezTo>
                <a:cubicBezTo>
                  <a:pt x="2168" y="300"/>
                  <a:pt x="3246" y="322"/>
                  <a:pt x="3960" y="432"/>
                </a:cubicBezTo>
                <a:cubicBezTo>
                  <a:pt x="4641" y="548"/>
                  <a:pt x="5616" y="920"/>
                  <a:pt x="5688" y="1000"/>
                </a:cubicBezTo>
                <a:lnTo>
                  <a:pt x="5693" y="6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a2ccfa"/>
              </a:gs>
              <a:gs pos="100000">
                <a:srgbClr val="e5f1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28"/>
          <p:cNvSpPr/>
          <p:nvPr/>
        </p:nvSpPr>
        <p:spPr>
          <a:xfrm>
            <a:off x="63360" y="63360"/>
            <a:ext cx="9037800" cy="1605240"/>
          </a:xfrm>
          <a:custGeom>
            <a:avLst/>
            <a:gdLst>
              <a:gd name="textAreaLeft" fmla="*/ 0 w 9037800"/>
              <a:gd name="textAreaRight" fmla="*/ 9038160 w 9037800"/>
              <a:gd name="textAreaTop" fmla="*/ 0 h 1605240"/>
              <a:gd name="textAreaBottom" fmla="*/ 1605600 h 1605240"/>
            </a:gdLst>
            <a:ahLst/>
            <a:rect l="textAreaLeft" t="textAreaTop" r="textAreaRight" b="textAreaBottom"/>
            <a:pathLst>
              <a:path w="5693" h="1000">
                <a:moveTo>
                  <a:pt x="0" y="584"/>
                </a:moveTo>
                <a:cubicBezTo>
                  <a:pt x="253" y="552"/>
                  <a:pt x="820" y="405"/>
                  <a:pt x="1520" y="392"/>
                </a:cubicBezTo>
                <a:cubicBezTo>
                  <a:pt x="2184" y="340"/>
                  <a:pt x="3486" y="394"/>
                  <a:pt x="4200" y="504"/>
                </a:cubicBezTo>
                <a:cubicBezTo>
                  <a:pt x="4881" y="620"/>
                  <a:pt x="5616" y="920"/>
                  <a:pt x="5688" y="1000"/>
                </a:cubicBezTo>
                <a:lnTo>
                  <a:pt x="5693" y="6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e7f2fe"/>
              </a:gs>
              <a:gs pos="100000">
                <a:srgbClr val="a2ccf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29"/>
          <p:cNvSpPr/>
          <p:nvPr/>
        </p:nvSpPr>
        <p:spPr>
          <a:xfrm>
            <a:off x="324000" y="6500880"/>
            <a:ext cx="85690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30"/>
          <p:cNvGrpSpPr/>
          <p:nvPr/>
        </p:nvGrpSpPr>
        <p:grpSpPr>
          <a:xfrm>
            <a:off x="0" y="3240"/>
            <a:ext cx="9144000" cy="6854760"/>
            <a:chOff x="0" y="3240"/>
            <a:chExt cx="9144000" cy="6854760"/>
          </a:xfrm>
        </p:grpSpPr>
        <p:grpSp>
          <p:nvGrpSpPr>
            <p:cNvPr id="4" name="Group 31"/>
            <p:cNvGrpSpPr/>
            <p:nvPr/>
          </p:nvGrpSpPr>
          <p:grpSpPr>
            <a:xfrm>
              <a:off x="0" y="3240"/>
              <a:ext cx="9144000" cy="6854760"/>
              <a:chOff x="0" y="3240"/>
              <a:chExt cx="9144000" cy="6854760"/>
            </a:xfrm>
          </p:grpSpPr>
          <p:sp>
            <p:nvSpPr>
              <p:cNvPr id="5" name="Freeform 32"/>
              <p:cNvSpPr/>
              <p:nvPr/>
            </p:nvSpPr>
            <p:spPr>
              <a:xfrm>
                <a:off x="0" y="6386400"/>
                <a:ext cx="436680" cy="471600"/>
              </a:xfrm>
              <a:custGeom>
                <a:avLst/>
                <a:gdLst>
                  <a:gd name="textAreaLeft" fmla="*/ 0 w 436680"/>
                  <a:gd name="textAreaRight" fmla="*/ 436680 w 436680"/>
                  <a:gd name="textAreaTop" fmla="*/ 0 h 471600"/>
                  <a:gd name="textAreaBottom" fmla="*/ 471960 h 471600"/>
                </a:gdLst>
                <a:ahLst/>
                <a:rect l="textAreaLeft" t="textAreaTop" r="textAreaRight" b="textAreaBottom"/>
                <a:pathLst>
                  <a:path w="275" h="297">
                    <a:moveTo>
                      <a:pt x="275" y="291"/>
                    </a:moveTo>
                    <a:lnTo>
                      <a:pt x="112" y="211"/>
                    </a:lnTo>
                    <a:lnTo>
                      <a:pt x="28" y="127"/>
                    </a:lnTo>
                    <a:lnTo>
                      <a:pt x="0" y="0"/>
                    </a:lnTo>
                    <a:lnTo>
                      <a:pt x="1" y="29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33"/>
              <p:cNvSpPr/>
              <p:nvPr/>
            </p:nvSpPr>
            <p:spPr>
              <a:xfrm>
                <a:off x="31680" y="41400"/>
                <a:ext cx="9072720" cy="6770520"/>
              </a:xfrm>
              <a:prstGeom prst="roundRect">
                <a:avLst>
                  <a:gd name="adj" fmla="val 6227"/>
                </a:avLst>
              </a:prstGeom>
              <a:noFill/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34"/>
              <p:cNvSpPr/>
              <p:nvPr/>
            </p:nvSpPr>
            <p:spPr>
              <a:xfrm>
                <a:off x="0" y="3240"/>
                <a:ext cx="460440" cy="50004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500040"/>
                  <a:gd name="textAreaBottom" fmla="*/ 500400 h 500040"/>
                </a:gdLst>
                <a:ahLst/>
                <a:rect l="textAreaLeft" t="textAreaTop" r="textAreaRight" b="textAreaBottom"/>
                <a:pathLst>
                  <a:path w="290" h="315">
                    <a:moveTo>
                      <a:pt x="1" y="315"/>
                    </a:moveTo>
                    <a:cubicBezTo>
                      <a:pt x="21" y="279"/>
                      <a:pt x="76" y="150"/>
                      <a:pt x="122" y="97"/>
                    </a:cubicBezTo>
                    <a:cubicBezTo>
                      <a:pt x="163" y="44"/>
                      <a:pt x="290" y="23"/>
                      <a:pt x="279" y="0"/>
                    </a:cubicBez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35"/>
              <p:cNvSpPr/>
              <p:nvPr/>
            </p:nvSpPr>
            <p:spPr>
              <a:xfrm>
                <a:off x="8742240" y="6399360"/>
                <a:ext cx="401760" cy="455400"/>
              </a:xfrm>
              <a:custGeom>
                <a:avLst/>
                <a:gdLst>
                  <a:gd name="textAreaLeft" fmla="*/ 0 w 401760"/>
                  <a:gd name="textAreaRight" fmla="*/ 402120 w 401760"/>
                  <a:gd name="textAreaTop" fmla="*/ 0 h 455400"/>
                  <a:gd name="textAreaBottom" fmla="*/ 455760 h 455400"/>
                </a:gdLst>
                <a:ahLst/>
                <a:rect l="textAreaLeft" t="textAreaTop" r="textAreaRight" b="textAreaBottom"/>
                <a:pathLst>
                  <a:path w="253" h="287">
                    <a:moveTo>
                      <a:pt x="250" y="0"/>
                    </a:moveTo>
                    <a:lnTo>
                      <a:pt x="179" y="143"/>
                    </a:lnTo>
                    <a:lnTo>
                      <a:pt x="85" y="236"/>
                    </a:lnTo>
                    <a:lnTo>
                      <a:pt x="0" y="287"/>
                    </a:lnTo>
                    <a:lnTo>
                      <a:pt x="253" y="284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Freeform 36"/>
            <p:cNvSpPr/>
            <p:nvPr/>
          </p:nvSpPr>
          <p:spPr>
            <a:xfrm>
              <a:off x="8691480" y="4680"/>
              <a:ext cx="446040" cy="54612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46120"/>
                <a:gd name="textAreaBottom" fmla="*/ 546480 h 546120"/>
              </a:gdLst>
              <a:ahLst/>
              <a:rect l="textAreaLeft" t="textAreaTop" r="textAreaRight" b="textAreaBottom"/>
              <a:pathLst>
                <a:path w="281" h="348">
                  <a:moveTo>
                    <a:pt x="0" y="0"/>
                  </a:moveTo>
                  <a:cubicBezTo>
                    <a:pt x="33" y="16"/>
                    <a:pt x="125" y="6"/>
                    <a:pt x="202" y="96"/>
                  </a:cubicBezTo>
                  <a:cubicBezTo>
                    <a:pt x="279" y="186"/>
                    <a:pt x="268" y="348"/>
                    <a:pt x="281" y="332"/>
                  </a:cubicBezTo>
                  <a:lnTo>
                    <a:pt x="28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270000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8E5D0-5052-42D5-80DC-0BE37AC3E8F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Picture 38" descr="doct___19"/>
          <p:cNvPicPr/>
          <p:nvPr/>
        </p:nvPicPr>
        <p:blipFill>
          <a:blip r:embed="rId2"/>
          <a:stretch/>
        </p:blipFill>
        <p:spPr>
          <a:xfrm>
            <a:off x="324000" y="476280"/>
            <a:ext cx="755640" cy="490680"/>
          </a:xfrm>
          <a:prstGeom prst="rect">
            <a:avLst/>
          </a:prstGeom>
          <a:ln w="0">
            <a:noFill/>
          </a:ln>
        </p:spPr>
      </p:pic>
      <p:pic>
        <p:nvPicPr>
          <p:cNvPr id="16" name="Picture 39" descr="diagr_08"/>
          <p:cNvPicPr/>
          <p:nvPr/>
        </p:nvPicPr>
        <p:blipFill>
          <a:blip r:embed="rId3"/>
          <a:stretch/>
        </p:blipFill>
        <p:spPr>
          <a:xfrm>
            <a:off x="0" y="0"/>
            <a:ext cx="601560" cy="738360"/>
          </a:xfrm>
          <a:prstGeom prst="rect">
            <a:avLst/>
          </a:prstGeom>
          <a:ln w="0">
            <a:noFill/>
          </a:ln>
        </p:spPr>
      </p:pic>
      <p:pic>
        <p:nvPicPr>
          <p:cNvPr id="17" name="Picture 37" descr="diagr_11"/>
          <p:cNvPicPr/>
          <p:nvPr/>
        </p:nvPicPr>
        <p:blipFill>
          <a:blip r:embed="rId4"/>
          <a:stretch/>
        </p:blipFill>
        <p:spPr>
          <a:xfrm>
            <a:off x="108000" y="549360"/>
            <a:ext cx="431640" cy="30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AF536-B270-4209-BC85-6E32C169C13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4920" y="1989000"/>
            <a:ext cx="82803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ополнительные разъяснения к инструкции по заполнению отчетной формы №61 за 2018 год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Сведения о болезни, вызванной вирусом иммунодефицита человека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84360" y="5300640"/>
            <a:ext cx="763272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Татьяна Анатольевна Максимен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Главный внештатный специалист по проблемам диагностики и лечения ВИЧ – инфекции Минздрава Забайкальского кр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19280" y="244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а №61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тв. Пр. Росстата №672 от 30.12.201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межгодовой контроль 2017/2018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8360" y="1197000"/>
            <a:ext cx="8229600" cy="55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троль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61: таблица 2000 1гр, 04ст отчетного года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орме 61 таблицы 1000, 12гр, 19ст предыдущего года + форма 61, 2000, 1гр, ст 05+07+09 отчетного года –форма 61 2000, 1гр, 10 ст отчетного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троль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61: 2000 таблица, 8гр, 04 ст отчетного года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1, 1000, 13гр , 19ст предыдущего года + форма 61, 2000, 8гр, ст 05+07+09 отчетного года – 2000, 8гр, ст10 отчетного 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D42C6-0CD7-47BF-A443-A9204BC859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-mail: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itaids@kkib.sibhost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D7724-6A0C-4889-A45C-4D9097D70A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920" y="2130120"/>
            <a:ext cx="8207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Благодарю за внимание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3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в себя только тех лиц, которые были обследованы на антитела к ВИЧ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кущем году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едицинских организациях, относящихся к Минздраву Росс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, графа 2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у которых при исследовании крови на антитела к ВИЧ в отчетном году, получены положительные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словия контроля: строка 1, графа 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gt;=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графе.3 (В20-24) +графе.4 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Z2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допускается, что сумма граф. 2+3 может быть меньше графа.2 только на число пациентов, выявленных в течение 1-го месяца (декабрь текущего год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92495-C7AD-4D63-B45D-9D669947ED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360" y="836640"/>
            <a:ext cx="83008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 algn="just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оки 1+2, графы. 5-15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уются из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. 3100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роки.2, графы.3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ыявлено в отчетном году пациентов с ВИЧ-инфекцией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ы В20-В2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»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ы данные по возрастам и по кодам В20-В2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 algn="just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строки 1+2, графы 5-15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о вносятся сведени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других ведомст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роки.45+46,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ом числе сведени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учр. ФСИ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роки. 47+48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о нужны данные по возрастам и по кодам В20-В2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таб.1000, строки.1+2, графы.5-15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сведений переносится в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роки.41-4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ьские жител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роки.43-4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а БОМЖ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роки.49-5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ертные случа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роки.51-5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странные граждан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2627280" y="6519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0D67D-2069-4EBB-B0A5-46E44882DE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1000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оки.57- 60, графы.5-15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уются из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рок.57-58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актные лиц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20.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включают в себя сведения о пациентах, зарегистрированных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ы данные по возраста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рок. 59-6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Z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) формируетс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таблицы.3100, строки.1, графы.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о нужны данные по возраста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74B73-F857-4C39-9E3A-91A973A2A7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троки. 1-8, графы 5-6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ервые выявленные пациент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формируются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таблицы.3100, строки.1, графы.3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оме посмертных случаев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трока. 10, графы 5-6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ервые выявленные пациент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формируются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ы.3100, строки.1, графы.4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трока. 9, графы 5-6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ервые выявленные пациент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формируются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ы.1000, строк.57-58, графа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E9D2D-79EA-460E-AAA6-E64B40E584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линические стади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ациентов с ВИЧ-инфекцией показываются в строках 1-8 и только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графах 16-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9D8B4-F6EE-47E3-9605-AB2D947DDE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3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3000 показываются только те пациенты с ВИЧ-инфекцией,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торые были обследов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в отчетном году – 2018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EC6FA-6E02-4C25-976F-3C97DE186C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строке 16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ется число пациенто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ВИЧ-инфекцией с проявлениями ТБ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ы В20.0, В20.7, В22.7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и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умерших в отчетном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т всех причин, то есть использую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коды В20-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8F02D-64FD-471D-98CC-5A88DE71FD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28640"/>
            <a:ext cx="8229600" cy="40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ются только те пациенты с ВИЧ-инфекцией, которые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ыли пролече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в текущем году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2018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8F749-9C0E-4D29-BE40-07B1BC40E5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7T11:03:22Z</dcterms:created>
  <dc:creator>Волошина ЛИ; Центр СПИД Чита</dc:creator>
  <dc:description/>
  <dc:language>en-US</dc:language>
  <cp:lastModifiedBy>Миргород</cp:lastModifiedBy>
  <dcterms:modified xsi:type="dcterms:W3CDTF">2018-12-20T05:02:31Z</dcterms:modified>
  <cp:revision>187</cp:revision>
  <dc:subject/>
  <dc:title>МОДЕРНИЗАЦИЯ СИСТЕМЫ ОКАЗАНИЯ ПРОТИВОТУБЕРКУЛЕЗНОЙ ПОМОЩИ БОЛЬНЫМ ТУБЕРКУЛЕЗОМ ЛЕГКИХ В НОВЫХ ЭПИДЕМИОЛОГИЧЕСКИХ УСЛОВИЯХ</dc:title>
</cp:coreProperties>
</file>