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34BC-67B5-47ED-A170-632DF07A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8F83-0D8E-4839-B601-1BD78D76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8F41-8D27-48C3-81F1-F0B03329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B9AE8-554A-4EC2-B01B-AF16CEC5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E232-CE4A-4DC7-B735-1557FF74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03E3-E97D-486A-94E3-441D4987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4B4A-D436-49B1-AA1D-16127BCC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A503-6F5E-4CBC-8695-F31BCF5D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F2A6-6007-47B7-82F5-22D1A1F9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B34F-4C71-4AE9-A1F7-90F77D63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71EF-89D6-4503-968A-EA755A96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9340-ACF4-4183-B959-CAFB92A4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8795-6A03-4C47-9227-F140251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E901-5B24-48A3-AD58-68264E6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FAE4-0DF3-4D8E-86F5-4A9A0ACD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D242-F0F9-458B-B7D9-98DAC32D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3C82-1BF2-4906-A93D-9D412645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9C5A1-175C-4280-849C-766C88EF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B906-6652-4098-BABA-CC01F62B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3F216-3AB4-40CE-8409-984702D2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AF5E-8F61-42C2-986A-6291F6EC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1C08F-A27B-4018-B9B6-BFDC4F9A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DE96-9C41-4F32-902B-E47FBC67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2D4E-539D-4CE3-A20C-B6E8A102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223D-A41A-4E96-AF98-0F2FBF7B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8E83-AF7A-4C18-815D-28A4E5F4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2429-5BBA-4D8D-8B5A-16BEE87A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F838-144A-4346-A26A-24D39D5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3193-C5A3-42BB-806D-9984926B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BB1E-E45A-40BD-92AF-53122941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65D6-1F15-47C9-B313-B4E9A4AD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9C61-C5D9-4707-B142-180628CC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5DD3-6631-4154-A50D-2880BD09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F588-52F3-4CEE-B3A4-ED14CD0B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6A42-38C5-4BA0-9927-57D7C6F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E61B-4D81-49C6-BEAB-94AD62AB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9769-DB21-4245-AC44-6A56A6B9D8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58A-C731-4479-9338-77C3731EE6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41FB-76B9-4859-9238-02BCFE2DC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РАЗДЕ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«ПАТОЛОГИЧЕСКАЯ АНАТОМ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ФОРМ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14 и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(5502)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cc0000"/>
                </a:solidFill>
                <a:uFillTx/>
                <a:latin typeface="Arial"/>
              </a:rPr>
              <a:t>- ЗАПОЛНЯТЬ!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ы по ОКЕИ:   единица – 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биопсийного и операционного материала 1 __________ , из них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2 __________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обслуживаемых медицинских организаций по исследованиям цитологического материала 3 ___________ , 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х организаций, оказывающих медицинскую помощь в амбулаторных условиях 4 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смертная патологоанатомическая диагнос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(патологоанатомические вскрытия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ТАБЛИЦА (5503)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яется исключительно по результатам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патологоанатомически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скрытий умерших в стационаре и амбулаторно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СОМАТИЧЕСКОЙ ПАТ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заболеваний).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79280" y="115920"/>
          <a:ext cx="8785440" cy="5802120"/>
        </p:xfrm>
        <a:graphic>
          <a:graphicData uri="http://schemas.openxmlformats.org/drawingml/2006/table">
            <a:tbl>
              <a:tblPr/>
              <a:tblGrid>
                <a:gridCol w="4214880"/>
                <a:gridCol w="517680"/>
                <a:gridCol w="520560"/>
                <a:gridCol w="492120"/>
                <a:gridCol w="492120"/>
                <a:gridCol w="490680"/>
                <a:gridCol w="493560"/>
                <a:gridCol w="490680"/>
                <a:gridCol w="1073160"/>
              </a:tblGrid>
              <a:tr h="547920"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мические вскры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атегориям сложности (из графы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з гр.3 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не медицинских организаций, оказывающих медицинскую помощь 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вскрытий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43560" rIns="435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(0–17 лет включительно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, умерших в возрасте 0–6 су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одившихся в с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и 22-27 нед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7 дней – 11 месяцев 29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–4 года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5–14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, умерших в возрасте 15–17 лет включи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трудоспособном возрасте (жен.: 18–54 г. включительно;  муж.: 18–59 лет включ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лиц в возрасте старше трудоспособ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мерт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мертворожденных при сроке беремен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–27 нед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2"/>
          <p:cNvSpPr/>
          <p:nvPr/>
        </p:nvSpPr>
        <p:spPr>
          <a:xfrm>
            <a:off x="0" y="599688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(5505)  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служиваемых медицинских организаций всего 2 _____________ , из них: медицинских организаций,  оказывающих медицинскую помощь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____ .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бъектов гистологического исследования по секционному материалу  4 __________ .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1916280"/>
            <a:ext cx="287280" cy="2174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220500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2565360"/>
            <a:ext cx="287280" cy="2872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5300640"/>
            <a:ext cx="287280" cy="2890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заполнить таблицу 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5503 и ф. 14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м НЕОБХОДИ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Составить списки умерших с град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для Вашего удобства в работе – лучше в форм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ы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возрастной групп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удоспособный, не трудоспособный,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классам МК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 наличию/отсутствию патологоанатомического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крытия с указанием сличения диагнозов и      категории сложности каждой аутоп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составленным спискам 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БЛАГОПРЕМЕННО сверить данные по вскрытиям с         ПАТОЛОГОАНАТОМАМИ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№ 1. Трудоспособный возра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484280"/>
          <a:ext cx="8229600" cy="517536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ванов Павел Пет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Расхожд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ов Иван Семенови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ходжкинская лимфом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аева Анн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л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пая травма живо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пример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№ 2. Не трудоспособный возра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600200"/>
          <a:ext cx="8229600" cy="5103720"/>
        </p:xfrm>
        <a:graphic>
          <a:graphicData uri="http://schemas.openxmlformats.org/drawingml/2006/table">
            <a:tbl>
              <a:tblPr/>
              <a:tblGrid>
                <a:gridCol w="442800"/>
                <a:gridCol w="1584360"/>
                <a:gridCol w="1150920"/>
                <a:gridCol w="1368360"/>
                <a:gridCol w="2232360"/>
                <a:gridCol w="145080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Ф.И.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мерш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скрыт 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ез в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од МКБ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Диагн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кратко!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личение диагнозов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тегория слож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син Павел Иван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сторонняя пневмония не уточненной этиолог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овпа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тегория сло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ова Ирина Семенов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ры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ый ишемический инсуль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лов Петр Пет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кры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ифр МКБ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енные ножевые ран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--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ерв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(макроскопическое исследование) без проведения гистологического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второй категории сло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лода, мертворожденного или новорожденного, а также патолого-анатомическое вскрытие при установленном клиническом диагнозе, включая осложнения основного заболевания, при отсутствии трудностей в трактовке механизмов и причины смерти (в том числе при ишемической болезни сердца, ревматических поражениях клапанов сердца вне обострения, инфаркте головного мозга, новообразованиях, подтвержденных гистологически, циррозе печени, язве желудка и двенадцатиперстной кишки, аппендиците, холецистите, желчнокаменной болезни, аневризме аор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 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третье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установленном клиническом диагнозе, включая осложнения основного заболевания, а также в случаях смерти после оперативных вмешательств (за исключением случаев, предусмотренных подпунктами 4 и 5 настоящего пункта), когда возникают трудности в трактовке сущности патологического процесса, механизмов и причины смерти, что требует применения дополнительных гистологических и гистохимических окрасок, бактериоскопического, бактериологического, биохимического и других исследований (в том числе при кардиомиопатиях, перикардитах, миокардитах, эндокардитах, цереброваскулярных заболеваниях, сосудистой недостаточности кишечника, кишечной непроходимости, вирусных гепатитах, пиелонефритах, мочекаменной болезни, обструктивных болезнях легкого, сосудистой недостаточности конечностей, психических и нервных болезнях, алкоголизме, панкреатитах, амилоидоз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четвертой категории слож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комбинированном основном заболевании или полипатии, при наличии дефектов диагностики и лечения, что вызвало трудности в трактовке характера патологического процесса, механизмов и причины смерти (в том числе при интраоперационной или ранней послеоперационной смерти, инфекционных заболеваниях (кроме ВИЧ-инфекции, особо опасных инфекций), заболеваниях беременных, рожениц и родильниц, при гнойно-воспалительных осложнениях, не диагностированных при жизни, сепсисе, болезнях крови и кроветворных органов, ревматических болезнях, заболеваниях спинного мозга, болезнях кожи и костно-мышечной системы, профессиональных заболеваниях, в том числе пневмокониозах, интерстициальных болезнях легких, болезнях эндокринной системы, болезнях накопл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атолого-анатомические вскрытия подразделяются на следующие категории сложности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 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атолого-анатомическое вскрытие пятой категории слож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толого-анатомическое вскрытие при неустановленном клиническом диагнозе основного заболевания, когда имеются трудности в трактовке характера патологического процесса и причины смерти или необходимо применение дополнительных иммуногистохимических, молекулярно-биологических, электронно-микроскопических методов исследования (в том числе при новообразованиях неустановленного гистогенеза, особо опасных инфекционных болезнях, ВИЧ-инфе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КОНТАКТЫ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в течение рабочего дня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отделением общей и инфекционной патологии (г. Чита) – ГОНЧАРОВА Марина Александ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-43-02; 8-914-490-90-9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Краснокаменским ПаО – Плакущая Надежда Владимировн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145-23-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ующая Первомайским ПаО – Старнавская Наталья Никола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914-512-42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 классам МКБ-Х необходимо заполнить три табличных формы (2000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зросл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8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е трудоспособный возра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женщины 55 дет, мужчины 60 лет и старш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Д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т 0 до 17 лет включи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ФОРМА 14</a:t>
            </a:r>
            <a:br>
              <a:rPr sz="28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ОСТАВ БОЛЬНЫХ В СТАЦИОНАРЕ, СРОКИ И ИСХОДЫ ЛЕ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олбцы № 8; 9 и 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8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мерло ВСЕ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-10 показываем всю летальность, наступившую в стационаре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включая классы «внешние причины смерти» (СМЭ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9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роведено патологоанатомических вскрыти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классам МКБ показываем умерших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двергнутых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ПАТОЛОГОАНАТОМИЧЕСКОМ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скрытию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!!!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 включая умерших от «внешних причин смерти» (СМЭ!!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толбец № 10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овлено расхождений диагноз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по классам МКБ - количество расхождений (без учёта категории расхождения диагноза),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из числа умерших, подвергнутых патологоанатомическому вскры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620640"/>
          <a:ext cx="8785440" cy="6051600"/>
        </p:xfrm>
        <a:graphic>
          <a:graphicData uri="http://schemas.openxmlformats.org/drawingml/2006/table">
            <a:tbl>
              <a:tblPr/>
              <a:tblGrid>
                <a:gridCol w="3246480"/>
                <a:gridCol w="924120"/>
                <a:gridCol w="1019160"/>
                <a:gridCol w="988920"/>
                <a:gridCol w="1373040"/>
                <a:gridCol w="1233720"/>
              </a:tblGrid>
              <a:tr h="142920"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Взрослые 18 лет и старш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4800" rIns="648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1"/>
          <p:cNvSpPr/>
          <p:nvPr/>
        </p:nvSpPr>
        <p:spPr>
          <a:xfrm>
            <a:off x="179280" y="112680"/>
            <a:ext cx="8572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ВОЗРАСТ – СТАЦИОНАРНАЯ ЛЕТАЛЬНОСТЬ   (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00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684360" y="201240"/>
            <a:ext cx="7786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ТРУДОСПОСОБНЫЙ ВОЗРАС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79280" y="836640"/>
          <a:ext cx="8713800" cy="5842080"/>
        </p:xfrm>
        <a:graphic>
          <a:graphicData uri="http://schemas.openxmlformats.org/drawingml/2006/table">
            <a:tbl>
              <a:tblPr/>
              <a:tblGrid>
                <a:gridCol w="3221280"/>
                <a:gridCol w="914400"/>
                <a:gridCol w="1012680"/>
                <a:gridCol w="981000"/>
                <a:gridCol w="1362240"/>
                <a:gridCol w="1222200"/>
              </a:tblGrid>
              <a:tr h="404640"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Взрослые  старше  трудоспособного 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с 55 лет у женщин и с 60 лет у мужчин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болез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36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42480" rIns="4248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лим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идной, кроветворной и родственных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 тка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2480" rIns="4248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24000" y="928800"/>
          <a:ext cx="8569080" cy="5716440"/>
        </p:xfrm>
        <a:graphic>
          <a:graphicData uri="http://schemas.openxmlformats.org/drawingml/2006/table">
            <a:tbl>
              <a:tblPr/>
              <a:tblGrid>
                <a:gridCol w="3020760"/>
                <a:gridCol w="733680"/>
                <a:gridCol w="863280"/>
                <a:gridCol w="986040"/>
                <a:gridCol w="988920"/>
                <a:gridCol w="988920"/>
                <a:gridCol w="987480"/>
              </a:tblGrid>
              <a:tr h="217440"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смо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</a:t>
                      </a:r>
                      <a:r>
                        <a:rPr b="0" lang="en-US" sz="12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ети (в возрасте 0-17 лет включитель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43200" rIns="4320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00-Т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ые 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А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беркулез органов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15-A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ингококковая инфек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пс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40-A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, передающиеся преимущественно половым пу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50-А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28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полиомиел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6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русный гепат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15-В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ь, вызванная ВИ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20-В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С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43200" rIns="43200" tIns="0" bIns="0" anchor="ctr">
                      <a:noAutofit/>
                    </a:bodyPr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новообраз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идной, кроветворной 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8892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ственных им тка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1-С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ликулярная (нодуляр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оклеточная с расщепленны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ами  (диффузная) неходжкинск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пноклеточ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200" rIns="43200" tIns="0" bIns="0" anchor="ctr">
                      <a:noAutofit/>
                    </a:bodyPr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бластная (диффузн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marL="179280" indent="88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джкинская лимфо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8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0" rIns="4320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43200" marR="43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"/>
          <p:cNvSpPr/>
          <p:nvPr/>
        </p:nvSpPr>
        <p:spPr>
          <a:xfrm>
            <a:off x="714240" y="153360"/>
            <a:ext cx="778680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2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357120" y="1195560"/>
          <a:ext cx="8358120" cy="5600520"/>
        </p:xfrm>
        <a:graphic>
          <a:graphicData uri="http://schemas.openxmlformats.org/drawingml/2006/table">
            <a:tbl>
              <a:tblPr/>
              <a:tblGrid>
                <a:gridCol w="5840640"/>
                <a:gridCol w="502920"/>
                <a:gridCol w="1008360"/>
                <a:gridCol w="1006200"/>
              </a:tblGrid>
              <a:tr h="912960"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ны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патологоанатом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патологоанато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исследованных после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истохимические диагностические исследова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истохимические диагностические исследования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иммуногистохимические диагностические исследова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иммуногистохимические диагност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иммуногистохимические исслед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"/>
          <p:cNvSpPr/>
          <p:nvPr/>
        </p:nvSpPr>
        <p:spPr>
          <a:xfrm>
            <a:off x="428760" y="43560"/>
            <a:ext cx="87865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Форма 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9. Деятельность патологоанатомического бюро (отделения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жизненные патологоанатомические диагностические исследования операционного и биопсийного материал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(5500</a:t>
            </a:r>
            <a:r>
              <a:rPr b="1" lang="ru-RU" sz="1600" spc="-1" strike="noStrike">
                <a:solidFill>
                  <a:srgbClr val="cc0000"/>
                </a:solidFill>
                <a:latin typeface="Arial Black"/>
                <a:ea typeface="Arial"/>
              </a:rPr>
              <a:t> – НЕ ЗАПОЛНЯТЬ!!!)</a:t>
            </a:r>
            <a:r>
              <a:rPr b="0" lang="ru-RU" sz="1600" spc="-1" strike="noStrike">
                <a:solidFill>
                  <a:srgbClr val="cc0000"/>
                </a:solidFill>
                <a:latin typeface="Arial Black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cc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125360"/>
            <a:ext cx="8713800" cy="5543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9280" y="907920"/>
            <a:ext cx="8640720" cy="5761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14200" y="714240"/>
          <a:ext cx="8715600" cy="6085080"/>
        </p:xfrm>
        <a:graphic>
          <a:graphicData uri="http://schemas.openxmlformats.org/drawingml/2006/table">
            <a:tbl>
              <a:tblPr/>
              <a:tblGrid>
                <a:gridCol w="6089760"/>
                <a:gridCol w="525600"/>
                <a:gridCol w="1050840"/>
                <a:gridCol w="1049400"/>
              </a:tblGrid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генет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генетические диагнос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генет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молекулярно-биологические диагностические исследова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молекулярно-би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очие прижизненные дополнительные специальны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другие прижизненные дополнительные специальны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направлений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выполнены прижизненные цитологические диагностические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38880" rIns="3888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направлениям из поликлиник, амбула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38880" rIns="3888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которым проведены повторные прижизненные цитологические исслед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880" rIns="38880" tIns="0" bIns="0" anchor="ctr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38880" marR="38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250920" y="404640"/>
            <a:ext cx="8642160" cy="612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8000" y="333360"/>
            <a:ext cx="8280360" cy="6264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3131640" y="16020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Не заполня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212760" y="1285920"/>
            <a:ext cx="8718480" cy="38829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"/>
          <p:cNvSpPr/>
          <p:nvPr/>
        </p:nvSpPr>
        <p:spPr>
          <a:xfrm>
            <a:off x="0" y="-4680"/>
            <a:ext cx="914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Структура прижизненных патологоанатомических и цитологических диагностических исследований по категориям сложно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Arial"/>
              </a:rPr>
              <a:t>            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(5501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– НЕ ЗАПОЛНЯТЬ!!!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142920" y="5667480"/>
            <a:ext cx="9001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1197000"/>
            <a:ext cx="77770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4360" y="1197000"/>
            <a:ext cx="799128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User</cp:lastModifiedBy>
  <dcterms:modified xsi:type="dcterms:W3CDTF">2015-12-14T20:08:13Z</dcterms:modified>
  <cp:revision>50</cp:revision>
  <dc:subject/>
  <dc:title>Слайд 1</dc:title>
</cp:coreProperties>
</file>