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1F94-DECB-4D99-BFFE-7BF72DA91A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9FC4-9419-492B-B1B7-EF7D7EA635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F9E8-4753-4D07-9972-33AF96645A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1A30-109E-4EA9-AB53-3A5A3198A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BC1-DD49-4D81-A285-D887A870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21C-182A-4D5E-8A67-7D80C1A8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818-1982-447F-B2EF-391871C4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EF8-0754-4A8B-8252-87129D27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A87D-924D-42E9-B67A-622B02DC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1A76-0220-413E-99DB-091760A0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33A-7961-4BF3-A21B-1445234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FD8-33B4-4595-81F0-E93EC61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5A3A-96AF-44AD-BAAF-FA8577C1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B129-4BCB-41DB-9A3D-BE2135FC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D4BD-49FC-455F-A6F7-3192AA1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36D-D984-4866-B5A9-9C801B17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013D-DC34-494C-959E-9B3A0BE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F75E-0422-4CCD-8598-66939853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FEA9-32AF-4F4A-BD2F-56EEAA6A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9943-E22C-440E-A9B0-2C3697A5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BBDA-813A-4AF7-8561-15EB1408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DF2-783D-40EE-965F-C4049880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60F-5AFA-4FB3-B635-00E9A901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918-EC64-4223-8575-FA905E3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994-E91A-49CB-B3D4-19D50AFE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267-3579-4666-A704-2ABABA19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054F-4F53-4B04-BCFE-DD8A4EF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B27-DC10-4E2A-9B61-CFC18A1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7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28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e7f2fe"/>
              </a:gs>
              <a:gs pos="100000">
                <a:srgbClr val="a2cc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9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0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4" name="Group 31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5" name="Freeform 32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33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34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35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Freeform 3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2700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B7DD-7BFE-4960-A7F8-B27ECF8451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38" descr="doct___19"/>
          <p:cNvPicPr/>
          <p:nvPr/>
        </p:nvPicPr>
        <p:blipFill>
          <a:blip r:embed="rId2"/>
          <a:stretch/>
        </p:blipFill>
        <p:spPr>
          <a:xfrm>
            <a:off x="324000" y="476280"/>
            <a:ext cx="755640" cy="4906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9" descr="diagr_08"/>
          <p:cNvPicPr/>
          <p:nvPr/>
        </p:nvPicPr>
        <p:blipFill>
          <a:blip r:embed="rId3"/>
          <a:stretch/>
        </p:blipFill>
        <p:spPr>
          <a:xfrm>
            <a:off x="0" y="0"/>
            <a:ext cx="601560" cy="7383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37" descr="diagr_11"/>
          <p:cNvPicPr/>
          <p:nvPr/>
        </p:nvPicPr>
        <p:blipFill>
          <a:blip r:embed="rId4"/>
          <a:stretch/>
        </p:blipFill>
        <p:spPr>
          <a:xfrm>
            <a:off x="108000" y="549360"/>
            <a:ext cx="431640" cy="30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58C-7CF5-4C79-B7BD-618758BBD6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ополнительные разъяснения к инструкции по заполнению отчетной формы №61 за 2017 год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00000" y="4797000"/>
            <a:ext cx="7058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лошина Людмила Иннокент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рач статис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УЗ ККИБ обособленное подразде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Центр профилактики и борьбы со СПИД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Забайкальском кра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759-E51D-46DE-A3C3-E60588F4D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67280" y="3284640"/>
            <a:ext cx="2590920" cy="1739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оказыва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ько те пациенты с ВИЧ-инфекцией, которые были пролечены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отчетном год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а №61 </a:t>
            </a:r>
            <a:br>
              <a:rPr sz="2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Сведения о болезни, вызванной вирусом иммунодефицита человека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тв. Пр. Росстата №672 от 30.12.201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жгодовой контроль 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/20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860280"/>
            <a:ext cx="8229600" cy="25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1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2, 19 пред. года + 61, 2000, 1, 05+07+09 отч. года – 61, 2000, 1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1, 2000, 8, 04 отч. год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61, 1000, 13, 19 пред. года + 61, 2000, 8, 05+07+09 отч. года – 2000, 8, 10 отч.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884-6055-43E7-B26F-3C1AF841C7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mail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hitaids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 телефон: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1-03-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B591-660F-4EBB-BE29-54C933C04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Инструкция по составлению государственного статистического отчета №61«Сведения о болезни, вызванной вирусом иммунодефицита человека» Москва,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«Методические рекомендации по порядку статистического учета и кодирования болезни, вызванной вирусом иммунодефицита человека (ВИЧ) в статистике заболеваемости и смертности» утвержденные МЗ РФ 28.06.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Информационная система AIDS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в себя только тех лиц, которые были обследованы на антитела к ВИЧ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кущем год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их организациях, относящихся к Минздраву России (центры СП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ока 1, графа 2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 лиц, у которых при исследовании крови на антитела к ВИЧ в отчетном году, получены положительные 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ловия контроля: строка 1, графа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=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гр.3 (В20-24)+гр.4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этом допускается, что сумма гр. 2+3 может быть меньше гр.2 только на число пациентов, выявленных в течение 1-го месяца (декабрь текущего го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BF2-2408-4EC0-B144-125A55837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981000"/>
            <a:ext cx="830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и 1+2, гр.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уются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. 3100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2, гр.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ыявлено в отчетном году пациентов с ВИЧ-инфекцией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ды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»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троки 1+2, графы 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о вносятся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других ведом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5+46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свед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учр. ФС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 47+4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 и по кодам В20-В2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таб.1000, стр.1+2, гр.5-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сведений переносится 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1-4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льские жит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43-4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ца БОМЖ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р.49-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смертные случа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.51-5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остранные гражда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2627280" y="651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77A-4465-4BB4-BF8B-11D6690FB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1000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.57- 60, гр.5-1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ются и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57-5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тактные лиц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20.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ключают в себя сведения о пациентах, зарегистрирова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центрах СП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. 59-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б.3100, стр.1, гр.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олнительно нужны данные по возрас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E6D-DE59-4F00-9CDC-A210D2C95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Ф.61 таблица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Rectangl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97920" cy="583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140360" y="3573360"/>
            <a:ext cx="4572000" cy="228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-8, гр.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 стр.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10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31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.1, гр.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Стр. 9, гр. 5-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впервые выявленные пациенты) формируются из таб. 1000, стр. 57-58, гр.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линические стади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пациентов с ВИЧ-инфекцией показываются в строках 1-8 и тольк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графах 16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. 2000, гр. 4 и 10 формируются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4, стр. 1-8 = таб. 2000, гр. 10+гр.15, стр. 1-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. 2000, гр. 10 стр. 1-8 = таб. 2000, гр. 11+гр.13+гр.14 стр. 1-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5A61-01B8-4CA8-8506-3AF56B29D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5AD3-CB5F-40DA-BB04-BFD460F8D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496000" cy="5977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6000" y="3573360"/>
            <a:ext cx="2665440" cy="2014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таблице 3000 показываются только те пациенты с ВИЧ-инфекцией, которые бы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следованы в отчетно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. 61 таблица 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270036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D102-DC51-4D06-A11A-4391ACFC0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3141720"/>
            <a:ext cx="316872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строке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казывается число пациентов с ВИЧ-инфекцией с проявле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Б (коды В20.0, В 20.7, В 22.7), умерших в отчетном году от всех причин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ся коды В20-В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03:22Z</dcterms:created>
  <dc:creator>e.tsybikova</dc:creator>
  <dc:description/>
  <dc:language>en-US</dc:language>
  <cp:lastModifiedBy>Центр</cp:lastModifiedBy>
  <dcterms:modified xsi:type="dcterms:W3CDTF">2017-12-08T06:39:06Z</dcterms:modified>
  <cp:revision>186</cp:revision>
  <dc:subject/>
  <dc:title>МОДЕРНИЗАЦИЯ СИСТЕМЫ ОКАЗАНИЯ ПРОТИВОТУБЕРКУЛЕЗНОЙ ПОМОЩИ БОЛЬНЫМ ТУБЕРКУЛЕЗОМ ЛЕГКИХ В НОВЫХ ЭПИДЕМИОЛОГИЧЕСКИХ УСЛОВИЯХ</dc:title>
</cp:coreProperties>
</file>