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39A-A0F3-48F3-9677-8DD17C1E771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1D8-58B2-49E7-875E-AEFE500A0266}" type="slidenum"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98B-1947-4F34-9D3A-A5331422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666-7C10-42C1-875C-4E140A15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D33-5596-40CB-9459-217533E1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CD-31C5-4BB6-9BA5-74D3247F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534-73AD-42F7-93A5-88DB44C9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C48-43C6-42E7-BDA2-6059A21F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F02-028B-4C9C-B6AE-44A72111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B3D-4DFF-4A9C-A097-6173A2A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8FF-72D6-473B-9DA6-12756236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3A2-A880-4D6B-BDCE-3AC8B007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263-B489-4C6C-926D-6136BAF2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5D3-09DA-4092-86EA-9FBDAEB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309C-EFC5-41A1-8423-3C7914A625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ndchita.ru/" TargetMode="External"/><Relationship Id="rId3" Type="http://schemas.openxmlformats.org/officeDocument/2006/relationships/hyperlink" Target="http://www.kndchita.ru/" TargetMode="External"/><Relationship Id="rId4" Type="http://schemas.openxmlformats.org/officeDocument/2006/relationships/hyperlink" Target="http://www.kndchita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21120" y="5122800"/>
            <a:ext cx="43228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А. Бу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ститель главного вра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МР ГАУЗ «Забайкальский краевой наркологический диспанс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64960" y="1720800"/>
            <a:ext cx="852012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12800" y="1915560"/>
            <a:ext cx="78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i?id=276645700-65-72&amp;n=21"/>
          <p:cNvPicPr/>
          <p:nvPr/>
        </p:nvPicPr>
        <p:blipFill>
          <a:blip r:embed="rId2"/>
          <a:stretch/>
        </p:blipFill>
        <p:spPr>
          <a:xfrm>
            <a:off x="441360" y="264960"/>
            <a:ext cx="1119240" cy="10335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264960" y="1219320"/>
            <a:ext cx="8520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тч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 формам федерального статистического наблюд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№ </a:t>
            </a:r>
            <a:r>
              <a:rPr b="1" lang="ru-RU" sz="4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7 и №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817560"/>
            <a:ext cx="8350200" cy="62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принципы формирования т. 2100 ф. №37 с 2016 года изменены в соответствии с новым Порядком диспансерного наблюд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чиная с 2016 отчетного года в таблице 2100 ф. № 37 следует показывать только тех пациентов, которые состоят под диспансерным наблюдением у врача психиатра-нарко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ся число наркологических пациентов, которые были взяты под ДН в течение отчетного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циенты с впервые в жизни установленным диагнозом наркологического расстро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денные из других наркологических организа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овь обратившиеся с обострением  наркологического заболевания или иными причи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261-A208-4DA7-BF94-30C65932C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0"/>
            <a:ext cx="8229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т. 2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пациентах, снятых с  ДН по причи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твержденная стойкая ремис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возможность обеспечить осмотр пациента, несмотря на все принимаемые меры, в течени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ерть паци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уждение пациента к лишению свободы на срок свыше 1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менение постоянного места жительства с выездом за пределы обслуживаемо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енного отказа пациента от Д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D41-91D3-443B-AB04-FBFFB5325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851040"/>
            <a:ext cx="835020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очные алгоритмы проверки остаются без изменения по сравнению с 2015 годом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горитм межгодовой проверки по стр. 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.8 стр.11 2016 г. + гр.4 стр.11 2017 г. – гр.6 стр.11 2017 г. = гр.8 стр.11 2017 г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A68E-F12E-4396-AF30-C60FF65C7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 с пациентами, которые на конец 2015 г. находились на проф. учете с диагнозом «пагубное употребление», не были осмотрены (сняты) в течение 2016 г. и были включены в гр.8 т. 2100 2016 г.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 следующие вариа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не явился на осмотр в 2017 г., снимается с наблюдения по одной из причин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6 т. 2100 (снятые) не п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 осмотрен в 2017 г. и дал согласие на ДН. Взят под ДН, включается в гр. 4 т.2100 (впервые в данном году) и в гр.8 т. 2100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е включается в гр.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Пациент осмотрен в 2017 г., но не дал согласие на ДН.        Пациент снимается с учета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гр. 6 (снятые) не пок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3017-153E-4B23-90D5-5F69B2088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 т. 2100 ф. № 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38160"/>
            <a:ext cx="83502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а межформенная проверка т.2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№ 11 и т.2100 ф.№ 3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ациентов с впервые в жизни установленным диагнозом наркологического расстройства в т. 2000 ф. №11 по соответствуюшим диагностическим группам больше (на малых цифрах может быть равенство) числа пациентов, взятых под ДН (гр. 5 т. 2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№ 37)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A535-1007-41F9-9AED-8C8C0A6E9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5720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менение ранее действующих алгоритмов проверок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8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47440"/>
            <a:ext cx="8350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и движение пациентов, находящихся под ДН в стр. 6.1. ф. № 12, должно полностью соответствовать движению в таблице 2100 ф. № 37 !!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FA8B-E81F-41FB-8D85-8F77F42F4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719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57200" y="361800"/>
            <a:ext cx="8229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0"/>
            <a:ext cx="82296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оказывать пациен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оящих под ДН в ф. № 12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Контакты:</a:t>
            </a:r>
            <a:r>
              <a:rPr b="1" lang="ru-RU" sz="4800" spc="-1" strike="noStrike">
                <a:solidFill>
                  <a:srgbClr val="b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: OMR-KND@yande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. 23-96-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0" y="2619360"/>
            <a:ext cx="914400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800" spc="-1" strike="noStrike">
                <a:solidFill>
                  <a:srgbClr val="bf0000"/>
                </a:solidFill>
                <a:latin typeface="Arial"/>
              </a:rPr>
              <a:t>Официальный сайт</a:t>
            </a:r>
            <a:br>
              <a:rPr sz="4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АУЗ «Забайкальский краевой наркологический диспансер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nd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ta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528480" y="961920"/>
            <a:ext cx="799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bf0000"/>
                </a:solidFill>
                <a:latin typeface="Times New Roman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olnica"/>
          <p:cNvPicPr/>
          <p:nvPr/>
        </p:nvPicPr>
        <p:blipFill>
          <a:blip r:embed="rId2"/>
          <a:stretch/>
        </p:blipFill>
        <p:spPr>
          <a:xfrm>
            <a:off x="2759040" y="3930480"/>
            <a:ext cx="357516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176040" y="144360"/>
            <a:ext cx="82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лагодарим!</a:t>
            </a: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39840" y="1771560"/>
            <a:ext cx="84834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ие организации здравоохранения, подведомственные Министерству здравоохранения Забайкальского края, отчеты которых в наибольшей степени удовлетворили требованиям составления ф.№ 11 и № 37 за 2016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г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Чит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Александрово-Завод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га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Калар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АУЗ «Краевая больница № 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Забайкаль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УЗ «Оловяннинская ЦРБ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2440" y="176040"/>
            <a:ext cx="85010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шибки! Ошиб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Wingdings"/>
                <a:ea typeface="Wingdings"/>
              </a:rPr>
              <a:t>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2100 «Контингенты пациентов, находящихся под наблюдением психиатра-нарколога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200 «Деятельность врачей, осуществляющих амбулаторную помощь пациентам наркологического проф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70 «Контингенты пациентов, проходивших обязательное или альтернативное амбулаторное леч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500 «Наркологическое освидетельствование» (разница с формой № 30, табл. 25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о стат. форме №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Таблица 4000 «Обследование зарегистрированных пациентов на наличие гемоконтактных инфекц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5920" y="2332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ктуальные формы ФСН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овый Порядок диспансерного наблюдения пациентов наркологического профи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ФСН утверждены приказом Росс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№ 410 от 16.10.2013 г. (формы № 11 и № 37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2016 году формы были адаптированны с учетом Приказа Минздрава России № 1034 от 13 декабря 2015 года, регламентирующего Порядок оказания медицинской помощи по профилю «психиатрия-наркология» и Порядок диспансерного наблюдения за лицами с психическими расстройствами и (или) расстройствами поведения, связанными с употреблением психо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A63D-5EAF-4DD3-811C-CA6F3E576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24000"/>
            <a:ext cx="807552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нимание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5920" y="1042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ряд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ного наблюдения за л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сихическими расстройствами и (или) расстройствами поведения, связанными с употреблением психоактивных веществ, утвержденный Приказом № 1034 Минздрава России от 13 декабря 2015 го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ил </a:t>
            </a:r>
            <a:r>
              <a:rPr b="0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цепц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блюдения за пациентами с наркологическими расстр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ятия «профилактическое наблюдение», «профилактический учет», «профилактическая группа» в новом Порядке отсутствую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как для пациентов с диагнозом «Синдром зависимости» (код заболевания по МКБ-106 – F1x.2), так и для пациентов с другими наркологическими расстройствами, включая  группу пациентов с диагнозом  «пагубное употребление ПАВ» (код заболевания по МКБ-10 – F1x.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ансерное наблюдение организуется только при наличии добровольного информированного согласия пациента в письм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лись сроки  прекращения диспансерного наблю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5275-D754-410E-A2CD-0A6B01026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11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заболеваниях наркологическими расстройства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4014360"/>
            <a:ext cx="8229600" cy="21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1 имеет в своем составе 3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4D38-061C-474E-B834-930BF905A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составлению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45720"/>
            <a:ext cx="82296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осуществляется при первом в данном году обращении пациента за наркологической помощью (ф.№ 030-1/у-02, ф. № 025-1/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000 сведения показываются обо всех пациентах наркологического профиля, которым в течение отчетного года была оказана амбулаторная лечебная, консультативно-лечебная, реабилитационная помощ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енности регист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пациент в течение  отчетного года может быть зарегистрирован только с одним наркологическим заболеванием и только один раз показан в ф. № 11 (по заключительному диагноз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EA86-D9BA-4677-9AD0-4F31610B0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7360" y="2329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бследование зарегистрированных </a:t>
            </a:r>
            <a:br>
              <a:rPr sz="2800"/>
            </a:b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ациентов на наличие гемоконтактных инфекций (т. 4000 ф. № 11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5276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ациенты, обратившиеся в течении года за амбулаторной наркологической помощью, должны быть обследованы на ВИЧ, гепатит С и гепатит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Ч-позитивные пациенты, находящиеся под диспансерным наблюдением в наркологическом учреждении, но по каким – либо причинам не были обследованы в отчетном году,  также должны быть показаны в т. 4000 ф. №11 как ВИЧ-позитив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643800" y="61437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62F-631E-4DD3-86BA-E6AFA570C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Форма № 37</a:t>
            </a:r>
            <a:br>
              <a:rPr sz="3600"/>
            </a:b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«Сведения о пациентах, больных алкоголизмом, наркоманиями, токсикоманиями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2512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37 (20 табли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1F9D-A452-4C94-AA5F-C6CB410B0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Admin</cp:lastModifiedBy>
  <dcterms:modified xsi:type="dcterms:W3CDTF">2017-12-12T02:42:05Z</dcterms:modified>
  <cp:revision>194</cp:revision>
  <dc:subject/>
  <dc:title>PowerPoint Template</dc:title>
</cp:coreProperties>
</file>